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53C36E-057B-4C8A-A4B0-DF67CBA5EF7C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Rechnen Sie für diesen Vortrag ca. 20 – 30 Minuten + ca. 10 Min. Diskussionsze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Ihr Vortrag wird sehr viel lebendiger, wenn Sie Anschauungsmaterial mitbringen und seine Anwendung demonstriere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Meldeform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Noro-wirksames Hände- und Flächendesinfektionsmit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Schutzhandschuhe, Schutzschürze, Schutzkitte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Mund-Nas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Behältnis zur Entsorgung von kontaminierten Abfä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Eimer und Lap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Matratz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3FAF-63CA-46A2-B5BC-9B5879CB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F7FB-6993-4485-92E8-C454C591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ED25-02FB-4770-A3A6-0A875E13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E51-9754-4051-810B-E3C15309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56F-3DE2-4966-9474-0C015B51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2DF-1229-401D-BCD0-FF01DF29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102-D9E1-425B-947A-B0B206D1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F1D-21E4-44A4-9CDB-5AFE3845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7CBE-827A-474E-B6F3-87529C64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181-7196-47A2-9B79-E35F5C99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81D3-A06F-46A6-A2CE-8205A50A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A471-FF17-490A-8B79-8EE2F1F5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7140-F988-4B59-ABF5-3B14C540F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9720" y="1112760"/>
            <a:ext cx="633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arnwegsinfektion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46520" y="2595600"/>
            <a:ext cx="6913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legen transurethraler Kath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Ableitungs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312920"/>
            <a:ext cx="85075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KI-Empfeh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fehlungen zur Prävention und Kontrolle Katheter-assoziierter Harnwegsinfektion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on in Heim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itlinie des Arbeitskreises „Krankenhaus- und Praxishygiene“ beim AW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Harndrainag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utsches Ärzteblatt Heft 4 /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drainage der Harnblase heut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Öffentlich zugängliche Durchführungsstandards zur Kathete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90792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urin ist stets als kontaminiert anzusehen. Jede Manipulation an der Harnröhrenöffnung, dem Katheter oder dem Ableitungssystem birgt die Gefahr einer Keimübertragung. Da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gienische Händedesinfe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dem Einlegen von Kathe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Manipulationen am Katheter, Ableitungssystem oder Genit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jedem Kontakt mit Urin oder potentiell kontaminierten Gegenstä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dem Gebrauch von Schutzhandschu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handsch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möglichem Kontakt mit Urin, Genitale, Katheter und Ableitungssystem (Intimpflege, Entleeren des Beutels, Entfernen des Katheters, Urinentnahm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rile Handsch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allen aseptisch durchzuführenden Maßnahmen (Einlegen oder Wechseln des Katheters, Verband an Insertionsstell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kittel bei Vorhandensein multiresistenter Erre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usw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847800"/>
            <a:ext cx="426708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messer gemäß Harnröhrenöffnung (Arz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texkatheter bei Verweildauer &lt; 5 Tage und Ausschluss von Latexallerg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likonkatheter bei Verweildauer &gt; 5 Tage oder bei bestehender Latexaller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ve Wirkung von beschichteten Kathetern ist nicht ausreichend beleg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eit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r sterile, geschlossene Syste-me verwenden; bei Stundenurin mit Messvorricht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mobilen Pat. Beinbeutel bzw. Tag- und Nachtbeutel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immobilen Bettbeut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Beinbeutel Anschlussbeutel und Fixierung notwend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2781360"/>
          <a:ext cx="41338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81360"/>
                    <a:ext cx="41338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50920" y="1773360"/>
          <a:ext cx="4105080" cy="56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773360"/>
                    <a:ext cx="41050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52000" y="177336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2000" y="278136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" y="6324480"/>
            <a:ext cx="25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 © Fa. Asid Bonz   ** © Fa. Rü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50920" y="3878280"/>
            <a:ext cx="1904760" cy="154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2195640" y="3733920"/>
            <a:ext cx="2303280" cy="1806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2000" y="389088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12360" y="3878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terialien zum Legen transurethraler 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312920"/>
            <a:ext cx="46479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terialien zur Kathete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atientenunterlage (Bettschut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ntiseptik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bwurfbeu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Katheter / Ableit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2 Paar sterile Handschu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Sterile Unterlage (für sterile Flä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Abdecktuch (Sicherung der Asep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4 – 6 Rolltupfer (Dekontamin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Gleitmittel (z.B. Tube mit Aufsat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1 Spritze mit Blockiermittel (steriles Wasser-Glycerin-Gemis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10 ml-Spritze zur Entblockung (bei Wechs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Plastiksch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Pinze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29200" y="1828800"/>
            <a:ext cx="1429560" cy="914400"/>
            <a:chOff x="5029200" y="1828800"/>
            <a:chExt cx="1429560" cy="914400"/>
          </a:xfrm>
        </p:grpSpPr>
        <p:sp>
          <p:nvSpPr>
            <p:cNvPr id="234" name=""/>
            <p:cNvSpPr/>
            <p:nvPr/>
          </p:nvSpPr>
          <p:spPr>
            <a:xfrm>
              <a:off x="5029200" y="1828800"/>
              <a:ext cx="304920" cy="914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56520" y="217980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unste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2743200"/>
            <a:ext cx="1151280" cy="3733920"/>
            <a:chOff x="5029200" y="2743200"/>
            <a:chExt cx="1151280" cy="3733920"/>
          </a:xfrm>
        </p:grpSpPr>
        <p:sp>
          <p:nvSpPr>
            <p:cNvPr id="237" name=""/>
            <p:cNvSpPr/>
            <p:nvPr/>
          </p:nvSpPr>
          <p:spPr>
            <a:xfrm>
              <a:off x="5029200" y="2743200"/>
              <a:ext cx="304920" cy="37339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97200 h 3733920"/>
                <a:gd name="textAreaBottom" fmla="*/ 3636720 h 373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61920" y="439092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0029"/>
                  </a:solidFill>
                  <a:latin typeface="Arial"/>
                </a:rPr>
                <a:t>ste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510160" y="2743200"/>
            <a:ext cx="363996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ts bieten Handhab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, jedo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600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Zusamm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600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rechnungsprobl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gen transurethraler Langzeit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312920"/>
            <a:ext cx="35053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önliche Vorber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bereitung des Pati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bereitung des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eckung des Gen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kontamination des Gen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kation des Gleitmitt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legen des Kath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llen des Blockierungsball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hs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1459080"/>
            <a:ext cx="4495680" cy="28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Durchführung sollte möglich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zweit erfol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sistenz reicht Materialien a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betreut Patien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führender hat weniger Problem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der Wahrung der Asep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sere Abfolge der Durch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abdingbar bei unkooperativ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ersonen (z.B. Demenz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gang mit transurethralen Langzeitkathe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963720"/>
            <a:ext cx="842472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Inspektion der Harn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kale Entzündung des Meatus, Hautveränderungen, Sekretbildu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enheit des Katheters, Verkrust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rrekte Position des Auffangbeutels, Abknick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Stuhlinkontinenz vorher Intimpflege. Danach Händedesinfektion, neue Schutzhandschuhe, neuer Lapp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uge der Ganzwaschung, des Duschens etc. Reinigung des Katheters distal des Meatus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krustrationen möglichst mit Wasser und Waschlotion vorsichtig ablösen. Wasserstoffperoxid 3% besser meiden, kann schmerzhaft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lassene Feuchtigkeit oder Salbenrückstände in Meatusnähe vermeiden, da Mazerationsgefah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chsel von transurethralen Langzeitkathe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963720"/>
            <a:ext cx="842472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von transurethralen Kathetern möglichst nur auf Veranlassung (Materialschäden, Obstruktion etc.) unter gleichen Bedingungen wie beim Einle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 jedem Wechsel die Notwendigkeit der Beibehaltung der Harndrainage kritisch hinterfra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problemlose Verweildauer von 2 – 4 Wochen kann erwartet werd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Katheterwechsel sollte nicht obligat mit einer Steigerung des Katheterdurchmessers einherge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prapubische 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1052640"/>
            <a:ext cx="835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rgfältige Abwägung: Suprapubische Drainage vs. Inkontinenzsystem oder Kondomkath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gang des Einlegens (aseptisch durchzuführender ärztlicher Eingrif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 wird mittels einer Hohlnadel durch die Bauchdecke in die gefüllte Harnblase eingefüh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rausrutschen wird durch spezielle Konstruktion des Katheters verhind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eitung des Urins wie bei transurethralen Kathe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108108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Inspektion der Insertionsstelle und des Drainagesys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stichstelle gerötet, geschwollen, blutend, sekretieren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enheit des Katheters, Abknickungen, Verkrust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sition des Auffangbeutels, Abknickungen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eptisch durchgeführter Verbandwechsel ärztlicherseits oder durch ausgebildetes Personal in den ersten 2 – 4 Tagen. Danach normalerweise kein Verband notwendi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nur bei Störungen (ca. 2 Monate Liegezei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uge der Ganzwaschung, des Duschens etc. Reinigung des Katheters distal der Isertionsstelle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zip geschlossener Ableitungs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98100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 Diskonnektionen als Hauptursache für exogene Übertragungen gelten sollen nur geschlossene Systeme verwende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rkm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Rücklaufsperre (F) verhindert ein Zurücklaufen des Uri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Ablassschlauch (H) erlaubt die Entleerung ohne Diskonnek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Entnahmestelle (B) erlaubt die Urinentnahme ohne Diskonnek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Idealfall bleibt der Katheter mit dem Ableitsystem so lange fest verbunden, bis der Katheter entfernt oder gewechselt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s Diskonnektion unvermeidlich: vor und nach dem Zusammenstecken desinfizie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5924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kationen zur Harn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240" y="1133640"/>
          <a:ext cx="8869320" cy="53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1133640"/>
                    <a:ext cx="886932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gang mit geschlossenen Ableitungssyst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98100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tauter bakterienhaltiger Urin wirkt infektionsfördernd. Daher soll bei liegendem Katheter Harnstau vermieden wer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fangbeutel stets unter Blaseniveau ohne Bodenkontakt, Rückfluss von Urin vermei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Abknickungen, kein Blasentrai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utel entleeren, bevor Harn mit Rückflusssperre (F) in Kontakt komm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m Entleeren des Beut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malhandschuhe und  Spritzschutz (z.B. Zeitungsblatt) verwe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assschlauch (H) vor Zurückstecken abtropfen lassen und desinfizie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5924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solete Maßnah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1268280"/>
            <a:ext cx="8424720" cy="36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emäßige, „prophylaktische“ Instillationen und Spü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lasentraining“ (zeitweises Abklemmen des Kathe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blockung mit Luft, Kochsalzlösung oder Trinkwas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inuntersuchungen, Keimzahl- und Keimbestimmungen ohne Indik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ibiose bei Kolonis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emäßiger Gebrauch antiseptischer Substanzen im Rahmen der „Katheterpfleg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des Katheters oder des Ableitungssystems nach festen Interva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HWI-Prävention“ (QZ 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- und Nachteile von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816120"/>
          <a:ext cx="8785440" cy="58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16120"/>
                    <a:ext cx="878544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gefahr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952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sokomiale Infektion = durch medizinische Maßnahme bedingte Infek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den häufigsten noskomialen Infektionen zählen die nosokomialen Harnwegsinfektionen (HW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ursache der nosokomialen HWI ist die Harndrainage, speziell die transurethrale Langzeitkatheterisier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nerhalb von ca. 14 Tagen kommt es bei einer transurethralen Langzeitdrainage zur Bakteriur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 dem Boden der Bakteriurie können sich verschiedene Harnwegsinfektionen entwickel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Risiko wird maßgeblich bestimmt d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positionen des Patiente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handene Keimpotential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tragungsmöglichkei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gefahr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9640" y="1123920"/>
            <a:ext cx="3816360" cy="5184360"/>
            <a:chOff x="539640" y="1123920"/>
            <a:chExt cx="3816360" cy="5184360"/>
          </a:xfrm>
        </p:grpSpPr>
        <p:sp>
          <p:nvSpPr>
            <p:cNvPr id="66" name=""/>
            <p:cNvSpPr/>
            <p:nvPr/>
          </p:nvSpPr>
          <p:spPr>
            <a:xfrm>
              <a:off x="812880" y="113148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79880" y="284292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89440" y="295884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432800">
              <a:off x="1517400" y="164736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97200" y="112392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14760" y="210960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0524800">
              <a:off x="1708200" y="348084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81360" y="348588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3040" y="414000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81480" y="192204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01880" y="350640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06720" y="228744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539640" y="1861920"/>
              <a:ext cx="2198520" cy="4299840"/>
              <a:chOff x="539640" y="1861920"/>
              <a:chExt cx="2198520" cy="4299840"/>
            </a:xfrm>
          </p:grpSpPr>
          <p:sp>
            <p:nvSpPr>
              <p:cNvPr id="79" name=""/>
              <p:cNvSpPr/>
              <p:nvPr/>
            </p:nvSpPr>
            <p:spPr>
              <a:xfrm>
                <a:off x="793800" y="244404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9792200">
                <a:off x="2217600" y="212796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28680" y="186192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0493600">
                <a:off x="2185920" y="191196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14320" y="592704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66880" y="599220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68440" y="533016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9640" y="585396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076480" y="248256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22400" y="1585800"/>
            <a:ext cx="5763960" cy="2795400"/>
            <a:chOff x="1022400" y="1585800"/>
            <a:chExt cx="5763960" cy="2795400"/>
          </a:xfrm>
        </p:grpSpPr>
        <p:sp>
          <p:nvSpPr>
            <p:cNvPr id="89" name=""/>
            <p:cNvSpPr/>
            <p:nvPr/>
          </p:nvSpPr>
          <p:spPr>
            <a:xfrm>
              <a:off x="5002560" y="2036520"/>
              <a:ext cx="178380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Untere H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Urethr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Zyst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1022400" y="1585800"/>
              <a:ext cx="1819080" cy="2795400"/>
              <a:chOff x="1022400" y="1585800"/>
              <a:chExt cx="1819080" cy="2795400"/>
            </a:xfrm>
          </p:grpSpPr>
          <p:sp>
            <p:nvSpPr>
              <p:cNvPr id="91" name=""/>
              <p:cNvSpPr/>
              <p:nvPr/>
            </p:nvSpPr>
            <p:spPr>
              <a:xfrm>
                <a:off x="1022400" y="2492280"/>
                <a:ext cx="1577880" cy="1863720"/>
              </a:xfrm>
              <a:custGeom>
                <a:avLst/>
                <a:gdLst/>
                <a:ahLst/>
                <a:rect l="l" t="t" r="r" b="b"/>
                <a:pathLst>
                  <a:path w="994" h="1174">
                    <a:moveTo>
                      <a:pt x="921" y="0"/>
                    </a:moveTo>
                    <a:cubicBezTo>
                      <a:pt x="947" y="54"/>
                      <a:pt x="974" y="108"/>
                      <a:pt x="984" y="158"/>
                    </a:cubicBezTo>
                    <a:cubicBezTo>
                      <a:pt x="994" y="208"/>
                      <a:pt x="991" y="267"/>
                      <a:pt x="984" y="302"/>
                    </a:cubicBezTo>
                    <a:cubicBezTo>
                      <a:pt x="977" y="337"/>
                      <a:pt x="966" y="356"/>
                      <a:pt x="944" y="370"/>
                    </a:cubicBezTo>
                    <a:cubicBezTo>
                      <a:pt x="922" y="384"/>
                      <a:pt x="894" y="385"/>
                      <a:pt x="853" y="384"/>
                    </a:cubicBezTo>
                    <a:cubicBezTo>
                      <a:pt x="812" y="383"/>
                      <a:pt x="748" y="376"/>
                      <a:pt x="696" y="362"/>
                    </a:cubicBezTo>
                    <a:cubicBezTo>
                      <a:pt x="644" y="348"/>
                      <a:pt x="584" y="316"/>
                      <a:pt x="540" y="298"/>
                    </a:cubicBezTo>
                    <a:cubicBezTo>
                      <a:pt x="496" y="280"/>
                      <a:pt x="471" y="263"/>
                      <a:pt x="432" y="254"/>
                    </a:cubicBezTo>
                    <a:cubicBezTo>
                      <a:pt x="393" y="245"/>
                      <a:pt x="339" y="245"/>
                      <a:pt x="308" y="246"/>
                    </a:cubicBezTo>
                    <a:cubicBezTo>
                      <a:pt x="277" y="247"/>
                      <a:pt x="265" y="251"/>
                      <a:pt x="244" y="258"/>
                    </a:cubicBezTo>
                    <a:cubicBezTo>
                      <a:pt x="223" y="265"/>
                      <a:pt x="202" y="270"/>
                      <a:pt x="181" y="291"/>
                    </a:cubicBezTo>
                    <a:cubicBezTo>
                      <a:pt x="160" y="312"/>
                      <a:pt x="129" y="358"/>
                      <a:pt x="116" y="386"/>
                    </a:cubicBezTo>
                    <a:cubicBezTo>
                      <a:pt x="103" y="414"/>
                      <a:pt x="102" y="424"/>
                      <a:pt x="100" y="462"/>
                    </a:cubicBezTo>
                    <a:cubicBezTo>
                      <a:pt x="98" y="500"/>
                      <a:pt x="105" y="559"/>
                      <a:pt x="104" y="614"/>
                    </a:cubicBezTo>
                    <a:cubicBezTo>
                      <a:pt x="103" y="669"/>
                      <a:pt x="113" y="697"/>
                      <a:pt x="96" y="790"/>
                    </a:cubicBezTo>
                    <a:cubicBezTo>
                      <a:pt x="79" y="883"/>
                      <a:pt x="39" y="1028"/>
                      <a:pt x="0" y="1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36520" y="2492280"/>
                <a:ext cx="1598760" cy="1888920"/>
              </a:xfrm>
              <a:custGeom>
                <a:avLst/>
                <a:gdLst/>
                <a:ahLst/>
                <a:rect l="l" t="t" r="r" b="b"/>
                <a:pathLst>
                  <a:path w="1007" h="1190">
                    <a:moveTo>
                      <a:pt x="939" y="0"/>
                    </a:moveTo>
                    <a:cubicBezTo>
                      <a:pt x="957" y="55"/>
                      <a:pt x="974" y="110"/>
                      <a:pt x="984" y="158"/>
                    </a:cubicBezTo>
                    <a:cubicBezTo>
                      <a:pt x="994" y="206"/>
                      <a:pt x="1007" y="246"/>
                      <a:pt x="1000" y="288"/>
                    </a:cubicBezTo>
                    <a:cubicBezTo>
                      <a:pt x="993" y="330"/>
                      <a:pt x="976" y="382"/>
                      <a:pt x="944" y="410"/>
                    </a:cubicBezTo>
                    <a:cubicBezTo>
                      <a:pt x="912" y="438"/>
                      <a:pt x="853" y="448"/>
                      <a:pt x="808" y="453"/>
                    </a:cubicBezTo>
                    <a:cubicBezTo>
                      <a:pt x="763" y="458"/>
                      <a:pt x="726" y="454"/>
                      <a:pt x="672" y="442"/>
                    </a:cubicBezTo>
                    <a:cubicBezTo>
                      <a:pt x="618" y="430"/>
                      <a:pt x="546" y="404"/>
                      <a:pt x="484" y="382"/>
                    </a:cubicBezTo>
                    <a:cubicBezTo>
                      <a:pt x="422" y="360"/>
                      <a:pt x="347" y="321"/>
                      <a:pt x="300" y="310"/>
                    </a:cubicBezTo>
                    <a:cubicBezTo>
                      <a:pt x="253" y="299"/>
                      <a:pt x="229" y="305"/>
                      <a:pt x="200" y="314"/>
                    </a:cubicBezTo>
                    <a:cubicBezTo>
                      <a:pt x="171" y="323"/>
                      <a:pt x="144" y="343"/>
                      <a:pt x="128" y="362"/>
                    </a:cubicBezTo>
                    <a:cubicBezTo>
                      <a:pt x="112" y="381"/>
                      <a:pt x="109" y="397"/>
                      <a:pt x="104" y="426"/>
                    </a:cubicBezTo>
                    <a:cubicBezTo>
                      <a:pt x="99" y="455"/>
                      <a:pt x="101" y="485"/>
                      <a:pt x="100" y="534"/>
                    </a:cubicBezTo>
                    <a:cubicBezTo>
                      <a:pt x="99" y="583"/>
                      <a:pt x="99" y="663"/>
                      <a:pt x="96" y="718"/>
                    </a:cubicBezTo>
                    <a:cubicBezTo>
                      <a:pt x="93" y="773"/>
                      <a:pt x="96" y="787"/>
                      <a:pt x="80" y="866"/>
                    </a:cubicBezTo>
                    <a:cubicBezTo>
                      <a:pt x="64" y="945"/>
                      <a:pt x="32" y="1067"/>
                      <a:pt x="0" y="119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4760" y="1585800"/>
                <a:ext cx="1296720" cy="947520"/>
              </a:xfrm>
              <a:custGeom>
                <a:avLst/>
                <a:gdLst/>
                <a:ahLst/>
                <a:rect l="l" t="t" r="r" b="b"/>
                <a:pathLst>
                  <a:path w="817" h="597">
                    <a:moveTo>
                      <a:pt x="587" y="585"/>
                    </a:moveTo>
                    <a:cubicBezTo>
                      <a:pt x="556" y="586"/>
                      <a:pt x="473" y="597"/>
                      <a:pt x="403" y="577"/>
                    </a:cubicBezTo>
                    <a:cubicBezTo>
                      <a:pt x="333" y="557"/>
                      <a:pt x="230" y="512"/>
                      <a:pt x="167" y="465"/>
                    </a:cubicBezTo>
                    <a:cubicBezTo>
                      <a:pt x="104" y="418"/>
                      <a:pt x="54" y="343"/>
                      <a:pt x="27" y="293"/>
                    </a:cubicBezTo>
                    <a:cubicBezTo>
                      <a:pt x="0" y="243"/>
                      <a:pt x="1" y="204"/>
                      <a:pt x="7" y="165"/>
                    </a:cubicBezTo>
                    <a:cubicBezTo>
                      <a:pt x="13" y="126"/>
                      <a:pt x="26" y="84"/>
                      <a:pt x="63" y="57"/>
                    </a:cubicBezTo>
                    <a:cubicBezTo>
                      <a:pt x="100" y="30"/>
                      <a:pt x="166" y="10"/>
                      <a:pt x="227" y="5"/>
                    </a:cubicBezTo>
                    <a:cubicBezTo>
                      <a:pt x="288" y="0"/>
                      <a:pt x="362" y="8"/>
                      <a:pt x="431" y="29"/>
                    </a:cubicBezTo>
                    <a:cubicBezTo>
                      <a:pt x="500" y="50"/>
                      <a:pt x="585" y="90"/>
                      <a:pt x="643" y="133"/>
                    </a:cubicBezTo>
                    <a:cubicBezTo>
                      <a:pt x="701" y="176"/>
                      <a:pt x="752" y="237"/>
                      <a:pt x="779" y="289"/>
                    </a:cubicBezTo>
                    <a:cubicBezTo>
                      <a:pt x="806" y="341"/>
                      <a:pt x="817" y="398"/>
                      <a:pt x="803" y="445"/>
                    </a:cubicBezTo>
                    <a:cubicBezTo>
                      <a:pt x="789" y="492"/>
                      <a:pt x="742" y="532"/>
                      <a:pt x="695" y="57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1901880" y="2266920"/>
            <a:ext cx="6368400" cy="3254400"/>
            <a:chOff x="1901880" y="2266920"/>
            <a:chExt cx="6368400" cy="3254400"/>
          </a:xfrm>
        </p:grpSpPr>
        <p:sp>
          <p:nvSpPr>
            <p:cNvPr id="95" name=""/>
            <p:cNvSpPr/>
            <p:nvPr/>
          </p:nvSpPr>
          <p:spPr>
            <a:xfrm>
              <a:off x="4999320" y="4268880"/>
              <a:ext cx="327096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fektionen benachbar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ruktu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Epididym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Prostat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01880" y="2266920"/>
              <a:ext cx="1068480" cy="2078280"/>
              <a:chOff x="1901880" y="2266920"/>
              <a:chExt cx="1068480" cy="2078280"/>
            </a:xfrm>
          </p:grpSpPr>
          <p:sp>
            <p:nvSpPr>
              <p:cNvPr id="97" name=""/>
              <p:cNvSpPr/>
              <p:nvPr/>
            </p:nvSpPr>
            <p:spPr>
              <a:xfrm>
                <a:off x="2101680" y="2460600"/>
                <a:ext cx="511200" cy="538200"/>
              </a:xfrm>
              <a:custGeom>
                <a:avLst/>
                <a:gdLst/>
                <a:ahLst/>
                <a:rect l="l" t="t" r="r" b="b"/>
                <a:pathLst>
                  <a:path w="322" h="339">
                    <a:moveTo>
                      <a:pt x="14" y="20"/>
                    </a:moveTo>
                    <a:cubicBezTo>
                      <a:pt x="28" y="0"/>
                      <a:pt x="93" y="35"/>
                      <a:pt x="131" y="38"/>
                    </a:cubicBezTo>
                    <a:cubicBezTo>
                      <a:pt x="169" y="41"/>
                      <a:pt x="200" y="23"/>
                      <a:pt x="242" y="41"/>
                    </a:cubicBezTo>
                    <a:cubicBezTo>
                      <a:pt x="277" y="53"/>
                      <a:pt x="289" y="133"/>
                      <a:pt x="299" y="179"/>
                    </a:cubicBezTo>
                    <a:cubicBezTo>
                      <a:pt x="309" y="225"/>
                      <a:pt x="322" y="301"/>
                      <a:pt x="302" y="320"/>
                    </a:cubicBezTo>
                    <a:cubicBezTo>
                      <a:pt x="282" y="339"/>
                      <a:pt x="214" y="309"/>
                      <a:pt x="179" y="296"/>
                    </a:cubicBezTo>
                    <a:cubicBezTo>
                      <a:pt x="144" y="283"/>
                      <a:pt x="114" y="261"/>
                      <a:pt x="92" y="239"/>
                    </a:cubicBezTo>
                    <a:cubicBezTo>
                      <a:pt x="70" y="217"/>
                      <a:pt x="58" y="196"/>
                      <a:pt x="44" y="161"/>
                    </a:cubicBezTo>
                    <a:cubicBezTo>
                      <a:pt x="30" y="126"/>
                      <a:pt x="0" y="40"/>
                      <a:pt x="14" y="2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89120" y="2266920"/>
                <a:ext cx="335160" cy="696960"/>
              </a:xfrm>
              <a:custGeom>
                <a:avLst/>
                <a:gdLst/>
                <a:ahLst/>
                <a:rect l="l" t="t" r="r" b="b"/>
                <a:pathLst>
                  <a:path w="211" h="439">
                    <a:moveTo>
                      <a:pt x="160" y="6"/>
                    </a:moveTo>
                    <a:cubicBezTo>
                      <a:pt x="141" y="0"/>
                      <a:pt x="111" y="79"/>
                      <a:pt x="88" y="103"/>
                    </a:cubicBezTo>
                    <a:cubicBezTo>
                      <a:pt x="65" y="127"/>
                      <a:pt x="34" y="136"/>
                      <a:pt x="22" y="148"/>
                    </a:cubicBezTo>
                    <a:cubicBezTo>
                      <a:pt x="0" y="176"/>
                      <a:pt x="69" y="276"/>
                      <a:pt x="79" y="322"/>
                    </a:cubicBezTo>
                    <a:cubicBezTo>
                      <a:pt x="89" y="368"/>
                      <a:pt x="70" y="415"/>
                      <a:pt x="79" y="427"/>
                    </a:cubicBezTo>
                    <a:cubicBezTo>
                      <a:pt x="88" y="439"/>
                      <a:pt x="116" y="419"/>
                      <a:pt x="136" y="397"/>
                    </a:cubicBezTo>
                    <a:cubicBezTo>
                      <a:pt x="156" y="375"/>
                      <a:pt x="188" y="338"/>
                      <a:pt x="199" y="295"/>
                    </a:cubicBezTo>
                    <a:cubicBezTo>
                      <a:pt x="210" y="252"/>
                      <a:pt x="211" y="185"/>
                      <a:pt x="205" y="139"/>
                    </a:cubicBezTo>
                    <a:cubicBezTo>
                      <a:pt x="199" y="93"/>
                      <a:pt x="179" y="12"/>
                      <a:pt x="160" y="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81160" y="2492640"/>
                <a:ext cx="889200" cy="1806480"/>
              </a:xfrm>
              <a:custGeom>
                <a:avLst/>
                <a:gdLst/>
                <a:ahLst/>
                <a:rect l="l" t="t" r="r" b="b"/>
                <a:pathLst>
                  <a:path w="560" h="1138">
                    <a:moveTo>
                      <a:pt x="364" y="66"/>
                    </a:moveTo>
                    <a:cubicBezTo>
                      <a:pt x="374" y="55"/>
                      <a:pt x="409" y="25"/>
                      <a:pt x="436" y="17"/>
                    </a:cubicBezTo>
                    <a:cubicBezTo>
                      <a:pt x="462" y="8"/>
                      <a:pt x="503" y="0"/>
                      <a:pt x="523" y="9"/>
                    </a:cubicBezTo>
                    <a:cubicBezTo>
                      <a:pt x="544" y="18"/>
                      <a:pt x="555" y="27"/>
                      <a:pt x="557" y="70"/>
                    </a:cubicBezTo>
                    <a:cubicBezTo>
                      <a:pt x="560" y="113"/>
                      <a:pt x="560" y="206"/>
                      <a:pt x="538" y="272"/>
                    </a:cubicBezTo>
                    <a:cubicBezTo>
                      <a:pt x="517" y="338"/>
                      <a:pt x="478" y="419"/>
                      <a:pt x="428" y="470"/>
                    </a:cubicBezTo>
                    <a:cubicBezTo>
                      <a:pt x="379" y="521"/>
                      <a:pt x="299" y="561"/>
                      <a:pt x="242" y="577"/>
                    </a:cubicBezTo>
                    <a:cubicBezTo>
                      <a:pt x="185" y="594"/>
                      <a:pt x="122" y="567"/>
                      <a:pt x="86" y="569"/>
                    </a:cubicBezTo>
                    <a:cubicBezTo>
                      <a:pt x="51" y="572"/>
                      <a:pt x="38" y="581"/>
                      <a:pt x="29" y="592"/>
                    </a:cubicBezTo>
                    <a:cubicBezTo>
                      <a:pt x="20" y="604"/>
                      <a:pt x="16" y="613"/>
                      <a:pt x="29" y="642"/>
                    </a:cubicBezTo>
                    <a:cubicBezTo>
                      <a:pt x="42" y="671"/>
                      <a:pt x="82" y="732"/>
                      <a:pt x="101" y="768"/>
                    </a:cubicBezTo>
                    <a:cubicBezTo>
                      <a:pt x="120" y="803"/>
                      <a:pt x="137" y="820"/>
                      <a:pt x="147" y="855"/>
                    </a:cubicBezTo>
                    <a:cubicBezTo>
                      <a:pt x="157" y="891"/>
                      <a:pt x="162" y="943"/>
                      <a:pt x="162" y="985"/>
                    </a:cubicBezTo>
                    <a:cubicBezTo>
                      <a:pt x="162" y="1027"/>
                      <a:pt x="156" y="1087"/>
                      <a:pt x="143" y="1111"/>
                    </a:cubicBezTo>
                    <a:cubicBezTo>
                      <a:pt x="130" y="1135"/>
                      <a:pt x="94" y="1138"/>
                      <a:pt x="86" y="1130"/>
                    </a:cubicBezTo>
                    <a:cubicBezTo>
                      <a:pt x="66" y="1107"/>
                      <a:pt x="73" y="1116"/>
                      <a:pt x="79" y="1111"/>
                    </a:cubicBezTo>
                    <a:cubicBezTo>
                      <a:pt x="85" y="1106"/>
                      <a:pt x="110" y="1117"/>
                      <a:pt x="120" y="1099"/>
                    </a:cubicBezTo>
                    <a:cubicBezTo>
                      <a:pt x="130" y="1082"/>
                      <a:pt x="143" y="1045"/>
                      <a:pt x="143" y="1004"/>
                    </a:cubicBezTo>
                    <a:cubicBezTo>
                      <a:pt x="143" y="963"/>
                      <a:pt x="137" y="894"/>
                      <a:pt x="124" y="852"/>
                    </a:cubicBezTo>
                    <a:cubicBezTo>
                      <a:pt x="111" y="810"/>
                      <a:pt x="80" y="777"/>
                      <a:pt x="63" y="749"/>
                    </a:cubicBezTo>
                    <a:cubicBezTo>
                      <a:pt x="47" y="721"/>
                      <a:pt x="35" y="703"/>
                      <a:pt x="25" y="680"/>
                    </a:cubicBezTo>
                    <a:cubicBezTo>
                      <a:pt x="15" y="657"/>
                      <a:pt x="0" y="633"/>
                      <a:pt x="3" y="611"/>
                    </a:cubicBezTo>
                    <a:cubicBezTo>
                      <a:pt x="5" y="590"/>
                      <a:pt x="11" y="559"/>
                      <a:pt x="37" y="550"/>
                    </a:cubicBezTo>
                    <a:cubicBezTo>
                      <a:pt x="62" y="541"/>
                      <a:pt x="118" y="559"/>
                      <a:pt x="158" y="558"/>
                    </a:cubicBezTo>
                    <a:cubicBezTo>
                      <a:pt x="199" y="557"/>
                      <a:pt x="246" y="558"/>
                      <a:pt x="284" y="543"/>
                    </a:cubicBezTo>
                    <a:cubicBezTo>
                      <a:pt x="322" y="527"/>
                      <a:pt x="360" y="496"/>
                      <a:pt x="390" y="466"/>
                    </a:cubicBezTo>
                    <a:cubicBezTo>
                      <a:pt x="421" y="437"/>
                      <a:pt x="446" y="411"/>
                      <a:pt x="470" y="367"/>
                    </a:cubicBezTo>
                    <a:cubicBezTo>
                      <a:pt x="494" y="324"/>
                      <a:pt x="521" y="252"/>
                      <a:pt x="531" y="211"/>
                    </a:cubicBezTo>
                    <a:cubicBezTo>
                      <a:pt x="541" y="170"/>
                      <a:pt x="535" y="151"/>
                      <a:pt x="535" y="123"/>
                    </a:cubicBezTo>
                    <a:cubicBezTo>
                      <a:pt x="535" y="95"/>
                      <a:pt x="537" y="56"/>
                      <a:pt x="527" y="39"/>
                    </a:cubicBezTo>
                    <a:cubicBezTo>
                      <a:pt x="517" y="23"/>
                      <a:pt x="493" y="22"/>
                      <a:pt x="474" y="24"/>
                    </a:cubicBezTo>
                    <a:cubicBezTo>
                      <a:pt x="455" y="27"/>
                      <a:pt x="426" y="48"/>
                      <a:pt x="409" y="58"/>
                    </a:cubicBezTo>
                    <a:cubicBezTo>
                      <a:pt x="393" y="69"/>
                      <a:pt x="379" y="84"/>
                      <a:pt x="371" y="85"/>
                    </a:cubicBezTo>
                    <a:cubicBezTo>
                      <a:pt x="364" y="86"/>
                      <a:pt x="353" y="78"/>
                      <a:pt x="364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01880" y="3494160"/>
                <a:ext cx="401760" cy="851040"/>
              </a:xfrm>
              <a:custGeom>
                <a:avLst/>
                <a:gdLst/>
                <a:ahLst/>
                <a:rect l="l" t="t" r="r" b="b"/>
                <a:pathLst>
                  <a:path w="253" h="536">
                    <a:moveTo>
                      <a:pt x="4" y="4"/>
                    </a:moveTo>
                    <a:cubicBezTo>
                      <a:pt x="8" y="3"/>
                      <a:pt x="42" y="0"/>
                      <a:pt x="65" y="8"/>
                    </a:cubicBezTo>
                    <a:cubicBezTo>
                      <a:pt x="88" y="16"/>
                      <a:pt x="121" y="33"/>
                      <a:pt x="140" y="53"/>
                    </a:cubicBezTo>
                    <a:cubicBezTo>
                      <a:pt x="159" y="73"/>
                      <a:pt x="167" y="111"/>
                      <a:pt x="179" y="131"/>
                    </a:cubicBezTo>
                    <a:cubicBezTo>
                      <a:pt x="191" y="151"/>
                      <a:pt x="204" y="151"/>
                      <a:pt x="215" y="173"/>
                    </a:cubicBezTo>
                    <a:cubicBezTo>
                      <a:pt x="226" y="195"/>
                      <a:pt x="243" y="231"/>
                      <a:pt x="248" y="266"/>
                    </a:cubicBezTo>
                    <a:cubicBezTo>
                      <a:pt x="253" y="301"/>
                      <a:pt x="253" y="352"/>
                      <a:pt x="248" y="386"/>
                    </a:cubicBezTo>
                    <a:cubicBezTo>
                      <a:pt x="243" y="420"/>
                      <a:pt x="234" y="449"/>
                      <a:pt x="215" y="473"/>
                    </a:cubicBezTo>
                    <a:cubicBezTo>
                      <a:pt x="196" y="497"/>
                      <a:pt x="141" y="530"/>
                      <a:pt x="131" y="533"/>
                    </a:cubicBezTo>
                    <a:cubicBezTo>
                      <a:pt x="121" y="536"/>
                      <a:pt x="148" y="511"/>
                      <a:pt x="155" y="488"/>
                    </a:cubicBezTo>
                    <a:cubicBezTo>
                      <a:pt x="162" y="465"/>
                      <a:pt x="174" y="425"/>
                      <a:pt x="176" y="392"/>
                    </a:cubicBezTo>
                    <a:cubicBezTo>
                      <a:pt x="178" y="359"/>
                      <a:pt x="175" y="324"/>
                      <a:pt x="164" y="290"/>
                    </a:cubicBezTo>
                    <a:cubicBezTo>
                      <a:pt x="153" y="256"/>
                      <a:pt x="124" y="220"/>
                      <a:pt x="107" y="185"/>
                    </a:cubicBezTo>
                    <a:cubicBezTo>
                      <a:pt x="90" y="150"/>
                      <a:pt x="70" y="108"/>
                      <a:pt x="59" y="80"/>
                    </a:cubicBezTo>
                    <a:cubicBezTo>
                      <a:pt x="48" y="52"/>
                      <a:pt x="50" y="31"/>
                      <a:pt x="41" y="17"/>
                    </a:cubicBezTo>
                    <a:cubicBezTo>
                      <a:pt x="32" y="3"/>
                      <a:pt x="0" y="5"/>
                      <a:pt x="4" y="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2798640" y="1130400"/>
            <a:ext cx="4215600" cy="2947680"/>
            <a:chOff x="2798640" y="1130400"/>
            <a:chExt cx="4215600" cy="2947680"/>
          </a:xfrm>
        </p:grpSpPr>
        <p:sp>
          <p:nvSpPr>
            <p:cNvPr id="102" name=""/>
            <p:cNvSpPr/>
            <p:nvPr/>
          </p:nvSpPr>
          <p:spPr>
            <a:xfrm>
              <a:off x="5006160" y="3130560"/>
              <a:ext cx="20080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Obere H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Pyelonephr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Urosep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798640" y="1130400"/>
              <a:ext cx="909720" cy="1147680"/>
              <a:chOff x="2798640" y="1130400"/>
              <a:chExt cx="909720" cy="1147680"/>
            </a:xfrm>
          </p:grpSpPr>
          <p:sp>
            <p:nvSpPr>
              <p:cNvPr id="104" name=""/>
              <p:cNvSpPr/>
              <p:nvPr/>
            </p:nvSpPr>
            <p:spPr>
              <a:xfrm>
                <a:off x="2798640" y="1130400"/>
                <a:ext cx="459000" cy="1017720"/>
              </a:xfrm>
              <a:custGeom>
                <a:avLst/>
                <a:gdLst/>
                <a:ahLst/>
                <a:rect l="l" t="t" r="r" b="b"/>
                <a:pathLst>
                  <a:path w="231" h="503">
                    <a:moveTo>
                      <a:pt x="200" y="7"/>
                    </a:moveTo>
                    <a:cubicBezTo>
                      <a:pt x="190" y="14"/>
                      <a:pt x="184" y="44"/>
                      <a:pt x="170" y="58"/>
                    </a:cubicBezTo>
                    <a:cubicBezTo>
                      <a:pt x="156" y="72"/>
                      <a:pt x="134" y="79"/>
                      <a:pt x="116" y="91"/>
                    </a:cubicBezTo>
                    <a:cubicBezTo>
                      <a:pt x="98" y="103"/>
                      <a:pt x="70" y="115"/>
                      <a:pt x="59" y="130"/>
                    </a:cubicBezTo>
                    <a:cubicBezTo>
                      <a:pt x="48" y="145"/>
                      <a:pt x="50" y="163"/>
                      <a:pt x="47" y="184"/>
                    </a:cubicBezTo>
                    <a:cubicBezTo>
                      <a:pt x="44" y="205"/>
                      <a:pt x="42" y="231"/>
                      <a:pt x="41" y="259"/>
                    </a:cubicBezTo>
                    <a:cubicBezTo>
                      <a:pt x="40" y="287"/>
                      <a:pt x="44" y="325"/>
                      <a:pt x="41" y="355"/>
                    </a:cubicBezTo>
                    <a:cubicBezTo>
                      <a:pt x="38" y="385"/>
                      <a:pt x="27" y="422"/>
                      <a:pt x="20" y="442"/>
                    </a:cubicBezTo>
                    <a:cubicBezTo>
                      <a:pt x="13" y="462"/>
                      <a:pt x="4" y="466"/>
                      <a:pt x="2" y="475"/>
                    </a:cubicBezTo>
                    <a:cubicBezTo>
                      <a:pt x="0" y="484"/>
                      <a:pt x="1" y="503"/>
                      <a:pt x="8" y="499"/>
                    </a:cubicBezTo>
                    <a:cubicBezTo>
                      <a:pt x="15" y="495"/>
                      <a:pt x="36" y="467"/>
                      <a:pt x="44" y="451"/>
                    </a:cubicBezTo>
                    <a:cubicBezTo>
                      <a:pt x="52" y="435"/>
                      <a:pt x="53" y="418"/>
                      <a:pt x="56" y="400"/>
                    </a:cubicBezTo>
                    <a:cubicBezTo>
                      <a:pt x="59" y="382"/>
                      <a:pt x="63" y="367"/>
                      <a:pt x="65" y="340"/>
                    </a:cubicBezTo>
                    <a:cubicBezTo>
                      <a:pt x="67" y="313"/>
                      <a:pt x="64" y="266"/>
                      <a:pt x="65" y="238"/>
                    </a:cubicBezTo>
                    <a:cubicBezTo>
                      <a:pt x="66" y="210"/>
                      <a:pt x="66" y="188"/>
                      <a:pt x="71" y="169"/>
                    </a:cubicBezTo>
                    <a:cubicBezTo>
                      <a:pt x="76" y="150"/>
                      <a:pt x="83" y="135"/>
                      <a:pt x="95" y="124"/>
                    </a:cubicBezTo>
                    <a:cubicBezTo>
                      <a:pt x="107" y="113"/>
                      <a:pt x="128" y="115"/>
                      <a:pt x="146" y="103"/>
                    </a:cubicBezTo>
                    <a:cubicBezTo>
                      <a:pt x="164" y="91"/>
                      <a:pt x="189" y="70"/>
                      <a:pt x="203" y="55"/>
                    </a:cubicBezTo>
                    <a:cubicBezTo>
                      <a:pt x="217" y="40"/>
                      <a:pt x="231" y="21"/>
                      <a:pt x="230" y="13"/>
                    </a:cubicBezTo>
                    <a:cubicBezTo>
                      <a:pt x="229" y="5"/>
                      <a:pt x="210" y="0"/>
                      <a:pt x="20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32000" y="1197000"/>
                <a:ext cx="576360" cy="1081080"/>
              </a:xfrm>
              <a:prstGeom prst="upArrow">
                <a:avLst>
                  <a:gd name="adj1" fmla="val 50000"/>
                  <a:gd name="adj2" fmla="val 46893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 rot="20059800">
            <a:off x="2204640" y="191088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erreger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9640" y="1143000"/>
            <a:ext cx="3816360" cy="5184360"/>
            <a:chOff x="539640" y="1143000"/>
            <a:chExt cx="3816360" cy="5184360"/>
          </a:xfrm>
        </p:grpSpPr>
        <p:sp>
          <p:nvSpPr>
            <p:cNvPr id="110" name=""/>
            <p:cNvSpPr/>
            <p:nvPr/>
          </p:nvSpPr>
          <p:spPr>
            <a:xfrm>
              <a:off x="812880" y="115056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9880" y="286200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89440" y="297792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432800">
              <a:off x="1517400" y="166644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97200" y="114300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4760" y="212868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524800">
              <a:off x="1708200" y="349992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81360" y="350496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3040" y="415908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81480" y="194112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01880" y="352548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6720" y="230652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539640" y="1881000"/>
              <a:ext cx="2198520" cy="4299840"/>
              <a:chOff x="539640" y="1881000"/>
              <a:chExt cx="2198520" cy="4299840"/>
            </a:xfrm>
          </p:grpSpPr>
          <p:sp>
            <p:nvSpPr>
              <p:cNvPr id="123" name=""/>
              <p:cNvSpPr/>
              <p:nvPr/>
            </p:nvSpPr>
            <p:spPr>
              <a:xfrm>
                <a:off x="793800" y="246312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9792200">
                <a:off x="2217600" y="214704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28680" y="18810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493600">
                <a:off x="2185920" y="193104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4320" y="594612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6880" y="601128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8440" y="534924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9640" y="587304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076480" y="250164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79280" y="3328920"/>
            <a:ext cx="8748720" cy="3143160"/>
            <a:chOff x="179280" y="3328920"/>
            <a:chExt cx="8748720" cy="3143160"/>
          </a:xfrm>
        </p:grpSpPr>
        <p:sp>
          <p:nvSpPr>
            <p:cNvPr id="133" name=""/>
            <p:cNvSpPr/>
            <p:nvPr/>
          </p:nvSpPr>
          <p:spPr>
            <a:xfrm>
              <a:off x="4500720" y="3328920"/>
              <a:ext cx="4427280" cy="26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örperfremde (exogene) Ke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n Händen des Person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n Spüllösungen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s der sozialen und unbelebten Umgeb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80" y="3951360"/>
              <a:ext cx="1513080" cy="2520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708200" y="4416480"/>
              <a:ext cx="2943000" cy="88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20059800">
            <a:off x="2204640" y="193644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8360" y="1287360"/>
            <a:ext cx="8459640" cy="3456000"/>
            <a:chOff x="468360" y="1287360"/>
            <a:chExt cx="8459640" cy="3456000"/>
          </a:xfrm>
        </p:grpSpPr>
        <p:sp>
          <p:nvSpPr>
            <p:cNvPr id="138" name=""/>
            <p:cNvSpPr/>
            <p:nvPr/>
          </p:nvSpPr>
          <p:spPr>
            <a:xfrm>
              <a:off x="468360" y="2511360"/>
              <a:ext cx="3311640" cy="2232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21160" y="2079000"/>
              <a:ext cx="1143000" cy="94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00720" y="1287360"/>
              <a:ext cx="442728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örpereigene (endogene)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eime der Darm- und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Genitalflo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. co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nterokokk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seudomonad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übertragung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58720" y="1197000"/>
            <a:ext cx="3816360" cy="5184360"/>
            <a:chOff x="558720" y="1197000"/>
            <a:chExt cx="3816360" cy="5184360"/>
          </a:xfrm>
        </p:grpSpPr>
        <p:sp>
          <p:nvSpPr>
            <p:cNvPr id="144" name=""/>
            <p:cNvSpPr/>
            <p:nvPr/>
          </p:nvSpPr>
          <p:spPr>
            <a:xfrm>
              <a:off x="831960" y="120456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98960" y="291600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08520" y="303192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432800">
              <a:off x="1536480" y="172044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16280" y="119700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3840" y="218268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524800">
              <a:off x="1727280" y="355392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0440" y="355896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92120" y="421308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00560" y="199512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20960" y="357948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25800" y="236052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58720" y="1935000"/>
              <a:ext cx="2198520" cy="4299840"/>
              <a:chOff x="558720" y="1935000"/>
              <a:chExt cx="2198520" cy="4299840"/>
            </a:xfrm>
          </p:grpSpPr>
          <p:sp>
            <p:nvSpPr>
              <p:cNvPr id="157" name=""/>
              <p:cNvSpPr/>
              <p:nvPr/>
            </p:nvSpPr>
            <p:spPr>
              <a:xfrm>
                <a:off x="812880" y="251712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792200">
                <a:off x="2236680" y="220104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47760" y="19350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493600">
                <a:off x="2205000" y="198504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3400" y="600012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85960" y="606528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7520" y="540324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8720" y="592704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095560" y="255564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62080" y="1317600"/>
            <a:ext cx="8779320" cy="3676680"/>
            <a:chOff x="262080" y="1317600"/>
            <a:chExt cx="8779320" cy="3676680"/>
          </a:xfrm>
        </p:grpSpPr>
        <p:grpSp>
          <p:nvGrpSpPr>
            <p:cNvPr id="167" name=""/>
            <p:cNvGrpSpPr/>
            <p:nvPr/>
          </p:nvGrpSpPr>
          <p:grpSpPr>
            <a:xfrm>
              <a:off x="1042920" y="1317600"/>
              <a:ext cx="7998480" cy="3119400"/>
              <a:chOff x="1042920" y="1317600"/>
              <a:chExt cx="7998480" cy="3119400"/>
            </a:xfrm>
          </p:grpSpPr>
          <p:sp>
            <p:nvSpPr>
              <p:cNvPr id="168" name=""/>
              <p:cNvSpPr/>
              <p:nvPr/>
            </p:nvSpPr>
            <p:spPr>
              <a:xfrm>
                <a:off x="4224240" y="1317600"/>
                <a:ext cx="4817160" cy="27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61800" indent="-3618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Extralumin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Zwischen Katheter und Urethra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bildet sich Schleim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- Keime der Darm- und Genitalflora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gelangen entlang des Katheters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in die Blase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- Unausweichliches Geschehen, 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welches bei DK innerhalb von 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ca. 14 Tg. zur Bakteriurie führt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42920" y="2598480"/>
                <a:ext cx="1573200" cy="1814400"/>
              </a:xfrm>
              <a:custGeom>
                <a:avLst/>
                <a:gdLst/>
                <a:ahLst/>
                <a:rect l="l" t="t" r="r" b="b"/>
                <a:pathLst>
                  <a:path w="991" h="1143">
                    <a:moveTo>
                      <a:pt x="921" y="0"/>
                    </a:moveTo>
                    <a:cubicBezTo>
                      <a:pt x="931" y="21"/>
                      <a:pt x="966" y="81"/>
                      <a:pt x="977" y="127"/>
                    </a:cubicBezTo>
                    <a:cubicBezTo>
                      <a:pt x="988" y="173"/>
                      <a:pt x="991" y="239"/>
                      <a:pt x="987" y="276"/>
                    </a:cubicBezTo>
                    <a:cubicBezTo>
                      <a:pt x="983" y="313"/>
                      <a:pt x="975" y="333"/>
                      <a:pt x="951" y="348"/>
                    </a:cubicBezTo>
                    <a:cubicBezTo>
                      <a:pt x="927" y="363"/>
                      <a:pt x="889" y="366"/>
                      <a:pt x="845" y="363"/>
                    </a:cubicBezTo>
                    <a:cubicBezTo>
                      <a:pt x="801" y="360"/>
                      <a:pt x="736" y="346"/>
                      <a:pt x="684" y="330"/>
                    </a:cubicBezTo>
                    <a:cubicBezTo>
                      <a:pt x="632" y="314"/>
                      <a:pt x="576" y="284"/>
                      <a:pt x="533" y="267"/>
                    </a:cubicBezTo>
                    <a:cubicBezTo>
                      <a:pt x="490" y="250"/>
                      <a:pt x="465" y="237"/>
                      <a:pt x="426" y="228"/>
                    </a:cubicBezTo>
                    <a:cubicBezTo>
                      <a:pt x="387" y="219"/>
                      <a:pt x="332" y="215"/>
                      <a:pt x="301" y="215"/>
                    </a:cubicBezTo>
                    <a:cubicBezTo>
                      <a:pt x="270" y="215"/>
                      <a:pt x="262" y="222"/>
                      <a:pt x="240" y="231"/>
                    </a:cubicBezTo>
                    <a:cubicBezTo>
                      <a:pt x="218" y="240"/>
                      <a:pt x="193" y="249"/>
                      <a:pt x="171" y="270"/>
                    </a:cubicBezTo>
                    <a:cubicBezTo>
                      <a:pt x="149" y="291"/>
                      <a:pt x="122" y="328"/>
                      <a:pt x="109" y="355"/>
                    </a:cubicBezTo>
                    <a:cubicBezTo>
                      <a:pt x="96" y="382"/>
                      <a:pt x="95" y="393"/>
                      <a:pt x="93" y="431"/>
                    </a:cubicBezTo>
                    <a:cubicBezTo>
                      <a:pt x="91" y="469"/>
                      <a:pt x="98" y="528"/>
                      <a:pt x="97" y="583"/>
                    </a:cubicBezTo>
                    <a:cubicBezTo>
                      <a:pt x="96" y="638"/>
                      <a:pt x="105" y="666"/>
                      <a:pt x="89" y="759"/>
                    </a:cubicBezTo>
                    <a:cubicBezTo>
                      <a:pt x="73" y="852"/>
                      <a:pt x="19" y="1063"/>
                      <a:pt x="0" y="114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66760" y="2549160"/>
                <a:ext cx="1586160" cy="1887840"/>
              </a:xfrm>
              <a:custGeom>
                <a:avLst/>
                <a:gdLst/>
                <a:ahLst/>
                <a:rect l="l" t="t" r="r" b="b"/>
                <a:pathLst>
                  <a:path w="999" h="1189">
                    <a:moveTo>
                      <a:pt x="926" y="0"/>
                    </a:moveTo>
                    <a:cubicBezTo>
                      <a:pt x="944" y="55"/>
                      <a:pt x="960" y="110"/>
                      <a:pt x="971" y="158"/>
                    </a:cubicBezTo>
                    <a:cubicBezTo>
                      <a:pt x="982" y="206"/>
                      <a:pt x="999" y="245"/>
                      <a:pt x="993" y="289"/>
                    </a:cubicBezTo>
                    <a:cubicBezTo>
                      <a:pt x="987" y="333"/>
                      <a:pt x="968" y="396"/>
                      <a:pt x="936" y="424"/>
                    </a:cubicBezTo>
                    <a:cubicBezTo>
                      <a:pt x="904" y="452"/>
                      <a:pt x="852" y="454"/>
                      <a:pt x="803" y="458"/>
                    </a:cubicBezTo>
                    <a:cubicBezTo>
                      <a:pt x="754" y="462"/>
                      <a:pt x="694" y="461"/>
                      <a:pt x="639" y="448"/>
                    </a:cubicBezTo>
                    <a:cubicBezTo>
                      <a:pt x="584" y="435"/>
                      <a:pt x="531" y="404"/>
                      <a:pt x="471" y="382"/>
                    </a:cubicBezTo>
                    <a:cubicBezTo>
                      <a:pt x="411" y="360"/>
                      <a:pt x="330" y="325"/>
                      <a:pt x="282" y="316"/>
                    </a:cubicBezTo>
                    <a:cubicBezTo>
                      <a:pt x="234" y="307"/>
                      <a:pt x="208" y="318"/>
                      <a:pt x="183" y="325"/>
                    </a:cubicBezTo>
                    <a:cubicBezTo>
                      <a:pt x="158" y="332"/>
                      <a:pt x="145" y="344"/>
                      <a:pt x="132" y="361"/>
                    </a:cubicBezTo>
                    <a:cubicBezTo>
                      <a:pt x="119" y="378"/>
                      <a:pt x="110" y="397"/>
                      <a:pt x="105" y="427"/>
                    </a:cubicBezTo>
                    <a:cubicBezTo>
                      <a:pt x="100" y="457"/>
                      <a:pt x="103" y="492"/>
                      <a:pt x="99" y="541"/>
                    </a:cubicBezTo>
                    <a:cubicBezTo>
                      <a:pt x="95" y="590"/>
                      <a:pt x="88" y="664"/>
                      <a:pt x="83" y="718"/>
                    </a:cubicBezTo>
                    <a:cubicBezTo>
                      <a:pt x="78" y="772"/>
                      <a:pt x="81" y="788"/>
                      <a:pt x="67" y="866"/>
                    </a:cubicBezTo>
                    <a:cubicBezTo>
                      <a:pt x="53" y="944"/>
                      <a:pt x="14" y="1122"/>
                      <a:pt x="0" y="1189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rot="4684800">
              <a:off x="1228680" y="4392000"/>
              <a:ext cx="431640" cy="64800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113400 h 648000"/>
                <a:gd name="textAreaBottom" fmla="*/ 46980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18721200">
              <a:off x="430560" y="4195440"/>
              <a:ext cx="431640" cy="64764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113400 h 647640"/>
                <a:gd name="textAreaBottom" fmla="*/ 4698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rot="20059800">
            <a:off x="2223720" y="198864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74720" y="1992240"/>
            <a:ext cx="8244000" cy="5162400"/>
            <a:chOff x="774720" y="1992240"/>
            <a:chExt cx="8244000" cy="5162400"/>
          </a:xfrm>
        </p:grpSpPr>
        <p:sp>
          <p:nvSpPr>
            <p:cNvPr id="175" name=""/>
            <p:cNvSpPr/>
            <p:nvPr/>
          </p:nvSpPr>
          <p:spPr>
            <a:xfrm>
              <a:off x="4591080" y="4464000"/>
              <a:ext cx="442764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tralum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nerhalb des Katheters dringen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Keime in die Blase vo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Übertragung im Zuge von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Diskonnektionen, Spülungen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Durch Hygiene vermeidb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79480" y="58816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60832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5960" y="567828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2720" y="547524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9480" y="52815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5960" y="50688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5840" y="48560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55800" y="46720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9160" y="44784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69920" y="42624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33640" y="40593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68560" y="384156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03480" y="36432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00240" y="34401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6360" y="320832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89160" y="303372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60520" y="29574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5600" y="300204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82800" y="3093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98800" y="316692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33520" y="3201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21080" y="31608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12880" y="29955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10000" y="27828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11360" y="25700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70160" y="2166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81240" y="19922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4720" y="6335640"/>
              <a:ext cx="358920" cy="360360"/>
            </a:xfrm>
            <a:prstGeom prst="upArrow">
              <a:avLst>
                <a:gd name="adj1" fmla="val 50000"/>
                <a:gd name="adj2" fmla="val 251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ositionen und Risik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268280"/>
            <a:ext cx="850752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 Gefährdung fü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u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äuglinge und alte Mens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munsuprimier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ung nimmt z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Dauer eines Klinikaufenthal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Liegedauer des Kath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ektionsfördernde Fak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eeignetes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zureichende Asepsis beim Legen und Wechsel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konnek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ill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rnstau bei liegendem Kath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nipulationen am Ableitungs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äventionsstrategien bei Langzeit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84120"/>
            <a:ext cx="8507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zicht bzw. Limitierung der transurethralen 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geeigneten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eptisches Einlegen des Kath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 und Beibehaltung eines geschlossenen Ableitungs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von Harnstau und Rückf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izierter Wechsel von Katheter und Ableit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von Keimübertragungen bei Manipulationen am Katheter und am Ableit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zicht auf obsolete Maßna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peter.bergen</cp:lastModifiedBy>
  <dcterms:modified xsi:type="dcterms:W3CDTF">2012-02-16T15:35:42Z</dcterms:modified>
  <cp:revision>46</cp:revision>
  <dc:subject/>
  <dc:title>Kein Folientitel</dc:title>
</cp:coreProperties>
</file>