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1520" y="728640"/>
            <a:ext cx="4856040" cy="364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207EA79-D6E3-4C51-A07D-097413FAE389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Rechnen Sie für diesen Vortrag ca. 30 – 45 Minuten + ca. 10 Min. Diskussionsze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Ihr Vortrag wird sehr viel lebendiger, wenn Sie Anschauungsmaterial mitbringen und seine Anwendung demonstriere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Händedesinfektionsmit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Schutzhandschuhe, Schutzschürze, Schutzkitte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Mund-Nasensch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gt; Behältnis zur Entsorgung von kontaminierten Abfä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Meist besteht die Vorstellung, dass Mikroorganismen entweder krankmachen oder nicht (also „böse“ oder „gut“ sind) und dass krankmachende Keime von außen herangetragen werde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ür das Verständnis von MRSA muss aber klar werden, dass Floraanteile nur unter bestimmten Umständen krankmachen und dass es sich hierbei auch um die eigenen Florabestandteile handeln kann (= „endogene Infektion“)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: Aerogene Übertragungen (also Übertragungen durch den Luftweg) haben meist etwas mit Tröpfchen, selten etwas mit Staub und praktisch nie etwas mit Luft als solches zu t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: Kontaktübertragungen kommen fast immer durch Hände zustande; entweder durch direkte Berührungen (z.B. Handkontakt mit Wunde) oder durch Berührung von Gegenständen, die bei ihrem Gebrauch Keime weitergeben (z.B. steril zu verwendende Instrument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: Die hier genannten Erkrankungen kommen natürlich unterschiedlich oft vor. Häufig sind die zuerst genannten Infektio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Die Meldung an das GA ist aber nur notwendig, wenn 2 oder mehr Fälle im zeitlichen Zusammenhang offensichtlich im Heim entstanden sind, nicht etwa, wenn sich mehrere Fälle im Heim aufhal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Mit dem Bewohner sollte offen über die Handhabung der Informationsweitergabe gesprochen werden. Jede Information gegenüber Dritten setzt sein Einverständnis vora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ie oft zu beobachtende Overall-Vermummung von Rettungskräften ist nicht notwendig. Details stehen in den NLGA-Empfehlungen für den Rettungsdien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Gemeint sind Erkrankungen wie Neurodermitis oder Schuppenflechte (Psoriasis)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wangere Mitarbeiterinnen sollen grundsätzlich keine kolonisierten bzw. infizierten Bewohner betreuen, da ist MRSA keine Ausnah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6040" cy="3641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613400"/>
            <a:ext cx="5027760" cy="4371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 Hier bitte kurz erklären, welche Leistungen die Unterhalts- und welche die Grundreinigung umfasst. Wenn Sie zur Flächenreinigung eine 3-Eimer-Methode verwenden (was meist der Fall ist) bitte auch erläutern, welche Eimerfarbe mit welchen Bereichen (Möbel, Sanitär, WC) in Verbindung ste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Hier bitte Mittel und Einwirkzeit nenn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Hier bitte kurz erklären, welche Leistungen die Schlussdesinfektion umfas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22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Wenn sich die Wäsche oder Kleidung nicht bei 60°C waschen lässt kann vorgeschlagen werden, sie mit dem sonst vorgesehenen Programmen separat von anderer Wäsche zu waschen (was bei 60°C nicht nötig wäre). Das ist insofern gut praktizierbar, weil die Wäsche von MRSA-Bewohnern ohnehin gesondert im Zimmer gesammelt wir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09F-8280-48C1-BB70-8444639D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129F-5C97-40D9-8F92-B756F5E9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E86-61A2-44F2-A26E-422CDC3E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FFD-C105-4DB5-A283-F0E55C04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5937-F42E-4333-A1C2-46E6973A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594-A10A-4340-A49B-CC357D48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DF7-2CAB-48D4-98EA-1F4040EE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2D3-78D1-401D-A47E-A7BB8083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F46-47FF-4B69-B4FC-F3292797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D26-9CC7-4782-9FD3-AF08154F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EBF-1A06-43A3-80BC-7B07C546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ADD-EB87-4ECC-9906-15F035FA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7780-0E72-4748-9303-D39D3074A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15440" y="1112760"/>
            <a:ext cx="281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97080" y="2351160"/>
            <a:ext cx="626400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gemeine Inform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herung des Informationsflu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giene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67840" y="1203480"/>
            <a:ext cx="69289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se Schulungsdatei wird Ihnen als teilnehmende Einrichtung 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ür betriebsintern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lungen zur Verfügung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stellt.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Aussagen beziehen sich auf die Richtlinie „Influenza“ (QZ 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ie zu dieser Datei gehörenden Textpassagen und Abbildungen dürfen Si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 Rahmen des 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urSafety Health-net Qualitäts- und Transparenzsiegel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n frei editieren, ergänzen und in Ihre Schulungsunterlagen überneh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4653000"/>
            <a:ext cx="7629840" cy="161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gemeine Informationen zu Influ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600" y="1052640"/>
            <a:ext cx="8411400" cy="56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luenza („Grippe“) ist eine gefährliche Infektionserkrankung, die durc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schiedene Orthomyxoviren ausgelöst werd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kubationszeit: 1 – 3 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dauer: 3 – 5 Tage, schon 24 Std. vor den Symptom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steckungsfäh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mptome: plötzlich einsetzendes Fieber, Muskel-, Kopf- und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liederschmerzen, Atemwegssymptome und schweres Krankheitsgefü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agnose anhand der klinischen Sympt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rapie: meist symptomatisch, bei gefährlichen Virusvarianten Viristatika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Amantadin (Amanta®) oder Oseltamivir (Tamiflu®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1666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vention: Jährliche Impfungen (besonders wichtig für Kinder, alt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nschen und Pflegen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krankungshäufung in den Wintermona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 vorwiegend aerogen durch Tröpfchen aber auch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nta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fährdet sind vor allem alte Menschen, speziell in Alten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flegeheimen. Es besteht die Gefahr von Infektionsausbrü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elwer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48040" y="990720"/>
            <a:ext cx="5883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ektionsschutzgese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RINKO-Empfehlung „Infektionsprävention in Heimen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KI-Ärztemerkblätter über Infl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14720" y="3276720"/>
            <a:ext cx="2595600" cy="3124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56000" y="3854520"/>
            <a:ext cx="77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ßnahmen bei Influenza im Pflege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944640"/>
            <a:ext cx="7793280" cy="1725120"/>
            <a:chOff x="609480" y="944640"/>
            <a:chExt cx="7793280" cy="1725120"/>
          </a:xfrm>
        </p:grpSpPr>
        <p:sp>
          <p:nvSpPr>
            <p:cNvPr id="62" name=""/>
            <p:cNvSpPr/>
            <p:nvPr/>
          </p:nvSpPr>
          <p:spPr>
            <a:xfrm>
              <a:off x="2233080" y="944640"/>
              <a:ext cx="6169680" cy="17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Allgemeine Maßnahmen (Basis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alhygiene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gebungshygien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gienegerechte Durchführung medizinisch-pflegerisch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ßnahme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990720"/>
              <a:ext cx="1143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</a:t>
              </a:r>
              <a:r>
                <a:rPr b="0" lang="en-US" sz="9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87960" y="2781360"/>
            <a:ext cx="7202520" cy="1807920"/>
            <a:chOff x="687960" y="2781360"/>
            <a:chExt cx="7202520" cy="1807920"/>
          </a:xfrm>
        </p:grpSpPr>
        <p:sp>
          <p:nvSpPr>
            <p:cNvPr id="65" name=""/>
            <p:cNvSpPr/>
            <p:nvPr/>
          </p:nvSpPr>
          <p:spPr>
            <a:xfrm>
              <a:off x="2031840" y="2787840"/>
              <a:ext cx="5858640" cy="18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66"/>
                  </a:solidFill>
                  <a:latin typeface="Arial"/>
                </a:rPr>
                <a:t>Zusätzliche Maßnahmen (spezielle Hygie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cherung des Informationsflu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parate Unterbringung erkrankter Bewoh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Personal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nsivierung der Umgebungshygie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7960" y="2781360"/>
              <a:ext cx="892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339966"/>
                  </a:solidFill>
                  <a:latin typeface="Arial"/>
                </a:rPr>
                <a:t>+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cherung des Informationsflusses /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1560" y="874800"/>
            <a:ext cx="7670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eldepfl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zelfälle von Influenza sind nicht meldepflich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za-Ausbrüche müssen an das Gesundheitsamt gemelde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4880" y="2154240"/>
            <a:ext cx="500868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Generell zu informieren si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treuende und behandelnde Perso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tarbeiter des hauswirtschaftlichen Diens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sucher (wenn Bewohner einverstande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9200" y="3822840"/>
            <a:ext cx="7984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Bei Verlegungen und Transport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ohnbereichsleitung informiert weiterbetreuende Institutionen frühzeiti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m Transportdienst ist die Infektion bei der Anmeldung mitzuteil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gleitende Personen sollen während des Transportes Schutzhandschuhe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tzkittel und Mund-Nasenschutz-Masken (FFP-1) 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terbringung / Gemeinschaftsl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840" y="1077840"/>
            <a:ext cx="734328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ind (in Absprache mit dem Gesundheitsam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ichst zu isolier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Zimmer erkrankter Bewohner sind als Isolierzimmer zu gestal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 Bewohner sollen für die Zeit der Ansteckungsgefah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Zimmer bleib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sollen innerhalb der Ansteckungszeit nicht in andere Zim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legt werd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bewohner sollen für die Dauer der Ansteckungszeit nicht mit d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rankten in einem Zimmer wohne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ögl. keine Besuche während der Ansteckungsz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l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41600"/>
            <a:ext cx="5924520" cy="52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zicht auf Handschmuck bei Pflegenden und Betreue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Durchführung der Händedesinfektion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 Dienstbeginn und zum Dienste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aseptisch durchzuführenden Arb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Kontakt mit infektionsgefährdeten Bewohn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or und nach Kontakt mit Wunden, Tracheostoma, 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Kontakt mit potentiell infektiösen Material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ch dem Toilettengang, Naseputzen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tuationsgerechte Nutzung von Persönlicher Schutzausrüstung, d.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utzhandschuhe bei allen Tätigkeiten, bei denen ein Handkontakt mit infektiösen Substanzen möglich i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erile Handschuhe bei aseptischen Arbei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üssigkeitsdichte Schürzen bzw. langärmlige Schutzkittel bei Tätigkeiten mit Kontaminationsgefah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8200" indent="-179280">
              <a:lnSpc>
                <a:spcPct val="9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und-Nasenschutzmasken bei pflegerischen Arbeiten mit Gefahr einer aerogenen Übertrag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9144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1641600"/>
            <a:ext cx="29275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treuung von infizierten Bewohnern durch geimpftes Pers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ändedesinfektion auch nach sonstigen Kontakten mit erkrankten Bewohnern oder kontaminierten 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erwendung von zimmer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bundenen, täglich zu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chselnden, langärmli-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n Schutzkitteln und von Mund-Nasenschutzmasken (FFP-1) bei Betreten des Zimme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lu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gebungshyg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7440" y="533520"/>
            <a:ext cx="102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cc"/>
                </a:solidFill>
                <a:latin typeface="Wingdings"/>
                <a:ea typeface="Wingdings"/>
              </a:rPr>
              <a:t>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55592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48520" y="914400"/>
            <a:ext cx="0" cy="525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41040" y="30492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9966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676520"/>
            <a:ext cx="592452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terhalts- und Grundreinigung mit gewohntem Leistungsumfang unter Anwendung der gewohnten Methoden und in den gewohnten Interva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leiches gilt für die Aufbereitung von Steckbecken, Urinflaschen und Medizinprodukt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nach den Vorgaben des Hygieneplanes entsorgt und aufbereit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flegeutensilien sollen möglichst bewohnerbezogen verwende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emeinschaftlich benutzte Sanitäreinrichtungen (Wannen, Duschen etc.) werden nach Gebrauch gemäß den Vorgaben des Reinigungs- und Desinfektionsplanes wischdesinfizie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sinfektion auch nach Kontamination (Blut</a:t>
            </a:r>
            <a:r>
              <a:rPr b="0" lang="de-DE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,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Erbrochenes, Fäze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hlussdesinfektion des Zimmers nach Bewohnerwechs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84960" y="1660680"/>
            <a:ext cx="275904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inigung von Isolier-zimmern zum Schlu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hmutzwäsche und Abfälle werden im Zimmer gesammelt und sollen das Zimmer nur in geschlos-senen Säcken ver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240" y="0"/>
            <a:ext cx="205416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32440" y="1415880"/>
            <a:ext cx="640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Vielen Dank fü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hre Aufmerksamkeit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398760"/>
            <a:ext cx="4545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ussi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reg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41:23Z</dcterms:created>
  <dc:creator>Fam. Bergen</dc:creator>
  <dc:description/>
  <dc:language>en-US</dc:language>
  <cp:lastModifiedBy>peter.bergen</cp:lastModifiedBy>
  <dcterms:modified xsi:type="dcterms:W3CDTF">2012-02-16T15:35:17Z</dcterms:modified>
  <cp:revision>50</cp:revision>
  <dc:subject/>
  <dc:title>Kein Folientitel</dc:title>
</cp:coreProperties>
</file>