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03A4BF7-660A-495F-B598-08F37AC46F8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30 – 45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Hände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Aerogene Übertragungen (also Übertragungen durch den Luftweg) haben meist etwas mit Tröpfchen, selten etwas mit Staub und praktisch nie etwas mit Luft als solches zu t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Kontaktübertragungen kommen fast immer durch Hände zustande; entweder durch direkte Berührungen (z.B. Handkontakt mit Wunde) oder durch Berührung von Gegenständen, die bei ihrem Gebrauch Keime weitergeben (z.B. steril zu verwendende Instrumen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: Die hier genannten Erkrankungen kommen natürlich unterschiedlich oft vor. Häufig sind die zuerst genannten Infektio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Gemeint sind Erkrankungen wie Neurodermitis oder Schuppenflechte (Psoriasis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wangere Mitarbeiterinnen sollen grundsätzlich keine kolonisierten bzw. infizierten Bewohner betreuen, da ist MRSA keine Ausna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Hier bitte kurz erklären, welche Leistungen die Unterhalts- und welche die Grundreinigung umfasst. Wenn Sie zur Flächenreinigung eine 3-Eimer-Methode verwenden (was meist der Fall ist) bitte auch erläutern, welche Eimerfarbe mit welchen Bereichen (Möbel, Sanitär, WC) in Verbindung ste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Hier bitte Mittel und Einwirkzeit ne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Hier bitte kurz erklären, welche Leistungen die Schlussdesinfektion umfas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Wenn sich die Wäsche oder Kleidung nicht bei 60°C waschen lässt kann vorgeschlagen werden, sie mit dem sonst vorgesehenen Programmen separat von anderer Wäsche zu waschen (was bei 60°C nicht nötig wäre). Das ist insofern gut praktizierbar, weil die Wäsche von MRSA-Bewohnern ohnehin gesondert im Zimmer gesammel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226-C059-4EF4-BFD0-B7DF5EC6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DEA-E573-4A9D-A269-D7B517B6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546-0FFA-4C31-B104-7AD30CA4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B08-B150-475E-AF6C-29189376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3BA-D1C2-4E5A-9A77-17477AD2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DB8-F756-4B93-B47B-47C93E08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5C8-15E6-401F-B7BE-C9457847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F3E-CD50-45B2-9CFB-C1FF4F9E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76A-0E84-4850-AB49-24D771B6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BA5-26FD-45C1-9A30-24F43B89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D0E-6FCA-4793-9E0F-2DF50948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377-1CF3-437A-9028-F85900CC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CD24-43C3-453C-8854-02D6D6307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5440" y="111276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351160"/>
            <a:ext cx="626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gemeine Informationen zu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00" y="1052640"/>
            <a:ext cx="84114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Orthomyxoviren ausgelös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ubationszeit: 1 – 3 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dauer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ptome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anhand der klinischen Symp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apie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vention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rankungshäufung in den Wintermon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 vorwiegend aerogen durch Tröpfchen aber auch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et sind vor allem alte Menschen, speziell in Alten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legeheimen. Es besteht die Gefahr von Infektionsausbrü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040" y="990720"/>
            <a:ext cx="588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INKO-Empfehlung „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KI-Ärztemerkblätter über Infl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14720" y="3276720"/>
            <a:ext cx="25956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56000" y="3854520"/>
            <a:ext cx="77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ßnahmen bei Influenza im Pflege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944640"/>
            <a:ext cx="7793280" cy="1725120"/>
            <a:chOff x="609480" y="944640"/>
            <a:chExt cx="7793280" cy="1725120"/>
          </a:xfrm>
        </p:grpSpPr>
        <p:sp>
          <p:nvSpPr>
            <p:cNvPr id="62" name=""/>
            <p:cNvSpPr/>
            <p:nvPr/>
          </p:nvSpPr>
          <p:spPr>
            <a:xfrm>
              <a:off x="2233080" y="944640"/>
              <a:ext cx="6169680" cy="17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lgemeine Maßnahmen (Basis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hygie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gebungshygie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gienegerechte Durchführung medizinisch-pflegerisch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ßnahm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990720"/>
              <a:ext cx="114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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7960" y="2781360"/>
            <a:ext cx="7202520" cy="1807920"/>
            <a:chOff x="687960" y="2781360"/>
            <a:chExt cx="7202520" cy="1807920"/>
          </a:xfrm>
        </p:grpSpPr>
        <p:sp>
          <p:nvSpPr>
            <p:cNvPr id="65" name=""/>
            <p:cNvSpPr/>
            <p:nvPr/>
          </p:nvSpPr>
          <p:spPr>
            <a:xfrm>
              <a:off x="2031840" y="2787840"/>
              <a:ext cx="5858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66"/>
                  </a:solidFill>
                  <a:latin typeface="Arial"/>
                </a:rPr>
                <a:t>Zusätzliche Maßnahmen (spezielle 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cherung des Informationsflu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te Unterbringung erkrankter Bewoh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Personal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Umgebungs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960" y="278136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9966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ung des Informationsflusses /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560" y="87480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880" y="2154240"/>
            <a:ext cx="5008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38228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840" y="1077840"/>
            <a:ext cx="73432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41600"/>
            <a:ext cx="59245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 Dienstbeginn und zum Dienst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infektionsgefährdeten Bewohn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d nach Kontakt mit Wunden, Tracheostoma, 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dem Toilettengang, Naseputze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9144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41600"/>
            <a:ext cx="29275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ändedesinfektion auch nach sonstigen Kontakten mit erkrankten Bewohnern oder kontaminierten 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zimm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undenen, täglich zu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chselnden, langärml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 Schutzkitteln und von Mund-Nasenschutzmasken (FFP-1) bei Betreten des Zimm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gebung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914400"/>
            <a:ext cx="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76520"/>
            <a:ext cx="59245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 und aufber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infektion auch nach Kontamination (Blut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brochenes, Fäz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4960" y="1660680"/>
            <a:ext cx="2759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von Isolier-zimmern zum Schlu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-senen Säcken ver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17Z</dcterms:modified>
  <cp:revision>50</cp:revision>
  <dc:subject/>
  <dc:title>Kein Folientitel</dc:title>
</cp:coreProperties>
</file>