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png" ContentType="image/png"/>
  <Override PartName="/ppt/media/image3.jpeg" ContentType="image/jpeg"/>
  <Override PartName="/ppt/media/image2.jpeg" ContentType="image/jpeg"/>
  <Override PartName="/ppt/media/image4.wmf" ContentType="image/x-wmf"/>
  <Override PartName="/ppt/media/image12.jpeg" ContentType="image/jpeg"/>
  <Override PartName="/ppt/media/image5.wmf" ContentType="image/x-wmf"/>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7.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1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85640"/>
          </a:xfrm>
          <a:prstGeom prst="rect">
            <a:avLst/>
          </a:prstGeom>
          <a:noFill/>
          <a:ln w="0">
            <a:noFill/>
          </a:ln>
        </p:spPr>
        <p:txBody>
          <a:bodyPr lIns="94680" rIns="94680" tIns="47520" bIns="47520" anchor="t">
            <a:noAutofit/>
          </a:bodyPr>
          <a:p>
            <a:pPr indent="0">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de-DE"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360"/>
            <a:ext cx="2971800" cy="485640"/>
          </a:xfrm>
          <a:prstGeom prst="rect">
            <a:avLst/>
          </a:prstGeom>
          <a:noFill/>
          <a:ln w="0">
            <a:noFill/>
          </a:ln>
        </p:spPr>
        <p:txBody>
          <a:bodyPr lIns="94680" rIns="94680" tIns="47520" bIns="47520" anchor="t">
            <a:noAutofit/>
          </a:bodyPr>
          <a:lstStyle>
            <a:lvl1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ffffff"/>
                </a:solidFill>
                <a:latin typeface="Arial"/>
              </a:defRPr>
            </a:lvl1pPr>
          </a:lstStyle>
          <a:p>
            <a: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de-DE"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001520" y="728640"/>
            <a:ext cx="4856040" cy="364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27880"/>
            <a:ext cx="2971800" cy="485640"/>
          </a:xfrm>
          <a:prstGeom prst="rect">
            <a:avLst/>
          </a:prstGeom>
          <a:noFill/>
          <a:ln w="0">
            <a:noFill/>
          </a:ln>
        </p:spPr>
        <p:txBody>
          <a:bodyPr lIns="94680" rIns="94680" tIns="47520" bIns="47520" anchor="b">
            <a:noAutofit/>
          </a:bodyPr>
          <a:lstStyle>
            <a:lvl1pPr indent="0">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ffffff"/>
                </a:solidFill>
                <a:latin typeface="Arial"/>
              </a:defRPr>
            </a:lvl1pPr>
          </a:lstStyle>
          <a:p>
            <a:pPr indent="0">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de-DE"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9227880"/>
            <a:ext cx="2971800" cy="485640"/>
          </a:xfrm>
          <a:prstGeom prst="rect">
            <a:avLst/>
          </a:prstGeom>
          <a:noFill/>
          <a:ln w="0">
            <a:noFill/>
          </a:ln>
        </p:spPr>
        <p:txBody>
          <a:bodyPr lIns="94680" rIns="94680" tIns="47520" bIns="47520" anchor="b">
            <a:noAutofit/>
          </a:bodyPr>
          <a:lstStyle>
            <a:lvl1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ffffff"/>
                </a:solidFill>
                <a:latin typeface="Arial"/>
              </a:defRPr>
            </a:lvl1pPr>
          </a:lstStyle>
          <a:p>
            <a: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AE883695-6027-4540-85C5-4B0154A1F6A2}" type="slidenum">
              <a:rPr b="0" lang="de-DE"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001880" y="728640"/>
            <a:ext cx="4856040" cy="3641760"/>
          </a:xfrm>
          <a:prstGeom prst="rect">
            <a:avLst/>
          </a:prstGeom>
          <a:ln w="0">
            <a:noFill/>
          </a:ln>
        </p:spPr>
      </p:sp>
      <p:sp>
        <p:nvSpPr>
          <p:cNvPr id="30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Rechnen Sie für diesen Vortrag ca. 30 – 45 Minuten + ca. 10 Min. Diskussionszeit.</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Ihr Vortrag wird sehr viel lebendiger, wenn Sie Anschauungsmaterial mitbringen und seine Anwendung demonstrieren:</a:t>
            </a:r>
            <a:br>
              <a:rPr sz="1400"/>
            </a:br>
            <a:r>
              <a:rPr b="0" lang="de-DE" sz="1400" spc="-1" strike="noStrike">
                <a:solidFill>
                  <a:srgbClr val="000000"/>
                </a:solidFill>
                <a:latin typeface="Times New Roman"/>
              </a:rPr>
              <a:t>&gt; Händedesinfektionsmittel</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Schutzhandschuhe, Schutzschürze, Schutzkittel</a:t>
            </a:r>
            <a:br>
              <a:rPr sz="1400"/>
            </a:br>
            <a:r>
              <a:rPr b="0" lang="de-DE" sz="1400" spc="-1" strike="noStrike">
                <a:solidFill>
                  <a:srgbClr val="000000"/>
                </a:solidFill>
                <a:latin typeface="Times New Roman"/>
              </a:rPr>
              <a:t>   Mund-Nasenschutz</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r>
              <a:rPr b="0" lang="de-DE" sz="1400" spc="-1" strike="noStrike">
                <a:solidFill>
                  <a:srgbClr val="000000"/>
                </a:solidFill>
                <a:latin typeface="Times New Roman"/>
              </a:rPr>
              <a:t>&gt; Behältnis zur Entsorgung von kontaminierten Abfällen</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001880" y="728640"/>
            <a:ext cx="4856040" cy="3641760"/>
          </a:xfrm>
          <a:prstGeom prst="rect">
            <a:avLst/>
          </a:prstGeom>
          <a:ln w="0">
            <a:noFill/>
          </a:ln>
        </p:spPr>
      </p:sp>
      <p:sp>
        <p:nvSpPr>
          <p:cNvPr id="31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ie Meldung an das GA ist aber nur notwendig, wenn 2 oder mehr Fälle im zeitlichen Zusammenhang offensichtlich im Heim entstanden sind, nicht etwa, wenn sich mehrere Fälle im Heim aufhalt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Mit dem Bewohner sollte offen über die Handhabung der Informationsweitergabe gesprochen werden. Jede Information gegenüber Dritten setzt sein Einverständnis voraus.</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Die oft zu beobachtende Overall-Vermummung von Rettungskräften ist nicht notwendig. Details stehen in den NLGA-Empfehlungen für den Rettungsdienst. </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001880" y="728640"/>
            <a:ext cx="4856040" cy="3641760"/>
          </a:xfrm>
          <a:prstGeom prst="rect">
            <a:avLst/>
          </a:prstGeom>
          <a:ln w="0">
            <a:noFill/>
          </a:ln>
        </p:spPr>
      </p:sp>
      <p:sp>
        <p:nvSpPr>
          <p:cNvPr id="320"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Gemeint sind Erkrankungen wie Neurodermitis oder Schuppenflechte (Psoriasis).</a:t>
            </a:r>
            <a:br>
              <a:rPr sz="1400"/>
            </a:br>
            <a:r>
              <a:rPr b="0" lang="en-US" sz="1400" spc="-1" strike="noStrike">
                <a:solidFill>
                  <a:srgbClr val="000000"/>
                </a:solidFill>
                <a:latin typeface="Times New Roman"/>
              </a:rPr>
              <a:t>Schwangere Mitarbeiterinnen sollen grundsätzlich keine kolonisierten bzw. infizierten Bewohner betreuen, da ist MRSA keine Ausnahme.</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001880" y="728640"/>
            <a:ext cx="4856040" cy="3641760"/>
          </a:xfrm>
          <a:prstGeom prst="rect">
            <a:avLst/>
          </a:prstGeom>
          <a:ln w="0">
            <a:noFill/>
          </a:ln>
        </p:spPr>
      </p:sp>
      <p:sp>
        <p:nvSpPr>
          <p:cNvPr id="32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Hier bitte kurz erklären, welche Leistungen die Unterhalts- und welche die Grundreinigung umfasst. Wenn Sie zur Flächenreinigung eine 3-Eimer-Methode verwenden (was meist der Fall ist) bitte auch erläutern, welche Eimerfarbe mit welchen Bereichen (Möbel, Sanitär, WC) in Verbindung steh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Hier bitte Mittel und Einwirkzeit nenn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Hier bitte kurz erklären, welche Leistungen die Schlussdesinfektion umfass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Wenn sich die Wäsche oder Kleidung nicht bei 60°C waschen lässt kann vorgeschlagen werden, sie mit dem sonst vorgesehenen Programmen separat von anderer Wäsche zu waschen (was bei 60°C nicht nötig wäre). Das ist insofern gut praktizierbar, weil die Wäsche von MRSA-Bewohnern ohnehin gesondert im Zimmer gesammelt wird. </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001880" y="728640"/>
            <a:ext cx="4856040" cy="3641760"/>
          </a:xfrm>
          <a:prstGeom prst="rect">
            <a:avLst/>
          </a:prstGeom>
          <a:ln w="0">
            <a:noFill/>
          </a:ln>
        </p:spPr>
      </p:sp>
      <p:sp>
        <p:nvSpPr>
          <p:cNvPr id="32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ieser Punkt ist Ermessenssache. Bei jedem neuen Bewohner einen Abstrich zu entnehmen ist ebenso fraglich, wie das Ignorieren von Risikofaktoren. Beispiele für Indikationen:</a:t>
            </a:r>
            <a:br>
              <a:rPr sz="1400"/>
            </a:br>
            <a:br>
              <a:rPr sz="1400"/>
            </a:br>
            <a:r>
              <a:rPr b="0" lang="de-DE" sz="1400" spc="-1" strike="noStrike">
                <a:solidFill>
                  <a:srgbClr val="000000"/>
                </a:solidFill>
                <a:latin typeface="Times New Roman"/>
              </a:rPr>
              <a:t>Ein neuer Bewohner soll aufgenommen werden. Nach eigenem Bekunden wurde vor einem Jahr während eines Reha-Aufenthaltes MRSA in der Nase ermittelt, worauf eine Sanierung begonnen wurde. Der Bewohner weiß aber nichts über Kontrollabstriche bzw. den Erfolg dieser Bemühungen zu berichten.</a:t>
            </a:r>
            <a:br>
              <a:rPr sz="1400"/>
            </a:br>
            <a:br>
              <a:rPr sz="1400"/>
            </a:br>
            <a:r>
              <a:rPr b="0" lang="de-DE" sz="1400" spc="-1" strike="noStrike">
                <a:solidFill>
                  <a:srgbClr val="000000"/>
                </a:solidFill>
                <a:latin typeface="Times New Roman"/>
              </a:rPr>
              <a:t>Ein bislang MRSA-freier Bewohner kommt nach einem langen Klinikaufenthalt (Apoplex) wieder zurück. Er hat ein chronisches Unterschenkelgeschwür und wurde mit einem Tracheostoma versorgt. Auf der betreffenden Pflegestation waren zur gleichen Zeit mehrere MRSA-Patienten untergebracht. Mikrobiologische Befunde liegen aber über diesen Bewohner nicht vor.</a:t>
            </a:r>
            <a:endParaRPr b="0" lang="en-US" sz="1400" spc="-1" strike="noStrike">
              <a:solidFill>
                <a:srgbClr val="000000"/>
              </a:solidFill>
              <a:latin typeface="Times New Roman"/>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Betrifft vor allem den Fall, dass der neu aufzunehmende Bewohner zwar MRSA-Träger sein soll, aktuelle Befunde (&lt; 6 Monate) aber nicht verfügbar sind.</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001880" y="728640"/>
            <a:ext cx="4856040" cy="3641760"/>
          </a:xfrm>
          <a:prstGeom prst="rect">
            <a:avLst/>
          </a:prstGeom>
          <a:ln w="0">
            <a:noFill/>
          </a:ln>
        </p:spPr>
      </p:sp>
      <p:sp>
        <p:nvSpPr>
          <p:cNvPr id="32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Es gibt unterschiedliche Schemata, ohne dass gesagt werden kann, welche am vorteilhaftesten sind. Bitte die Aussagen Ihren Gepflogenheiten anpassen.</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001880" y="728640"/>
            <a:ext cx="4856040" cy="3641760"/>
          </a:xfrm>
          <a:prstGeom prst="rect">
            <a:avLst/>
          </a:prstGeom>
          <a:ln w="0">
            <a:noFill/>
          </a:ln>
        </p:spPr>
      </p:sp>
      <p:sp>
        <p:nvSpPr>
          <p:cNvPr id="32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Von den aufgeführten Substanzen konnte nur bei den aufgeführten Antibiotika eine erfolgreiche Wirkung nachgewiesen werden. Turixin ist das am häufigsten verwendete Präparat.</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Sog. „Scheinsanierungen“ sind häufig. Damit ist gemeint, dass der betreffende Bewohner Wochen oder Monate nach einer anscheinend erfolgreichen Sanierung wieder MRSA-positiv ist. Nach einem Monat und nach einem halben Jahr sollte daher nochmals kontrolliert werden.</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001880" y="728640"/>
            <a:ext cx="4856040" cy="3641760"/>
          </a:xfrm>
          <a:prstGeom prst="rect">
            <a:avLst/>
          </a:prstGeom>
          <a:ln w="0">
            <a:noFill/>
          </a:ln>
        </p:spPr>
      </p:sp>
      <p:sp>
        <p:nvSpPr>
          <p:cNvPr id="330"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001880" y="728640"/>
            <a:ext cx="4856040" cy="3641760"/>
          </a:xfrm>
          <a:prstGeom prst="rect">
            <a:avLst/>
          </a:prstGeom>
          <a:ln w="0">
            <a:noFill/>
          </a:ln>
        </p:spPr>
      </p:sp>
      <p:sp>
        <p:nvSpPr>
          <p:cNvPr id="33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001880" y="728640"/>
            <a:ext cx="4856040" cy="3641760"/>
          </a:xfrm>
          <a:prstGeom prst="rect">
            <a:avLst/>
          </a:prstGeom>
          <a:ln w="0">
            <a:noFill/>
          </a:ln>
        </p:spPr>
      </p:sp>
      <p:sp>
        <p:nvSpPr>
          <p:cNvPr id="30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Meist besteht die Vorstellung, dass Mikroorganismen entweder krankmachen oder nicht (also „böse“ oder „gut“ sind) und dass krankmachende Keime von außen herangetragen werden.</a:t>
            </a:r>
            <a:br>
              <a:rPr sz="1400"/>
            </a:br>
            <a:r>
              <a:rPr b="0" lang="en-US" sz="1400" spc="-1" strike="noStrike">
                <a:solidFill>
                  <a:srgbClr val="000000"/>
                </a:solidFill>
                <a:latin typeface="Times New Roman"/>
              </a:rPr>
              <a:t>Für das Verständnis von MRSA muss aber klar werden, dass Floraanteile nur unter bestimmten Umständen krankmachen und dass es sich hierbei auch um die eigenen Florabestandteile handeln kann (= „endogene Infektion“)  </a:t>
            </a: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001880" y="728640"/>
            <a:ext cx="4856040" cy="3641760"/>
          </a:xfrm>
          <a:prstGeom prst="rect">
            <a:avLst/>
          </a:prstGeom>
          <a:ln w="0">
            <a:noFill/>
          </a:ln>
        </p:spPr>
      </p:sp>
      <p:sp>
        <p:nvSpPr>
          <p:cNvPr id="33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001880" y="728640"/>
            <a:ext cx="4856040" cy="3641760"/>
          </a:xfrm>
          <a:prstGeom prst="rect">
            <a:avLst/>
          </a:prstGeom>
          <a:ln w="0">
            <a:noFill/>
          </a:ln>
        </p:spPr>
      </p:sp>
      <p:sp>
        <p:nvSpPr>
          <p:cNvPr id="33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001880" y="728640"/>
            <a:ext cx="4856040" cy="3641760"/>
          </a:xfrm>
          <a:prstGeom prst="rect">
            <a:avLst/>
          </a:prstGeom>
          <a:ln w="0">
            <a:noFill/>
          </a:ln>
        </p:spPr>
      </p:sp>
      <p:sp>
        <p:nvSpPr>
          <p:cNvPr id="33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Das Verschlucken von antiseptischen Substanzen wie PVP-Jod, Polyhexanidlösungen oder Octenidin kann unkalkulierbare Folgen haben. Die Anwendung in der Mundhöhle sollte daher nur bei Bewohnern erfolgen, die keine Bewußtseinseinschränkungen oder andere aspirationsfördernde Faktoren aufweis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Antiseptika hinterlassen Rückstände und können dadurch ein unangenehmes Gefühl auf der Haut erzeugen, was aber normal ist. Wenn sich aber Hautveränderungen, wie z.B. Rötung oder Quaddelbildung ergeben bzw. wenn der Bewohner über starken Juckreiz oder Brennen klagt sollte die Anwendung abgebrochen und mit mit dem behandelnden Arzt Kontakt aufgenommen werden.  </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001880" y="728640"/>
            <a:ext cx="4856040" cy="3641760"/>
          </a:xfrm>
          <a:prstGeom prst="rect">
            <a:avLst/>
          </a:prstGeom>
          <a:ln w="0">
            <a:noFill/>
          </a:ln>
        </p:spPr>
      </p:sp>
      <p:sp>
        <p:nvSpPr>
          <p:cNvPr id="30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er Begriff „Kolonisation“ ist allgemein wenig bekannt, in diesem Zusammenhang aber wichtig. Eine Infektion ist mit 3 Merkmalen verbunden:</a:t>
            </a:r>
            <a:br>
              <a:rPr sz="1400"/>
            </a:br>
            <a:r>
              <a:rPr b="0" lang="en-US" sz="1400" spc="-1" strike="noStrike">
                <a:solidFill>
                  <a:srgbClr val="000000"/>
                </a:solidFill>
                <a:latin typeface="Times New Roman"/>
              </a:rPr>
              <a:t>- Aufnahme von Krankheitserregern,</a:t>
            </a:r>
            <a:br>
              <a:rPr sz="1400"/>
            </a:br>
            <a:r>
              <a:rPr b="0" lang="en-US" sz="1400" spc="-1" strike="noStrike">
                <a:solidFill>
                  <a:srgbClr val="000000"/>
                </a:solidFill>
                <a:latin typeface="Times New Roman"/>
              </a:rPr>
              <a:t>- deren Vermehrung in einem Wirt und </a:t>
            </a:r>
            <a:br>
              <a:rPr sz="1400"/>
            </a:br>
            <a:r>
              <a:rPr b="0" lang="en-US" sz="1400" spc="-1" strike="noStrike">
                <a:solidFill>
                  <a:srgbClr val="000000"/>
                </a:solidFill>
                <a:latin typeface="Times New Roman"/>
              </a:rPr>
              <a:t>- Auslösung von Krankheitszeichen (Symptomen).</a:t>
            </a:r>
            <a:br>
              <a:rPr sz="1400"/>
            </a:br>
            <a:r>
              <a:rPr b="0" lang="en-US" sz="1400" spc="-1" strike="noStrike">
                <a:solidFill>
                  <a:srgbClr val="000000"/>
                </a:solidFill>
                <a:latin typeface="Times New Roman"/>
              </a:rPr>
              <a:t>Bei einer Kolonisation fehlt die Auslösung von Symptomen. Der wesentliche Unterschied besteht also darin, dass eine Infektion als Krankheit anzusehen ist, eine Kolonisation dagegen nicht. </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001880" y="728640"/>
            <a:ext cx="4856040" cy="3641760"/>
          </a:xfrm>
          <a:prstGeom prst="rect">
            <a:avLst/>
          </a:prstGeom>
          <a:ln w="0">
            <a:noFill/>
          </a:ln>
        </p:spPr>
      </p:sp>
      <p:sp>
        <p:nvSpPr>
          <p:cNvPr id="308"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Bitte darauf hinweisen, dass c-MRSA zwar gefährlicher aber auch sehr viel seltener als h-MRSA ist.</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001880" y="728640"/>
            <a:ext cx="4856040" cy="3641760"/>
          </a:xfrm>
          <a:prstGeom prst="rect">
            <a:avLst/>
          </a:prstGeom>
          <a:ln w="0">
            <a:noFill/>
          </a:ln>
        </p:spPr>
      </p:sp>
      <p:sp>
        <p:nvSpPr>
          <p:cNvPr id="310"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iese Grafik soll verdeutlichen, dass das häufige Vorkommen von MRSA von sehr unterschiedlichen Faktoren abhängig ist.</a:t>
            </a:r>
            <a:br>
              <a:rPr sz="1400"/>
            </a:br>
            <a:r>
              <a:rPr b="0" lang="en-US" sz="1400" spc="-1" strike="noStrike">
                <a:solidFill>
                  <a:srgbClr val="000000"/>
                </a:solidFill>
                <a:latin typeface="Times New Roman"/>
              </a:rPr>
              <a:t>Es sollte verstanden werden, dass Altenpflegeeinrichtungen zu den bekannten Verbreitungsorten gehören, risikobehaftete Menschen beherbergen und Arbeitsabläufe durchführen, die zur Übertragung von MRSA besonders gut geeignet sind. </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001880" y="728640"/>
            <a:ext cx="4856040" cy="3641760"/>
          </a:xfrm>
          <a:prstGeom prst="rect">
            <a:avLst/>
          </a:prstGeom>
          <a:ln w="0">
            <a:noFill/>
          </a:ln>
        </p:spPr>
      </p:sp>
      <p:sp>
        <p:nvSpPr>
          <p:cNvPr id="312"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Z.Zt. (2007) sind ca. 20 – 30% der Abstriche MRSA-positiv, bei denen Staphylococcus aureus ermittelt wurd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Das Problem ist im klinischen Bereich einfach dadurch größer, weil dort sehr viele sog. „invasive“ Maßnahmen, wie Operation, Beatmung, Infusionstherapie etc. durchgeführt werden. Hier kann es naturgemäß leicht zu Infektionen kommen, die im Falle von MRSA nur sehr schlecht therapiert werden könne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Im Krankenhaus ist die rechtliche Basis der Behandlungsvertrag, welcher u.a. die Umsetzung von Isolierungsmaßnahmen ermöglicht. Der Heimvertrag stellt eher eine Art Mietvertrag dar; Einschränkungen des Wohnraumes, der persönlichen Freiheit oder der vertraglich zugesicherten Leistungen sind nicht ohne Weiteres möglich und können allenfalls durch behördliches Eingreifen (Gesundheitsamt) bewirkt werden.</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001880" y="728640"/>
            <a:ext cx="4856040" cy="3641760"/>
          </a:xfrm>
          <a:prstGeom prst="rect">
            <a:avLst/>
          </a:prstGeom>
          <a:ln w="0">
            <a:noFill/>
          </a:ln>
        </p:spPr>
      </p:sp>
      <p:sp>
        <p:nvSpPr>
          <p:cNvPr id="314"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Die nachfolgenden Ausführungen orientieren sich vor allem an den NLGA-Empfehlungen</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001880" y="728640"/>
            <a:ext cx="4856040" cy="3641760"/>
          </a:xfrm>
          <a:prstGeom prst="rect">
            <a:avLst/>
          </a:prstGeom>
          <a:ln w="0">
            <a:noFill/>
          </a:ln>
        </p:spPr>
      </p:sp>
      <p:sp>
        <p:nvSpPr>
          <p:cNvPr id="316" name="PlaceHolder 2"/>
          <p:cNvSpPr>
            <a:spLocks noGrp="1"/>
          </p:cNvSpPr>
          <p:nvPr>
            <p:ph type="body"/>
          </p:nvPr>
        </p:nvSpPr>
        <p:spPr>
          <a:xfrm>
            <a:off x="914400" y="4613400"/>
            <a:ext cx="5027760" cy="4371840"/>
          </a:xfrm>
          <a:prstGeom prst="rect">
            <a:avLst/>
          </a:prstGeom>
          <a:noFill/>
          <a:ln w="0">
            <a:noFill/>
          </a:ln>
        </p:spPr>
        <p:txBody>
          <a:bodyPr lIns="94680" rIns="94680" tIns="47520" bIns="47520" anchor="t">
            <a:noAutofit/>
          </a:bodyPr>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1: Aerogene Übertragungen (also Übertragungen durch den Luftweg) haben meist etwas mit Tröpfchen, selten etwas mit Staub und praktisch nie etwas mit Luft als solches zu tun.</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2: Kontaktübertragungen kommen fast immer durch Hände zustande; entweder durch direkte Berührungen (z.B. Handkontakt mit Wunde) oder durch Berührung von Gegenständen, die bei ihrem Gebrauch Keime weitergeben (z.B. steril zu verwendende Instrumente).</a:t>
            </a: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22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3: Die hier genannten Erkrankungen kommen natürlich unterschiedlich oft vor. Häufig sind die zuerst genannten Infektionen.</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0490F-89B7-4FD7-AF2D-BDC58E02F7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61266-1147-470A-91A6-86499A320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BA8A7D-2E4A-4725-B9F7-B1CEAEBA1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5C23FE-2FED-4582-A5C5-A691DA0B9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D1615-2E5C-41E1-901C-54430C91A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63EE3-A25D-4CE7-AE9B-8FFDF0DEB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750D0-2FCB-45A7-9FCF-151D96DAD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78EB5-29F3-4C7F-B81F-EE5A6AD16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DF380-6507-44BA-8DBC-BA83B7C30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170CA-CD42-4AEC-B725-B5A169A4A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91CF3-450E-4259-BF84-D29708539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F05BC-AE2D-494A-9A29-40C70C4CAD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D4478-2250-45A3-B967-FD0DEB6256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210760" y="1112760"/>
            <a:ext cx="1976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RSA</a:t>
            </a:r>
            <a:endParaRPr b="0" lang="en-US" sz="4800" spc="-1" strike="noStrike">
              <a:solidFill>
                <a:srgbClr val="000000"/>
              </a:solidFill>
              <a:latin typeface="Times New Roman"/>
            </a:endParaRPr>
          </a:p>
        </p:txBody>
      </p:sp>
      <p:sp>
        <p:nvSpPr>
          <p:cNvPr id="51" name=""/>
          <p:cNvSpPr/>
          <p:nvPr/>
        </p:nvSpPr>
        <p:spPr>
          <a:xfrm>
            <a:off x="2195280" y="2351160"/>
            <a:ext cx="5909040" cy="446760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undlag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elwerke</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cherung des Informationsflusses</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gienemaßnahmen</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mittlung und Kontrolle</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nierung</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en über weitere</a:t>
            </a:r>
            <a:br>
              <a:rPr sz="2800"/>
            </a:br>
            <a:r>
              <a:rPr b="0" lang="en-US" sz="2800" spc="-1" strike="noStrike">
                <a:solidFill>
                  <a:srgbClr val="000000"/>
                </a:solidFill>
                <a:latin typeface="Arial"/>
              </a:rPr>
              <a:t> multiresistente Infektionserreger</a:t>
            </a:r>
            <a:endParaRPr b="0" lang="en-US" sz="2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cherung des Informationsflusses / Transporte</a:t>
            </a:r>
            <a:endParaRPr b="0" lang="en-US" sz="2400" spc="-1" strike="noStrike">
              <a:solidFill>
                <a:srgbClr val="000000"/>
              </a:solidFill>
              <a:latin typeface="Times New Roman"/>
            </a:endParaRPr>
          </a:p>
        </p:txBody>
      </p:sp>
      <p:sp>
        <p:nvSpPr>
          <p:cNvPr id="11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13" name=""/>
          <p:cNvSpPr/>
          <p:nvPr/>
        </p:nvSpPr>
        <p:spPr>
          <a:xfrm>
            <a:off x="597960" y="898560"/>
            <a:ext cx="6630120" cy="900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Meldepflicht</a:t>
            </a:r>
            <a:endParaRPr b="0" lang="en-US" sz="1600" spc="-1" strike="noStrike">
              <a:solidFill>
                <a:srgbClr val="000000"/>
              </a:solidFill>
              <a:latin typeface="Times New Roman"/>
            </a:endParaRPr>
          </a:p>
          <a:p>
            <a:pPr marL="187200" indent="-18720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zelfälle von MRSA sind nicht meldepflichtig</a:t>
            </a:r>
            <a:endParaRPr b="0" lang="en-US" sz="1600" spc="-1" strike="noStrike">
              <a:solidFill>
                <a:srgbClr val="000000"/>
              </a:solidFill>
              <a:latin typeface="Times New Roman"/>
            </a:endParaRPr>
          </a:p>
          <a:p>
            <a:pPr marL="187200" indent="-187200">
              <a:lnSpc>
                <a:spcPct val="10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RSA-Ausbrüche müssen an das Gesundheitsamt gemeldet werden.</a:t>
            </a:r>
            <a:endParaRPr b="0" lang="en-US" sz="1600" spc="-1" strike="noStrike">
              <a:solidFill>
                <a:srgbClr val="000000"/>
              </a:solidFill>
              <a:latin typeface="Times New Roman"/>
            </a:endParaRPr>
          </a:p>
        </p:txBody>
      </p:sp>
      <p:sp>
        <p:nvSpPr>
          <p:cNvPr id="114" name=""/>
          <p:cNvSpPr/>
          <p:nvPr/>
        </p:nvSpPr>
        <p:spPr>
          <a:xfrm>
            <a:off x="609480" y="1994040"/>
            <a:ext cx="6050160" cy="17787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Generell zu informieren sind:</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etreuende und behandelnde Person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itarbeiter des hauswirtschaftlichen Dienstes.</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esucher (wenn Bewohner einverstand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gf. Einweisung betreffender Bewohner und weiterer Personen in die entsprechenden Hygieneregeln (speziell Durchführung der Händedesinfektion)</a:t>
            </a:r>
            <a:endParaRPr b="0" lang="en-US" sz="1600" spc="-1" strike="noStrike">
              <a:solidFill>
                <a:srgbClr val="000000"/>
              </a:solidFill>
              <a:latin typeface="Times New Roman"/>
            </a:endParaRPr>
          </a:p>
        </p:txBody>
      </p:sp>
      <p:sp>
        <p:nvSpPr>
          <p:cNvPr id="115" name=""/>
          <p:cNvSpPr/>
          <p:nvPr/>
        </p:nvSpPr>
        <p:spPr>
          <a:xfrm>
            <a:off x="609480" y="4003560"/>
            <a:ext cx="5618160" cy="24735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Bei Verlegungen und Transpor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ohnbereichsleitung informiert weiterbetreuende Institutionen frühzeitig.</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ichst spez. Überleitungsbogen verwend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Zum Transport Bewohner frisch einkleiden. Kurz vor dem Transport frischer Verband.</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Für MRSA-positive Bewohner mit Atemwegsinfektionen Mund-Nasenschutz. </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Pflegerische Begleitpersonen tragen Schutzhandschuhe und Schutzkittel.</a:t>
            </a:r>
            <a:endParaRPr b="0" lang="en-US" sz="1600" spc="-1" strike="noStrike">
              <a:solidFill>
                <a:srgbClr val="000000"/>
              </a:solidFill>
              <a:latin typeface="Times New Roman"/>
            </a:endParaRPr>
          </a:p>
        </p:txBody>
      </p:sp>
      <p:pic>
        <p:nvPicPr>
          <p:cNvPr id="116" name="" descr=""/>
          <p:cNvPicPr/>
          <p:nvPr/>
        </p:nvPicPr>
        <p:blipFill>
          <a:blip r:embed="rId1"/>
          <a:stretch/>
        </p:blipFill>
        <p:spPr>
          <a:xfrm>
            <a:off x="6156360" y="2349360"/>
            <a:ext cx="2862360" cy="4104000"/>
          </a:xfrm>
          <a:prstGeom prst="rect">
            <a:avLst/>
          </a:prstGeom>
          <a:ln w="9360">
            <a:solidFill>
              <a:srgbClr val="000000"/>
            </a:solidFill>
            <a:miter/>
          </a:ln>
        </p:spPr>
      </p:pic>
    </p:spTree>
  </p:cSld>
  <p:transition>
    <p:zoom dir="out"/>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5">
                                  <p:stCondLst>
                                    <p:cond delay="0"/>
                                  </p:stCondLst>
                                  <p:childTnLst>
                                    <p:set>
                                      <p:cBhvr>
                                        <p:cTn id="108" dur="1" fill="hold">
                                          <p:stCondLst>
                                            <p:cond delay="0"/>
                                          </p:stCondLst>
                                        </p:cTn>
                                        <p:tgtEl>
                                          <p:spTgt spid="114"/>
                                        </p:tgtEl>
                                        <p:attrNameLst>
                                          <p:attrName>style.visibility</p:attrName>
                                        </p:attrNameLst>
                                      </p:cBhvr>
                                      <p:to>
                                        <p:strVal val="visible"/>
                                      </p:to>
                                    </p:set>
                                    <p:animEffect filter="blinds(vertical)" transition="in">
                                      <p:cBhvr additive="repl">
                                        <p:cTn id="109" dur="500"/>
                                        <p:tgtEl>
                                          <p:spTgt spid="11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5">
                                  <p:stCondLst>
                                    <p:cond delay="0"/>
                                  </p:stCondLst>
                                  <p:childTnLst>
                                    <p:set>
                                      <p:cBhvr>
                                        <p:cTn id="113" dur="1" fill="hold">
                                          <p:stCondLst>
                                            <p:cond delay="0"/>
                                          </p:stCondLst>
                                        </p:cTn>
                                        <p:tgtEl>
                                          <p:spTgt spid="115"/>
                                        </p:tgtEl>
                                        <p:attrNameLst>
                                          <p:attrName>style.visibility</p:attrName>
                                        </p:attrNameLst>
                                      </p:cBhvr>
                                      <p:to>
                                        <p:strVal val="visible"/>
                                      </p:to>
                                    </p:set>
                                    <p:animEffect filter="blinds(vertical)" transition="in">
                                      <p:cBhvr additive="repl">
                                        <p:cTn id="114" dur="500"/>
                                        <p:tgtEl>
                                          <p:spTgt spid="115"/>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2">
                                  <p:stCondLst>
                                    <p:cond delay="0"/>
                                  </p:stCondLst>
                                  <p:childTnLst>
                                    <p:set>
                                      <p:cBhvr>
                                        <p:cTn id="118" dur="1" fill="hold">
                                          <p:stCondLst>
                                            <p:cond delay="0"/>
                                          </p:stCondLst>
                                        </p:cTn>
                                        <p:tgtEl>
                                          <p:spTgt spid="116"/>
                                        </p:tgtEl>
                                        <p:attrNameLst>
                                          <p:attrName>style.visibility</p:attrName>
                                        </p:attrNameLst>
                                      </p:cBhvr>
                                      <p:to>
                                        <p:strVal val="visible"/>
                                      </p:to>
                                    </p:set>
                                    <p:anim calcmode="lin" valueType="num">
                                      <p:cBhvr additive="base">
                                        <p:cTn id="119" dur="500" fill="hold"/>
                                        <p:tgtEl>
                                          <p:spTgt spid="116"/>
                                        </p:tgtEl>
                                        <p:attrNameLst>
                                          <p:attrName>ppt_x</p:attrName>
                                        </p:attrNameLst>
                                      </p:cBhvr>
                                      <p:tavLst>
                                        <p:tav tm="0">
                                          <p:val>
                                            <p:strVal val="1+#ppt_w/2"/>
                                          </p:val>
                                        </p:tav>
                                        <p:tav tm="100000">
                                          <p:val>
                                            <p:strVal val="#ppt_x"/>
                                          </p:val>
                                        </p:tav>
                                      </p:tavLst>
                                    </p:anim>
                                    <p:anim calcmode="lin" valueType="num">
                                      <p:cBhvr additive="base">
                                        <p:cTn id="120"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terbringung</a:t>
            </a:r>
            <a:endParaRPr b="0" lang="en-US" sz="2400" spc="-1" strike="noStrike">
              <a:solidFill>
                <a:srgbClr val="000000"/>
              </a:solidFill>
              <a:latin typeface="Times New Roman"/>
            </a:endParaRPr>
          </a:p>
        </p:txBody>
      </p:sp>
      <p:sp>
        <p:nvSpPr>
          <p:cNvPr id="11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19" name=""/>
          <p:cNvSpPr/>
          <p:nvPr/>
        </p:nvSpPr>
        <p:spPr>
          <a:xfrm>
            <a:off x="111240" y="981000"/>
            <a:ext cx="2514600" cy="1219320"/>
          </a:xfrm>
          <a:prstGeom prst="flowChartDecision">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RSA-Infek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ene Wund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 Zugänge?</a:t>
            </a:r>
            <a:endParaRPr b="0" lang="en-US" sz="1400" spc="-1" strike="noStrike">
              <a:solidFill>
                <a:srgbClr val="000000"/>
              </a:solidFill>
              <a:latin typeface="Times New Roman"/>
            </a:endParaRPr>
          </a:p>
        </p:txBody>
      </p:sp>
      <p:grpSp>
        <p:nvGrpSpPr>
          <p:cNvPr id="120" name=""/>
          <p:cNvGrpSpPr/>
          <p:nvPr/>
        </p:nvGrpSpPr>
        <p:grpSpPr>
          <a:xfrm>
            <a:off x="2664000" y="1120680"/>
            <a:ext cx="3047400" cy="914400"/>
            <a:chOff x="2664000" y="1120680"/>
            <a:chExt cx="3047400" cy="914400"/>
          </a:xfrm>
        </p:grpSpPr>
        <p:sp>
          <p:nvSpPr>
            <p:cNvPr id="121" name=""/>
            <p:cNvSpPr/>
            <p:nvPr/>
          </p:nvSpPr>
          <p:spPr>
            <a:xfrm>
              <a:off x="2892240" y="1425600"/>
              <a:ext cx="609120" cy="30456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a:t>
              </a:r>
              <a:endParaRPr b="0" lang="en-US" sz="1600" spc="-1" strike="noStrike">
                <a:solidFill>
                  <a:srgbClr val="000000"/>
                </a:solidFill>
                <a:latin typeface="Times New Roman"/>
              </a:endParaRPr>
            </a:p>
          </p:txBody>
        </p:sp>
        <p:sp>
          <p:nvSpPr>
            <p:cNvPr id="122" name=""/>
            <p:cNvSpPr/>
            <p:nvPr/>
          </p:nvSpPr>
          <p:spPr>
            <a:xfrm>
              <a:off x="3806640" y="1120680"/>
              <a:ext cx="1904760" cy="914400"/>
            </a:xfrm>
            <a:prstGeom prst="flowChartDecision">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zelzimm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öglich?</a:t>
              </a:r>
              <a:endParaRPr b="0" lang="en-US" sz="1400" spc="-1" strike="noStrike">
                <a:solidFill>
                  <a:srgbClr val="000000"/>
                </a:solidFill>
                <a:latin typeface="Times New Roman"/>
              </a:endParaRPr>
            </a:p>
          </p:txBody>
        </p:sp>
        <p:cxnSp>
          <p:nvCxnSpPr>
            <p:cNvPr id="123" name=""/>
            <p:cNvCxnSpPr>
              <a:stCxn id="119" idx="3"/>
              <a:endCxn id="121" idx="1"/>
            </p:cNvCxnSpPr>
            <p:nvPr/>
          </p:nvCxnSpPr>
          <p:spPr>
            <a:xfrm>
              <a:off x="2664000" y="1577520"/>
              <a:ext cx="228960" cy="1080"/>
            </a:xfrm>
            <a:prstGeom prst="straightConnector1">
              <a:avLst/>
            </a:prstGeom>
            <a:ln w="19080">
              <a:solidFill>
                <a:srgbClr val="000000"/>
              </a:solidFill>
              <a:miter/>
              <a:tailEnd len="med" type="triangle" w="med"/>
            </a:ln>
          </p:spPr>
        </p:cxnSp>
        <p:cxnSp>
          <p:nvCxnSpPr>
            <p:cNvPr id="124" name=""/>
            <p:cNvCxnSpPr>
              <a:stCxn id="121" idx="3"/>
              <a:endCxn id="122" idx="1"/>
            </p:cNvCxnSpPr>
            <p:nvPr/>
          </p:nvCxnSpPr>
          <p:spPr>
            <a:xfrm>
              <a:off x="3501720" y="1577520"/>
              <a:ext cx="305280" cy="1080"/>
            </a:xfrm>
            <a:prstGeom prst="straightConnector1">
              <a:avLst/>
            </a:prstGeom>
            <a:ln w="19080">
              <a:solidFill>
                <a:srgbClr val="000000"/>
              </a:solidFill>
              <a:miter/>
              <a:tailEnd len="med" type="triangle" w="med"/>
            </a:ln>
          </p:spPr>
        </p:cxnSp>
      </p:grpSp>
      <p:grpSp>
        <p:nvGrpSpPr>
          <p:cNvPr id="125" name=""/>
          <p:cNvGrpSpPr/>
          <p:nvPr/>
        </p:nvGrpSpPr>
        <p:grpSpPr>
          <a:xfrm>
            <a:off x="5721480" y="1268280"/>
            <a:ext cx="2974680" cy="606600"/>
            <a:chOff x="5721480" y="1268280"/>
            <a:chExt cx="2974680" cy="606600"/>
          </a:xfrm>
        </p:grpSpPr>
        <p:sp>
          <p:nvSpPr>
            <p:cNvPr id="126" name=""/>
            <p:cNvSpPr/>
            <p:nvPr/>
          </p:nvSpPr>
          <p:spPr>
            <a:xfrm>
              <a:off x="5940360" y="1425600"/>
              <a:ext cx="609840" cy="30492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a:t>
              </a:r>
              <a:endParaRPr b="0" lang="en-US" sz="1600" spc="-1" strike="noStrike">
                <a:solidFill>
                  <a:srgbClr val="000000"/>
                </a:solidFill>
                <a:latin typeface="Times New Roman"/>
              </a:endParaRPr>
            </a:p>
          </p:txBody>
        </p:sp>
        <p:sp>
          <p:nvSpPr>
            <p:cNvPr id="127" name=""/>
            <p:cNvSpPr/>
            <p:nvPr/>
          </p:nvSpPr>
          <p:spPr>
            <a:xfrm>
              <a:off x="7020000" y="1268280"/>
              <a:ext cx="1676160" cy="606600"/>
            </a:xfrm>
            <a:prstGeom prst="flowChartProcess">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bringung i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zelzimmer</a:t>
              </a:r>
              <a:endParaRPr b="0" lang="en-US" sz="1400" spc="-1" strike="noStrike">
                <a:solidFill>
                  <a:srgbClr val="000000"/>
                </a:solidFill>
                <a:latin typeface="Times New Roman"/>
              </a:endParaRPr>
            </a:p>
          </p:txBody>
        </p:sp>
        <p:cxnSp>
          <p:nvCxnSpPr>
            <p:cNvPr id="128" name=""/>
            <p:cNvCxnSpPr>
              <a:stCxn id="126" idx="3"/>
              <a:endCxn id="127" idx="1"/>
            </p:cNvCxnSpPr>
            <p:nvPr/>
          </p:nvCxnSpPr>
          <p:spPr>
            <a:xfrm flipV="1">
              <a:off x="6559560" y="1571040"/>
              <a:ext cx="451440" cy="6840"/>
            </a:xfrm>
            <a:prstGeom prst="straightConnector1">
              <a:avLst/>
            </a:prstGeom>
            <a:ln w="19080">
              <a:solidFill>
                <a:srgbClr val="000000"/>
              </a:solidFill>
              <a:miter/>
              <a:tailEnd len="med" type="triangle" w="med"/>
            </a:ln>
          </p:spPr>
        </p:cxnSp>
        <p:cxnSp>
          <p:nvCxnSpPr>
            <p:cNvPr id="129" name=""/>
            <p:cNvCxnSpPr>
              <a:stCxn id="122" idx="3"/>
              <a:endCxn id="126" idx="1"/>
            </p:cNvCxnSpPr>
            <p:nvPr/>
          </p:nvCxnSpPr>
          <p:spPr>
            <a:xfrm>
              <a:off x="5721480" y="1577520"/>
              <a:ext cx="210240" cy="1080"/>
            </a:xfrm>
            <a:prstGeom prst="straightConnector1">
              <a:avLst/>
            </a:prstGeom>
            <a:ln w="19080">
              <a:solidFill>
                <a:srgbClr val="000000"/>
              </a:solidFill>
              <a:miter/>
              <a:tailEnd len="med" type="triangle" w="med"/>
            </a:ln>
          </p:spPr>
        </p:cxnSp>
      </p:grpSp>
      <p:grpSp>
        <p:nvGrpSpPr>
          <p:cNvPr id="130" name=""/>
          <p:cNvGrpSpPr/>
          <p:nvPr/>
        </p:nvGrpSpPr>
        <p:grpSpPr>
          <a:xfrm>
            <a:off x="4416480" y="2044800"/>
            <a:ext cx="685800" cy="1441800"/>
            <a:chOff x="4416480" y="2044800"/>
            <a:chExt cx="685800" cy="1441800"/>
          </a:xfrm>
        </p:grpSpPr>
        <p:sp>
          <p:nvSpPr>
            <p:cNvPr id="131" name=""/>
            <p:cNvSpPr/>
            <p:nvPr/>
          </p:nvSpPr>
          <p:spPr>
            <a:xfrm>
              <a:off x="4416480" y="2340000"/>
              <a:ext cx="685800" cy="30492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in</a:t>
              </a:r>
              <a:endParaRPr b="0" lang="en-US" sz="1600" spc="-1" strike="noStrike">
                <a:solidFill>
                  <a:srgbClr val="000000"/>
                </a:solidFill>
                <a:latin typeface="Times New Roman"/>
              </a:endParaRPr>
            </a:p>
          </p:txBody>
        </p:sp>
        <p:cxnSp>
          <p:nvCxnSpPr>
            <p:cNvPr id="132" name=""/>
            <p:cNvCxnSpPr>
              <a:stCxn id="122" idx="2"/>
              <a:endCxn id="131" idx="0"/>
            </p:cNvCxnSpPr>
            <p:nvPr/>
          </p:nvCxnSpPr>
          <p:spPr>
            <a:xfrm>
              <a:off x="4759200" y="2044800"/>
              <a:ext cx="1080" cy="286560"/>
            </a:xfrm>
            <a:prstGeom prst="straightConnector1">
              <a:avLst/>
            </a:prstGeom>
            <a:ln w="19080">
              <a:solidFill>
                <a:srgbClr val="000000"/>
              </a:solidFill>
              <a:miter/>
              <a:tailEnd len="med" type="triangle" w="med"/>
            </a:ln>
          </p:spPr>
        </p:cxnSp>
        <p:cxnSp>
          <p:nvCxnSpPr>
            <p:cNvPr id="133" name=""/>
            <p:cNvCxnSpPr>
              <a:stCxn id="131" idx="2"/>
              <a:endCxn id="134" idx="0"/>
            </p:cNvCxnSpPr>
            <p:nvPr/>
          </p:nvCxnSpPr>
          <p:spPr>
            <a:xfrm>
              <a:off x="4759200" y="2654640"/>
              <a:ext cx="1080" cy="832320"/>
            </a:xfrm>
            <a:prstGeom prst="straightConnector1">
              <a:avLst/>
            </a:prstGeom>
            <a:ln w="19080">
              <a:solidFill>
                <a:srgbClr val="000000"/>
              </a:solidFill>
              <a:miter/>
              <a:tailEnd len="med" type="triangle" w="med"/>
            </a:ln>
          </p:spPr>
        </p:cxnSp>
      </p:grpSp>
      <p:grpSp>
        <p:nvGrpSpPr>
          <p:cNvPr id="135" name=""/>
          <p:cNvGrpSpPr/>
          <p:nvPr/>
        </p:nvGrpSpPr>
        <p:grpSpPr>
          <a:xfrm>
            <a:off x="1025640" y="4562640"/>
            <a:ext cx="4572000" cy="761760"/>
            <a:chOff x="1025640" y="4562640"/>
            <a:chExt cx="4572000" cy="761760"/>
          </a:xfrm>
        </p:grpSpPr>
        <p:sp>
          <p:nvSpPr>
            <p:cNvPr id="136" name=""/>
            <p:cNvSpPr/>
            <p:nvPr/>
          </p:nvSpPr>
          <p:spPr>
            <a:xfrm>
              <a:off x="1025640" y="4790880"/>
              <a:ext cx="685800" cy="30456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in</a:t>
              </a:r>
              <a:endParaRPr b="0" lang="en-US" sz="1600" spc="-1" strike="noStrike">
                <a:solidFill>
                  <a:srgbClr val="000000"/>
                </a:solidFill>
                <a:latin typeface="Times New Roman"/>
              </a:endParaRPr>
            </a:p>
          </p:txBody>
        </p:sp>
        <p:sp>
          <p:nvSpPr>
            <p:cNvPr id="137" name=""/>
            <p:cNvSpPr/>
            <p:nvPr/>
          </p:nvSpPr>
          <p:spPr>
            <a:xfrm>
              <a:off x="3921120" y="4562640"/>
              <a:ext cx="1676520" cy="7617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bringung i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hrbettzimm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öglich</a:t>
              </a:r>
              <a:endParaRPr b="0" lang="en-US" sz="1400" spc="-1" strike="noStrike">
                <a:solidFill>
                  <a:srgbClr val="000000"/>
                </a:solidFill>
                <a:latin typeface="Times New Roman"/>
              </a:endParaRPr>
            </a:p>
          </p:txBody>
        </p:sp>
        <p:cxnSp>
          <p:nvCxnSpPr>
            <p:cNvPr id="138" name=""/>
            <p:cNvCxnSpPr>
              <a:stCxn id="139" idx="2"/>
              <a:endCxn id="136" idx="0"/>
            </p:cNvCxnSpPr>
            <p:nvPr/>
          </p:nvCxnSpPr>
          <p:spPr>
            <a:xfrm>
              <a:off x="1368360" y="4571640"/>
              <a:ext cx="1080" cy="210240"/>
            </a:xfrm>
            <a:prstGeom prst="straightConnector1">
              <a:avLst/>
            </a:prstGeom>
            <a:ln w="19080">
              <a:solidFill>
                <a:srgbClr val="000000"/>
              </a:solidFill>
              <a:miter/>
              <a:tailEnd len="med" type="triangle" w="med"/>
            </a:ln>
          </p:spPr>
        </p:cxnSp>
        <p:cxnSp>
          <p:nvCxnSpPr>
            <p:cNvPr id="140" name=""/>
            <p:cNvCxnSpPr>
              <a:stCxn id="136" idx="3"/>
              <a:endCxn id="137" idx="1"/>
            </p:cNvCxnSpPr>
            <p:nvPr/>
          </p:nvCxnSpPr>
          <p:spPr>
            <a:xfrm>
              <a:off x="1720800" y="4942800"/>
              <a:ext cx="2191320" cy="1080"/>
            </a:xfrm>
            <a:prstGeom prst="straightConnector1">
              <a:avLst/>
            </a:prstGeom>
            <a:ln w="19080">
              <a:solidFill>
                <a:srgbClr val="000000"/>
              </a:solidFill>
              <a:miter/>
              <a:tailEnd len="med" type="triangle" w="med"/>
            </a:ln>
          </p:spPr>
        </p:cxnSp>
      </p:grpSp>
      <p:grpSp>
        <p:nvGrpSpPr>
          <p:cNvPr id="141" name=""/>
          <p:cNvGrpSpPr/>
          <p:nvPr/>
        </p:nvGrpSpPr>
        <p:grpSpPr>
          <a:xfrm>
            <a:off x="2625840" y="3495600"/>
            <a:ext cx="2971800" cy="761760"/>
            <a:chOff x="2625840" y="3495600"/>
            <a:chExt cx="2971800" cy="761760"/>
          </a:xfrm>
        </p:grpSpPr>
        <p:sp>
          <p:nvSpPr>
            <p:cNvPr id="142" name=""/>
            <p:cNvSpPr/>
            <p:nvPr/>
          </p:nvSpPr>
          <p:spPr>
            <a:xfrm>
              <a:off x="2930400" y="3724200"/>
              <a:ext cx="609840" cy="30456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a:t>
              </a:r>
              <a:endParaRPr b="0" lang="en-US" sz="1600" spc="-1" strike="noStrike">
                <a:solidFill>
                  <a:srgbClr val="000000"/>
                </a:solidFill>
                <a:latin typeface="Times New Roman"/>
              </a:endParaRPr>
            </a:p>
          </p:txBody>
        </p:sp>
        <p:cxnSp>
          <p:nvCxnSpPr>
            <p:cNvPr id="143" name=""/>
            <p:cNvCxnSpPr>
              <a:stCxn id="139" idx="3"/>
              <a:endCxn id="142" idx="1"/>
            </p:cNvCxnSpPr>
            <p:nvPr/>
          </p:nvCxnSpPr>
          <p:spPr>
            <a:xfrm>
              <a:off x="2625840" y="3876120"/>
              <a:ext cx="305280" cy="1080"/>
            </a:xfrm>
            <a:prstGeom prst="straightConnector1">
              <a:avLst/>
            </a:prstGeom>
            <a:ln w="19080">
              <a:solidFill>
                <a:srgbClr val="000000"/>
              </a:solidFill>
              <a:miter/>
              <a:tailEnd len="med" type="triangle" w="med"/>
            </a:ln>
          </p:spPr>
        </p:cxnSp>
        <p:sp>
          <p:nvSpPr>
            <p:cNvPr id="134" name=""/>
            <p:cNvSpPr/>
            <p:nvPr/>
          </p:nvSpPr>
          <p:spPr>
            <a:xfrm>
              <a:off x="3921120" y="3495600"/>
              <a:ext cx="1676520" cy="761760"/>
            </a:xfrm>
            <a:prstGeom prst="flowChartProcess">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terbringung mi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eignete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tbewohner</a:t>
              </a:r>
              <a:endParaRPr b="0" lang="en-US" sz="1400" spc="-1" strike="noStrike">
                <a:solidFill>
                  <a:srgbClr val="000000"/>
                </a:solidFill>
                <a:latin typeface="Times New Roman"/>
              </a:endParaRPr>
            </a:p>
          </p:txBody>
        </p:sp>
        <p:cxnSp>
          <p:nvCxnSpPr>
            <p:cNvPr id="144" name=""/>
            <p:cNvCxnSpPr>
              <a:stCxn id="142" idx="3"/>
              <a:endCxn id="134" idx="1"/>
            </p:cNvCxnSpPr>
            <p:nvPr/>
          </p:nvCxnSpPr>
          <p:spPr>
            <a:xfrm>
              <a:off x="3540240" y="3876120"/>
              <a:ext cx="381600" cy="1080"/>
            </a:xfrm>
            <a:prstGeom prst="straightConnector1">
              <a:avLst/>
            </a:prstGeom>
            <a:ln w="19080">
              <a:solidFill>
                <a:srgbClr val="000000"/>
              </a:solidFill>
              <a:miter/>
              <a:tailEnd len="med" type="triangle" w="med"/>
            </a:ln>
          </p:spPr>
        </p:cxnSp>
      </p:grpSp>
      <p:grpSp>
        <p:nvGrpSpPr>
          <p:cNvPr id="145" name=""/>
          <p:cNvGrpSpPr/>
          <p:nvPr/>
        </p:nvGrpSpPr>
        <p:grpSpPr>
          <a:xfrm>
            <a:off x="34920" y="2199960"/>
            <a:ext cx="2666880" cy="2362680"/>
            <a:chOff x="34920" y="2199960"/>
            <a:chExt cx="2666880" cy="2362680"/>
          </a:xfrm>
        </p:grpSpPr>
        <p:grpSp>
          <p:nvGrpSpPr>
            <p:cNvPr id="146" name=""/>
            <p:cNvGrpSpPr/>
            <p:nvPr/>
          </p:nvGrpSpPr>
          <p:grpSpPr>
            <a:xfrm>
              <a:off x="1025280" y="2199960"/>
              <a:ext cx="685440" cy="533880"/>
              <a:chOff x="1025280" y="2199960"/>
              <a:chExt cx="685440" cy="533880"/>
            </a:xfrm>
          </p:grpSpPr>
          <p:sp>
            <p:nvSpPr>
              <p:cNvPr id="147" name=""/>
              <p:cNvSpPr/>
              <p:nvPr/>
            </p:nvSpPr>
            <p:spPr>
              <a:xfrm>
                <a:off x="1025280" y="2428920"/>
                <a:ext cx="685440" cy="304920"/>
              </a:xfrm>
              <a:prstGeom prst="flowChartTerminator">
                <a:avLst/>
              </a:prstGeom>
              <a:solidFill>
                <a:srgbClr val="00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in</a:t>
                </a:r>
                <a:endParaRPr b="0" lang="en-US" sz="1600" spc="-1" strike="noStrike">
                  <a:solidFill>
                    <a:srgbClr val="000000"/>
                  </a:solidFill>
                  <a:latin typeface="Times New Roman"/>
                </a:endParaRPr>
              </a:p>
            </p:txBody>
          </p:sp>
          <p:cxnSp>
            <p:nvCxnSpPr>
              <p:cNvPr id="148" name=""/>
              <p:cNvCxnSpPr>
                <a:stCxn id="119" idx="2"/>
                <a:endCxn id="147" idx="0"/>
              </p:cNvCxnSpPr>
              <p:nvPr/>
            </p:nvCxnSpPr>
            <p:spPr>
              <a:xfrm>
                <a:off x="1367640" y="2199960"/>
                <a:ext cx="1080" cy="229320"/>
              </a:xfrm>
              <a:prstGeom prst="straightConnector1">
                <a:avLst/>
              </a:prstGeom>
              <a:ln w="19080">
                <a:solidFill>
                  <a:srgbClr val="000000"/>
                </a:solidFill>
                <a:miter/>
                <a:tailEnd len="med" type="triangle" w="med"/>
              </a:ln>
            </p:spPr>
          </p:cxnSp>
        </p:grpSp>
        <p:cxnSp>
          <p:nvCxnSpPr>
            <p:cNvPr id="149" name=""/>
            <p:cNvCxnSpPr>
              <a:stCxn id="147" idx="2"/>
              <a:endCxn id="139" idx="0"/>
            </p:cNvCxnSpPr>
            <p:nvPr/>
          </p:nvCxnSpPr>
          <p:spPr>
            <a:xfrm>
              <a:off x="1368000" y="2743200"/>
              <a:ext cx="1080" cy="439200"/>
            </a:xfrm>
            <a:prstGeom prst="straightConnector1">
              <a:avLst/>
            </a:prstGeom>
            <a:ln w="19080">
              <a:solidFill>
                <a:srgbClr val="000000"/>
              </a:solidFill>
              <a:miter/>
              <a:tailEnd len="med" type="triangle" w="med"/>
            </a:ln>
          </p:spPr>
        </p:cxnSp>
        <p:sp>
          <p:nvSpPr>
            <p:cNvPr id="139" name=""/>
            <p:cNvSpPr/>
            <p:nvPr/>
          </p:nvSpPr>
          <p:spPr>
            <a:xfrm>
              <a:off x="34920" y="3191040"/>
              <a:ext cx="2666880" cy="1371600"/>
            </a:xfrm>
            <a:prstGeom prst="flowChartDecision">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t Mitbew.</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emwegsin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ffene Wund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v. Zugänge?</a:t>
              </a:r>
              <a:endParaRPr b="0" lang="en-US" sz="1400" spc="-1" strike="noStrike">
                <a:solidFill>
                  <a:srgbClr val="000000"/>
                </a:solidFill>
                <a:latin typeface="Times New Roman"/>
              </a:endParaRPr>
            </a:p>
          </p:txBody>
        </p:sp>
      </p:grpSp>
      <p:sp>
        <p:nvSpPr>
          <p:cNvPr id="150" name=""/>
          <p:cNvSpPr/>
          <p:nvPr/>
        </p:nvSpPr>
        <p:spPr>
          <a:xfrm>
            <a:off x="5716800" y="3429000"/>
            <a:ext cx="3303000" cy="29235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solierung wie im Krankenhaus</a:t>
            </a:r>
            <a:br>
              <a:rPr sz="1600"/>
            </a:br>
            <a:r>
              <a:rPr b="0" lang="de-DE" sz="1600" spc="-1" strike="noStrike">
                <a:solidFill>
                  <a:srgbClr val="000000"/>
                </a:solidFill>
                <a:latin typeface="Arial"/>
              </a:rPr>
              <a:t>ist nicht notwendig. Teilnahme</a:t>
            </a:r>
            <a:br>
              <a:rPr sz="1600"/>
            </a:br>
            <a:r>
              <a:rPr b="0" lang="de-DE" sz="1600" spc="-1" strike="noStrike">
                <a:solidFill>
                  <a:srgbClr val="000000"/>
                </a:solidFill>
                <a:latin typeface="Arial"/>
              </a:rPr>
              <a:t>am Gemeinschaftsleben ist</a:t>
            </a:r>
            <a:br>
              <a:rPr sz="1600"/>
            </a:br>
            <a:r>
              <a:rPr b="0" lang="de-DE" sz="1600" spc="-1" strike="noStrike">
                <a:solidFill>
                  <a:srgbClr val="000000"/>
                </a:solidFill>
                <a:latin typeface="Arial"/>
              </a:rPr>
              <a:t>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terbringung wird dem Risiko</a:t>
            </a:r>
            <a:br>
              <a:rPr sz="1600"/>
            </a:br>
            <a:r>
              <a:rPr b="0" lang="de-DE" sz="1600" spc="-1" strike="noStrike">
                <a:solidFill>
                  <a:srgbClr val="000000"/>
                </a:solidFill>
                <a:latin typeface="Arial"/>
              </a:rPr>
              <a:t>angepasst, welches vom MRSA-</a:t>
            </a:r>
            <a:br>
              <a:rPr sz="1600"/>
            </a:br>
            <a:r>
              <a:rPr b="0" lang="de-DE" sz="1600" spc="-1" strike="noStrike">
                <a:solidFill>
                  <a:srgbClr val="000000"/>
                </a:solidFill>
                <a:latin typeface="Arial"/>
              </a:rPr>
              <a:t>positiven Bewohner ausgeht, </a:t>
            </a:r>
            <a:br>
              <a:rPr sz="1600"/>
            </a:br>
            <a:r>
              <a:rPr b="0" lang="de-DE" sz="1600" spc="-1" strike="noStrike">
                <a:solidFill>
                  <a:srgbClr val="000000"/>
                </a:solidFill>
                <a:latin typeface="Arial"/>
              </a:rPr>
              <a:t>bzw. welches für die Mitbewoh-</a:t>
            </a:r>
            <a:br>
              <a:rPr sz="1600"/>
            </a:br>
            <a:r>
              <a:rPr b="0" lang="de-DE" sz="1600" spc="-1" strike="noStrike">
                <a:solidFill>
                  <a:srgbClr val="000000"/>
                </a:solidFill>
                <a:latin typeface="Arial"/>
              </a:rPr>
              <a:t>ner besteh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 mehreren MRSA-Trägern ist</a:t>
            </a:r>
            <a:br>
              <a:rPr sz="1600"/>
            </a:br>
            <a:r>
              <a:rPr b="0" lang="de-DE" sz="1600" spc="-1" strike="noStrike">
                <a:solidFill>
                  <a:srgbClr val="000000"/>
                </a:solidFill>
                <a:latin typeface="Arial"/>
              </a:rPr>
              <a:t>eine Zusammenlegung sinnvoll.</a:t>
            </a:r>
            <a:endParaRPr b="0" lang="en-US" sz="1600" spc="-1" strike="noStrike">
              <a:solidFill>
                <a:srgbClr val="000000"/>
              </a:solidFill>
              <a:latin typeface="Times New Roman"/>
            </a:endParaRPr>
          </a:p>
        </p:txBody>
      </p:sp>
    </p:spTree>
  </p:cSld>
  <p:transition>
    <p:zoom dir="out"/>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119"/>
                                        </p:tgtEl>
                                        <p:attrNameLst>
                                          <p:attrName>style.visibility</p:attrName>
                                        </p:attrNameLst>
                                      </p:cBhvr>
                                      <p:to>
                                        <p:strVal val="visible"/>
                                      </p:to>
                                    </p:set>
                                    <p:animEffect filter="checkerboard(across)" transition="in">
                                      <p:cBhvr additive="repl">
                                        <p:cTn id="127" dur="500"/>
                                        <p:tgtEl>
                                          <p:spTgt spid="119"/>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145"/>
                                        </p:tgtEl>
                                        <p:attrNameLst>
                                          <p:attrName>style.visibility</p:attrName>
                                        </p:attrNameLst>
                                      </p:cBhvr>
                                      <p:to>
                                        <p:strVal val="visible"/>
                                      </p:to>
                                    </p:set>
                                    <p:animEffect filter="checkerboard(across)" transition="in">
                                      <p:cBhvr additive="repl">
                                        <p:cTn id="132" dur="500"/>
                                        <p:tgtEl>
                                          <p:spTgt spid="14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135"/>
                                        </p:tgtEl>
                                        <p:attrNameLst>
                                          <p:attrName>style.visibility</p:attrName>
                                        </p:attrNameLst>
                                      </p:cBhvr>
                                      <p:to>
                                        <p:strVal val="visible"/>
                                      </p:to>
                                    </p:set>
                                    <p:animEffect filter="checkerboard(across)"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141"/>
                                        </p:tgtEl>
                                        <p:attrNameLst>
                                          <p:attrName>style.visibility</p:attrName>
                                        </p:attrNameLst>
                                      </p:cBhvr>
                                      <p:to>
                                        <p:strVal val="visible"/>
                                      </p:to>
                                    </p:set>
                                    <p:animEffect filter="checkerboard(across)" transition="in">
                                      <p:cBhvr additive="repl">
                                        <p:cTn id="142" dur="500"/>
                                        <p:tgtEl>
                                          <p:spTgt spid="14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120"/>
                                        </p:tgtEl>
                                        <p:attrNameLst>
                                          <p:attrName>style.visibility</p:attrName>
                                        </p:attrNameLst>
                                      </p:cBhvr>
                                      <p:to>
                                        <p:strVal val="visible"/>
                                      </p:to>
                                    </p:set>
                                    <p:animEffect filter="checkerboard(across)" transition="in">
                                      <p:cBhvr additive="repl">
                                        <p:cTn id="147" dur="500"/>
                                        <p:tgtEl>
                                          <p:spTgt spid="120"/>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125"/>
                                        </p:tgtEl>
                                        <p:attrNameLst>
                                          <p:attrName>style.visibility</p:attrName>
                                        </p:attrNameLst>
                                      </p:cBhvr>
                                      <p:to>
                                        <p:strVal val="visible"/>
                                      </p:to>
                                    </p:set>
                                    <p:animEffect filter="checkerboard(across)" transition="in">
                                      <p:cBhvr additive="repl">
                                        <p:cTn id="152" dur="500"/>
                                        <p:tgtEl>
                                          <p:spTgt spid="125"/>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130"/>
                                        </p:tgtEl>
                                        <p:attrNameLst>
                                          <p:attrName>style.visibility</p:attrName>
                                        </p:attrNameLst>
                                      </p:cBhvr>
                                      <p:to>
                                        <p:strVal val="visible"/>
                                      </p:to>
                                    </p:set>
                                    <p:animEffect filter="checkerboard(across)" transition="in">
                                      <p:cBhvr additive="repl">
                                        <p:cTn id="157" dur="500"/>
                                        <p:tgtEl>
                                          <p:spTgt spid="130"/>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50"/>
                                        </p:tgtEl>
                                        <p:attrNameLst>
                                          <p:attrName>style.visibility</p:attrName>
                                        </p:attrNameLst>
                                      </p:cBhvr>
                                      <p:to>
                                        <p:strVal val="visible"/>
                                      </p:to>
                                    </p:set>
                                    <p:animEffect filter="checkerboard(across)" transition="in">
                                      <p:cBhvr additive="repl">
                                        <p:cTn id="162"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hygiene</a:t>
            </a:r>
            <a:endParaRPr b="0" lang="en-US" sz="2400" spc="-1" strike="noStrike">
              <a:solidFill>
                <a:srgbClr val="000000"/>
              </a:solidFill>
              <a:latin typeface="Times New Roman"/>
            </a:endParaRPr>
          </a:p>
        </p:txBody>
      </p:sp>
      <p:sp>
        <p:nvSpPr>
          <p:cNvPr id="152"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53" name=""/>
          <p:cNvSpPr/>
          <p:nvPr/>
        </p:nvSpPr>
        <p:spPr>
          <a:xfrm>
            <a:off x="324000" y="1641600"/>
            <a:ext cx="5924520" cy="306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zicht auf Handschmuck bei Pflegenden und Betreuend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tuationsgerechte Durchführung der Händedesinfektion, d.h.</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zum Dienstbeginn und zum Dienstende</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aseptisch durchzuführenden Arbeiten</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Kontakt mit infektionsgefährdeten Bewohnern</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or und nach Kontakt mit Wunden, Tracheostoma, PEG etc. (auch wenn dabei Handschuhe getragen wurden)</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nach Kontakt mit potentiell infektiösen Materialien (z.B. nach der Mundpflege, Inkontinenzversorgung etc.)</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nach dem Toilettengang, Naseputzen etc.</a:t>
            </a:r>
            <a:endParaRPr b="0" lang="en-US" sz="1600" spc="-1" strike="noStrike">
              <a:solidFill>
                <a:srgbClr val="000000"/>
              </a:solidFill>
              <a:latin typeface="Times New Roman"/>
            </a:endParaRPr>
          </a:p>
        </p:txBody>
      </p:sp>
      <p:sp>
        <p:nvSpPr>
          <p:cNvPr id="154" name=""/>
          <p:cNvSpPr/>
          <p:nvPr/>
        </p:nvSpPr>
        <p:spPr>
          <a:xfrm>
            <a:off x="2647440" y="533520"/>
            <a:ext cx="1022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endParaRPr b="0" lang="en-US" sz="8000" spc="-1" strike="noStrike">
              <a:solidFill>
                <a:srgbClr val="000000"/>
              </a:solidFill>
              <a:latin typeface="Times New Roman"/>
            </a:endParaRPr>
          </a:p>
        </p:txBody>
      </p:sp>
      <p:sp>
        <p:nvSpPr>
          <p:cNvPr id="155" name=""/>
          <p:cNvSpPr/>
          <p:nvPr/>
        </p:nvSpPr>
        <p:spPr>
          <a:xfrm>
            <a:off x="0" y="15559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248520" y="914400"/>
            <a:ext cx="0" cy="4495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324480" y="1641600"/>
            <a:ext cx="2819520" cy="284724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Betreuung von MRSA-positiven Bewoh-nern durch uneingewiese-nes Personal oder Perso-nen mit chronischen Haut-veränderung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ändedesinfektion auch nach sonstigen Kontakten mit MRSA-positiven Bewohnern oder MRSA-kontaminierten Materialien. </a:t>
            </a:r>
            <a:endParaRPr b="0" lang="en-US" sz="1600" spc="-1" strike="noStrike">
              <a:solidFill>
                <a:srgbClr val="000000"/>
              </a:solidFill>
              <a:latin typeface="Times New Roman"/>
            </a:endParaRPr>
          </a:p>
        </p:txBody>
      </p:sp>
      <p:sp>
        <p:nvSpPr>
          <p:cNvPr id="158" name=""/>
          <p:cNvSpPr/>
          <p:nvPr/>
        </p:nvSpPr>
        <p:spPr>
          <a:xfrm>
            <a:off x="7241040" y="30492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spTree>
  </p:cSld>
  <p:transition>
    <p:zoom dir="out"/>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 presetSubtype="5">
                                  <p:stCondLst>
                                    <p:cond delay="0"/>
                                  </p:stCondLst>
                                  <p:childTnLst>
                                    <p:set>
                                      <p:cBhvr>
                                        <p:cTn id="168" dur="1" fill="hold">
                                          <p:stCondLst>
                                            <p:cond delay="0"/>
                                          </p:stCondLst>
                                        </p:cTn>
                                        <p:tgtEl>
                                          <p:spTgt spid="157"/>
                                        </p:tgtEl>
                                        <p:attrNameLst>
                                          <p:attrName>style.visibility</p:attrName>
                                        </p:attrNameLst>
                                      </p:cBhvr>
                                      <p:to>
                                        <p:strVal val="visible"/>
                                      </p:to>
                                    </p:set>
                                    <p:animEffect filter="blinds(vertical)" transition="in">
                                      <p:cBhvr additive="repl">
                                        <p:cTn id="169"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hygiene</a:t>
            </a:r>
            <a:endParaRPr b="0" lang="en-US" sz="2400" spc="-1" strike="noStrike">
              <a:solidFill>
                <a:srgbClr val="000000"/>
              </a:solidFill>
              <a:latin typeface="Times New Roman"/>
            </a:endParaRPr>
          </a:p>
        </p:txBody>
      </p:sp>
      <p:sp>
        <p:nvSpPr>
          <p:cNvPr id="16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61" name=""/>
          <p:cNvSpPr/>
          <p:nvPr/>
        </p:nvSpPr>
        <p:spPr>
          <a:xfrm>
            <a:off x="2647440" y="533520"/>
            <a:ext cx="1022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endParaRPr b="0" lang="en-US" sz="8000" spc="-1" strike="noStrike">
              <a:solidFill>
                <a:srgbClr val="000000"/>
              </a:solidFill>
              <a:latin typeface="Times New Roman"/>
            </a:endParaRPr>
          </a:p>
        </p:txBody>
      </p:sp>
      <p:sp>
        <p:nvSpPr>
          <p:cNvPr id="162" name=""/>
          <p:cNvSpPr/>
          <p:nvPr/>
        </p:nvSpPr>
        <p:spPr>
          <a:xfrm>
            <a:off x="0" y="15559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248520" y="914400"/>
            <a:ext cx="0" cy="4495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241040" y="30492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sp>
        <p:nvSpPr>
          <p:cNvPr id="165" name=""/>
          <p:cNvSpPr/>
          <p:nvPr/>
        </p:nvSpPr>
        <p:spPr>
          <a:xfrm>
            <a:off x="324000" y="1676520"/>
            <a:ext cx="5924520" cy="356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tuationsgerechte Nutzung von Persönlicher Schutzaus-</a:t>
            </a:r>
            <a:br>
              <a:rPr sz="1600"/>
            </a:br>
            <a:r>
              <a:rPr b="0" lang="de-DE" sz="1600" spc="-1" strike="noStrike">
                <a:solidFill>
                  <a:srgbClr val="000000"/>
                </a:solidFill>
                <a:latin typeface="Arial"/>
              </a:rPr>
              <a:t>   rüstung (PSA), d.h.</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chutzhandschuhe bei allen Tätigkeiten, bei denen ein Handkontakt mit infektiösen Substanzen möglich ist (z.B. Intimpflege).</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terile Handschuhe bei aseptisch durchzuführenden Arbeiten (z.B. Verbandwechsel).</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Flüssigkeitsdichte Schürzen bzw. langärmlige Schutzkittel bei Tätigkeiten mit Kontaminationsgefahr (z.B. Versorgung Inkontinenter).</a:t>
            </a:r>
            <a:endParaRPr b="0" lang="en-US" sz="1600" spc="-1" strike="noStrike">
              <a:solidFill>
                <a:srgbClr val="000000"/>
              </a:solidFill>
              <a:latin typeface="Times New Roman"/>
            </a:endParaRPr>
          </a:p>
          <a:p>
            <a:pPr lvl="1" marL="382680" indent="-1922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Mund-Nasenschutzmasken bei pflegerischen Arbeiten mit Gefahr einer aerogenen Übertragung (z.B. Absaugen der Atemwege).</a:t>
            </a:r>
            <a:endParaRPr b="0" lang="en-US" sz="1600" spc="-1" strike="noStrike">
              <a:solidFill>
                <a:srgbClr val="000000"/>
              </a:solidFill>
              <a:latin typeface="Times New Roman"/>
            </a:endParaRPr>
          </a:p>
        </p:txBody>
      </p:sp>
      <p:sp>
        <p:nvSpPr>
          <p:cNvPr id="166" name=""/>
          <p:cNvSpPr/>
          <p:nvPr/>
        </p:nvSpPr>
        <p:spPr>
          <a:xfrm>
            <a:off x="6385320" y="1660680"/>
            <a:ext cx="2751480" cy="23605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wendung von zimmer-</a:t>
            </a:r>
            <a:br>
              <a:rPr sz="1600"/>
            </a:br>
            <a:r>
              <a:rPr b="0" lang="de-DE" sz="1600" spc="-1" strike="noStrike">
                <a:solidFill>
                  <a:srgbClr val="000000"/>
                </a:solidFill>
                <a:latin typeface="Arial"/>
              </a:rPr>
              <a:t>gebundenen, täglich zu</a:t>
            </a:r>
            <a:br>
              <a:rPr sz="1600"/>
            </a:br>
            <a:r>
              <a:rPr b="0" lang="de-DE" sz="1600" spc="-1" strike="noStrike">
                <a:solidFill>
                  <a:srgbClr val="000000"/>
                </a:solidFill>
                <a:latin typeface="Arial"/>
              </a:rPr>
              <a:t>wechselnden, langärmli-</a:t>
            </a:r>
            <a:br>
              <a:rPr sz="1600"/>
            </a:br>
            <a:r>
              <a:rPr b="0" lang="de-DE" sz="1600" spc="-1" strike="noStrike">
                <a:solidFill>
                  <a:srgbClr val="000000"/>
                </a:solidFill>
                <a:latin typeface="Arial"/>
              </a:rPr>
              <a:t>gen Schutzkitteln bei der</a:t>
            </a:r>
            <a:br>
              <a:rPr sz="1600"/>
            </a:br>
            <a:r>
              <a:rPr b="0" lang="de-DE" sz="1600" spc="-1" strike="noStrike">
                <a:solidFill>
                  <a:srgbClr val="000000"/>
                </a:solidFill>
                <a:latin typeface="Arial"/>
              </a:rPr>
              <a:t>pflegerischer Versorgung</a:t>
            </a:r>
            <a:br>
              <a:rPr sz="1600"/>
            </a:br>
            <a:r>
              <a:rPr b="0" lang="de-DE" sz="1600" spc="-1" strike="noStrike">
                <a:solidFill>
                  <a:srgbClr val="000000"/>
                </a:solidFill>
                <a:latin typeface="Arial"/>
              </a:rPr>
              <a:t>und bei Körperkontakten.</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wendung von Mund-</a:t>
            </a:r>
            <a:br>
              <a:rPr sz="1600"/>
            </a:br>
            <a:r>
              <a:rPr b="0" lang="de-DE" sz="1600" spc="-1" strike="noStrike">
                <a:solidFill>
                  <a:srgbClr val="000000"/>
                </a:solidFill>
                <a:latin typeface="Arial"/>
              </a:rPr>
              <a:t>Nasenschutzmasken auch</a:t>
            </a:r>
            <a:br>
              <a:rPr sz="1600"/>
            </a:br>
            <a:r>
              <a:rPr b="0" lang="de-DE" sz="1600" spc="-1" strike="noStrike">
                <a:solidFill>
                  <a:srgbClr val="000000"/>
                </a:solidFill>
                <a:latin typeface="Arial"/>
              </a:rPr>
              <a:t>bei der Mundpflege.</a:t>
            </a:r>
            <a:endParaRPr b="0" lang="en-US" sz="1600" spc="-1" strike="noStrike">
              <a:solidFill>
                <a:srgbClr val="000000"/>
              </a:solidFill>
              <a:latin typeface="Times New Roman"/>
            </a:endParaRPr>
          </a:p>
        </p:txBody>
      </p:sp>
      <p:grpSp>
        <p:nvGrpSpPr>
          <p:cNvPr id="167" name=""/>
          <p:cNvGrpSpPr/>
          <p:nvPr/>
        </p:nvGrpSpPr>
        <p:grpSpPr>
          <a:xfrm>
            <a:off x="0" y="5410080"/>
            <a:ext cx="9144000" cy="1296360"/>
            <a:chOff x="0" y="5410080"/>
            <a:chExt cx="9144000" cy="1296360"/>
          </a:xfrm>
        </p:grpSpPr>
        <p:sp>
          <p:nvSpPr>
            <p:cNvPr id="168" name=""/>
            <p:cNvSpPr/>
            <p:nvPr/>
          </p:nvSpPr>
          <p:spPr>
            <a:xfrm>
              <a:off x="0" y="541008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12480" y="5486400"/>
              <a:ext cx="8454240" cy="12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Nach wie vor gilt:</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as Tragen von PSA erfolgt immer situativ. D.h. sie wird kurz vor der Maßnahme angelegt</a:t>
              </a:r>
              <a:br>
                <a:rPr sz="1600"/>
              </a:br>
              <a:r>
                <a:rPr b="0" lang="de-DE" sz="1600" spc="-1" strike="noStrike">
                  <a:solidFill>
                    <a:srgbClr val="000000"/>
                  </a:solidFill>
                  <a:latin typeface="Arial"/>
                  <a:ea typeface="Times New Roman"/>
                </a:rPr>
                <a:t>   und unmittelbar nach erfolgter Maßnahme bzw. Situation wieder abgelegt.</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ie Entsorgung von PSA erfolgt am Ort ihres Gebrauchs.</a:t>
              </a:r>
              <a:endParaRPr b="0" lang="en-US" sz="1600" spc="-1" strike="noStrike">
                <a:solidFill>
                  <a:srgbClr val="000000"/>
                </a:solidFill>
                <a:latin typeface="Times New Roman"/>
              </a:endParaRPr>
            </a:p>
          </p:txBody>
        </p:sp>
      </p:grpSp>
    </p:spTree>
  </p:cSld>
  <p:transition>
    <p:zoom dir="out"/>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3" presetSubtype="5">
                                  <p:stCondLst>
                                    <p:cond delay="0"/>
                                  </p:stCondLst>
                                  <p:childTnLst>
                                    <p:set>
                                      <p:cBhvr>
                                        <p:cTn id="175" dur="1" fill="hold">
                                          <p:stCondLst>
                                            <p:cond delay="0"/>
                                          </p:stCondLst>
                                        </p:cTn>
                                        <p:tgtEl>
                                          <p:spTgt spid="166"/>
                                        </p:tgtEl>
                                        <p:attrNameLst>
                                          <p:attrName>style.visibility</p:attrName>
                                        </p:attrNameLst>
                                      </p:cBhvr>
                                      <p:to>
                                        <p:strVal val="visible"/>
                                      </p:to>
                                    </p:set>
                                    <p:animEffect filter="blinds(vertical)" transition="in">
                                      <p:cBhvr additive="repl">
                                        <p:cTn id="176" dur="500"/>
                                        <p:tgtEl>
                                          <p:spTgt spid="166"/>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3" presetSubtype="5">
                                  <p:stCondLst>
                                    <p:cond delay="0"/>
                                  </p:stCondLst>
                                  <p:childTnLst>
                                    <p:set>
                                      <p:cBhvr>
                                        <p:cTn id="180" dur="1" fill="hold">
                                          <p:stCondLst>
                                            <p:cond delay="0"/>
                                          </p:stCondLst>
                                        </p:cTn>
                                        <p:tgtEl>
                                          <p:spTgt spid="167"/>
                                        </p:tgtEl>
                                        <p:attrNameLst>
                                          <p:attrName>style.visibility</p:attrName>
                                        </p:attrNameLst>
                                      </p:cBhvr>
                                      <p:to>
                                        <p:strVal val="visible"/>
                                      </p:to>
                                    </p:set>
                                    <p:animEffect filter="blinds(vertical)" transition="in">
                                      <p:cBhvr additive="repl">
                                        <p:cTn id="181"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mgebungshygiene</a:t>
            </a:r>
            <a:endParaRPr b="0" lang="en-US" sz="2400" spc="-1" strike="noStrike">
              <a:solidFill>
                <a:srgbClr val="000000"/>
              </a:solidFill>
              <a:latin typeface="Times New Roman"/>
            </a:endParaRPr>
          </a:p>
        </p:txBody>
      </p:sp>
      <p:sp>
        <p:nvSpPr>
          <p:cNvPr id="17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72" name=""/>
          <p:cNvSpPr/>
          <p:nvPr/>
        </p:nvSpPr>
        <p:spPr>
          <a:xfrm>
            <a:off x="2647440" y="533520"/>
            <a:ext cx="1022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endParaRPr b="0" lang="en-US" sz="8000" spc="-1" strike="noStrike">
              <a:solidFill>
                <a:srgbClr val="000000"/>
              </a:solidFill>
              <a:latin typeface="Times New Roman"/>
            </a:endParaRPr>
          </a:p>
        </p:txBody>
      </p:sp>
      <p:sp>
        <p:nvSpPr>
          <p:cNvPr id="173" name=""/>
          <p:cNvSpPr/>
          <p:nvPr/>
        </p:nvSpPr>
        <p:spPr>
          <a:xfrm>
            <a:off x="0" y="15559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248520" y="914400"/>
            <a:ext cx="0" cy="525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241040" y="30492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sp>
        <p:nvSpPr>
          <p:cNvPr id="176" name=""/>
          <p:cNvSpPr/>
          <p:nvPr/>
        </p:nvSpPr>
        <p:spPr>
          <a:xfrm>
            <a:off x="324000" y="1676520"/>
            <a:ext cx="5924520" cy="42022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terhalts- und Grundreinigung mit gewohntem Leistungsumfang unter Anwendung der gewohnten Methoden und in den gewohnten Intervall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leiches gilt für die Aufbereitung von Steckbecken, Urinflaschen und Medizinprodukt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mutzwäsche und Abfälle werden nach den Vorgaben des Hygieneplanes entsor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Pflegeutensilien sollen möglichst bewohnerbezogen verwende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Gemeinschaftlich benutzte Sanitäreinrichtungen (Wannen, Duschen etc.) werden nach Gebrauch gemäß den Vorgaben des Reinigungs- und Desinfektionsplanes wischdesinfizier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Desinfektion auch nach Kontamination (Blut</a:t>
            </a:r>
            <a:r>
              <a:rPr b="0" lang="de-DE" sz="1600" spc="-1" strike="noStrike">
                <a:solidFill>
                  <a:srgbClr val="ff3300"/>
                </a:solidFill>
                <a:latin typeface="Arial"/>
                <a:ea typeface="Times New Roman"/>
              </a:rPr>
              <a:t>,</a:t>
            </a:r>
            <a:r>
              <a:rPr b="0" lang="de-DE" sz="1600" spc="-1" strike="noStrike">
                <a:solidFill>
                  <a:srgbClr val="000000"/>
                </a:solidFill>
                <a:latin typeface="Arial"/>
                <a:ea typeface="Times New Roman"/>
              </a:rPr>
              <a:t> Erbrochenes, Fäze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Schlussdesinfektion des Zimmers nach Bewohnerwechsel.</a:t>
            </a:r>
            <a:endParaRPr b="0" lang="en-US" sz="1600" spc="-1" strike="noStrike">
              <a:solidFill>
                <a:srgbClr val="000000"/>
              </a:solidFill>
              <a:latin typeface="Times New Roman"/>
            </a:endParaRPr>
          </a:p>
        </p:txBody>
      </p:sp>
      <p:sp>
        <p:nvSpPr>
          <p:cNvPr id="177" name=""/>
          <p:cNvSpPr/>
          <p:nvPr/>
        </p:nvSpPr>
        <p:spPr>
          <a:xfrm>
            <a:off x="6384960" y="1660680"/>
            <a:ext cx="2759040" cy="45363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immer von MRSA-posi-tiven Bewohnern werden stets zum Schluss und mit frischen Utensilien und Lösungen gereinig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mutzwäsche und Abfälle werden im Zimmer gesammelt und sollen das Zimmer nur in geschlos-senen Säcken verlass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ichst nur 60°-Wäsche verwe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steck und Geschirr zum Schluss abräu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flegerische Arbeiten im Zimmer und zum Schluss durchführen.</a:t>
            </a:r>
            <a:endParaRPr b="0" lang="en-US" sz="1600" spc="-1" strike="noStrike">
              <a:solidFill>
                <a:srgbClr val="000000"/>
              </a:solidFill>
              <a:latin typeface="Times New Roman"/>
            </a:endParaRPr>
          </a:p>
        </p:txBody>
      </p:sp>
    </p:spTree>
  </p:cSld>
  <p:transition>
    <p:zoom dir="out"/>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3" presetSubtype="5">
                                  <p:stCondLst>
                                    <p:cond delay="0"/>
                                  </p:stCondLst>
                                  <p:childTnLst>
                                    <p:set>
                                      <p:cBhvr>
                                        <p:cTn id="187" dur="1" fill="hold">
                                          <p:stCondLst>
                                            <p:cond delay="0"/>
                                          </p:stCondLst>
                                        </p:cTn>
                                        <p:tgtEl>
                                          <p:spTgt spid="177"/>
                                        </p:tgtEl>
                                        <p:attrNameLst>
                                          <p:attrName>style.visibility</p:attrName>
                                        </p:attrNameLst>
                                      </p:cBhvr>
                                      <p:to>
                                        <p:strVal val="visible"/>
                                      </p:to>
                                    </p:set>
                                    <p:animEffect filter="blinds(vertical)" transition="in">
                                      <p:cBhvr additive="repl">
                                        <p:cTn id="188"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
          <p:cNvGrpSpPr/>
          <p:nvPr/>
        </p:nvGrpSpPr>
        <p:grpSpPr>
          <a:xfrm>
            <a:off x="152280" y="838080"/>
            <a:ext cx="2590920" cy="5790960"/>
            <a:chOff x="152280" y="838080"/>
            <a:chExt cx="2590920" cy="5790960"/>
          </a:xfrm>
        </p:grpSpPr>
        <p:sp>
          <p:nvSpPr>
            <p:cNvPr id="179" name=""/>
            <p:cNvSpPr/>
            <p:nvPr/>
          </p:nvSpPr>
          <p:spPr>
            <a:xfrm>
              <a:off x="1000440" y="838080"/>
              <a:ext cx="988560" cy="984240"/>
            </a:xfrm>
            <a:custGeom>
              <a:avLst/>
              <a:gdLst/>
              <a:ahLst/>
              <a:rect l="l" t="t" r="r" b="b"/>
              <a:pathLst>
                <a:path w="4342" h="4314">
                  <a:moveTo>
                    <a:pt x="678" y="4314"/>
                  </a:moveTo>
                  <a:lnTo>
                    <a:pt x="551" y="4216"/>
                  </a:lnTo>
                  <a:lnTo>
                    <a:pt x="409" y="4052"/>
                  </a:lnTo>
                  <a:lnTo>
                    <a:pt x="343" y="3917"/>
                  </a:lnTo>
                  <a:lnTo>
                    <a:pt x="278" y="3782"/>
                  </a:lnTo>
                  <a:lnTo>
                    <a:pt x="232" y="3529"/>
                  </a:lnTo>
                  <a:lnTo>
                    <a:pt x="212" y="3452"/>
                  </a:lnTo>
                  <a:lnTo>
                    <a:pt x="148" y="3252"/>
                  </a:lnTo>
                  <a:lnTo>
                    <a:pt x="77" y="3121"/>
                  </a:lnTo>
                  <a:lnTo>
                    <a:pt x="28" y="2929"/>
                  </a:lnTo>
                  <a:lnTo>
                    <a:pt x="13" y="2786"/>
                  </a:lnTo>
                  <a:lnTo>
                    <a:pt x="13" y="2590"/>
                  </a:lnTo>
                  <a:lnTo>
                    <a:pt x="0" y="2471"/>
                  </a:lnTo>
                  <a:lnTo>
                    <a:pt x="77" y="2193"/>
                  </a:lnTo>
                  <a:lnTo>
                    <a:pt x="212" y="1923"/>
                  </a:lnTo>
                  <a:lnTo>
                    <a:pt x="232" y="1781"/>
                  </a:lnTo>
                  <a:lnTo>
                    <a:pt x="278" y="1593"/>
                  </a:lnTo>
                  <a:lnTo>
                    <a:pt x="290" y="1409"/>
                  </a:lnTo>
                  <a:lnTo>
                    <a:pt x="409" y="1196"/>
                  </a:lnTo>
                  <a:lnTo>
                    <a:pt x="543" y="862"/>
                  </a:lnTo>
                  <a:lnTo>
                    <a:pt x="666" y="690"/>
                  </a:lnTo>
                  <a:lnTo>
                    <a:pt x="866" y="490"/>
                  </a:lnTo>
                  <a:lnTo>
                    <a:pt x="1213" y="265"/>
                  </a:lnTo>
                  <a:lnTo>
                    <a:pt x="1478" y="66"/>
                  </a:lnTo>
                  <a:lnTo>
                    <a:pt x="1670" y="4"/>
                  </a:lnTo>
                  <a:lnTo>
                    <a:pt x="1874" y="0"/>
                  </a:lnTo>
                  <a:lnTo>
                    <a:pt x="2078" y="0"/>
                  </a:lnTo>
                  <a:lnTo>
                    <a:pt x="2274" y="66"/>
                  </a:lnTo>
                  <a:lnTo>
                    <a:pt x="2409" y="135"/>
                  </a:lnTo>
                  <a:lnTo>
                    <a:pt x="2736" y="90"/>
                  </a:lnTo>
                  <a:lnTo>
                    <a:pt x="3010" y="135"/>
                  </a:lnTo>
                  <a:lnTo>
                    <a:pt x="3283" y="233"/>
                  </a:lnTo>
                  <a:lnTo>
                    <a:pt x="3411" y="331"/>
                  </a:lnTo>
                  <a:lnTo>
                    <a:pt x="3610" y="531"/>
                  </a:lnTo>
                  <a:lnTo>
                    <a:pt x="3811" y="796"/>
                  </a:lnTo>
                  <a:lnTo>
                    <a:pt x="3941" y="1061"/>
                  </a:lnTo>
                  <a:lnTo>
                    <a:pt x="4003" y="1233"/>
                  </a:lnTo>
                  <a:lnTo>
                    <a:pt x="4093" y="1262"/>
                  </a:lnTo>
                  <a:lnTo>
                    <a:pt x="4203" y="1380"/>
                  </a:lnTo>
                  <a:lnTo>
                    <a:pt x="4260" y="1523"/>
                  </a:lnTo>
                  <a:lnTo>
                    <a:pt x="4289" y="1724"/>
                  </a:lnTo>
                  <a:lnTo>
                    <a:pt x="4289" y="1839"/>
                  </a:lnTo>
                  <a:lnTo>
                    <a:pt x="4277" y="1923"/>
                  </a:lnTo>
                  <a:lnTo>
                    <a:pt x="4342" y="2255"/>
                  </a:lnTo>
                  <a:lnTo>
                    <a:pt x="4342" y="2455"/>
                  </a:lnTo>
                  <a:lnTo>
                    <a:pt x="4277" y="2725"/>
                  </a:lnTo>
                  <a:lnTo>
                    <a:pt x="4145" y="2920"/>
                  </a:lnTo>
                  <a:lnTo>
                    <a:pt x="4076" y="3190"/>
                  </a:lnTo>
                  <a:lnTo>
                    <a:pt x="4012" y="3386"/>
                  </a:lnTo>
                  <a:lnTo>
                    <a:pt x="3941" y="3587"/>
                  </a:lnTo>
                  <a:lnTo>
                    <a:pt x="3811" y="3718"/>
                  </a:lnTo>
                  <a:lnTo>
                    <a:pt x="3676" y="3917"/>
                  </a:lnTo>
                  <a:lnTo>
                    <a:pt x="3610" y="3983"/>
                  </a:lnTo>
                  <a:lnTo>
                    <a:pt x="3145" y="4314"/>
                  </a:lnTo>
                  <a:lnTo>
                    <a:pt x="678" y="4314"/>
                  </a:lnTo>
                  <a:close/>
                </a:path>
              </a:pathLst>
            </a:custGeom>
            <a:solidFill>
              <a:srgbClr val="cc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000440" y="838080"/>
              <a:ext cx="988560" cy="984240"/>
            </a:xfrm>
            <a:custGeom>
              <a:avLst/>
              <a:gdLst/>
              <a:ahLst/>
              <a:rect l="l" t="t" r="r" b="b"/>
              <a:pathLst>
                <a:path w="4342" h="4314">
                  <a:moveTo>
                    <a:pt x="678" y="4314"/>
                  </a:moveTo>
                  <a:lnTo>
                    <a:pt x="551" y="4216"/>
                  </a:lnTo>
                  <a:lnTo>
                    <a:pt x="409" y="4052"/>
                  </a:lnTo>
                  <a:lnTo>
                    <a:pt x="343" y="3917"/>
                  </a:lnTo>
                  <a:lnTo>
                    <a:pt x="278" y="3782"/>
                  </a:lnTo>
                  <a:lnTo>
                    <a:pt x="232" y="3529"/>
                  </a:lnTo>
                  <a:lnTo>
                    <a:pt x="212" y="3452"/>
                  </a:lnTo>
                  <a:lnTo>
                    <a:pt x="148" y="3252"/>
                  </a:lnTo>
                  <a:lnTo>
                    <a:pt x="77" y="3121"/>
                  </a:lnTo>
                  <a:lnTo>
                    <a:pt x="28" y="2929"/>
                  </a:lnTo>
                  <a:lnTo>
                    <a:pt x="13" y="2786"/>
                  </a:lnTo>
                  <a:lnTo>
                    <a:pt x="13" y="2590"/>
                  </a:lnTo>
                  <a:lnTo>
                    <a:pt x="0" y="2471"/>
                  </a:lnTo>
                  <a:lnTo>
                    <a:pt x="77" y="2193"/>
                  </a:lnTo>
                  <a:lnTo>
                    <a:pt x="212" y="1923"/>
                  </a:lnTo>
                  <a:lnTo>
                    <a:pt x="232" y="1781"/>
                  </a:lnTo>
                  <a:lnTo>
                    <a:pt x="278" y="1593"/>
                  </a:lnTo>
                  <a:lnTo>
                    <a:pt x="290" y="1409"/>
                  </a:lnTo>
                  <a:lnTo>
                    <a:pt x="409" y="1196"/>
                  </a:lnTo>
                  <a:lnTo>
                    <a:pt x="543" y="862"/>
                  </a:lnTo>
                  <a:lnTo>
                    <a:pt x="666" y="690"/>
                  </a:lnTo>
                  <a:lnTo>
                    <a:pt x="866" y="490"/>
                  </a:lnTo>
                  <a:lnTo>
                    <a:pt x="1213" y="265"/>
                  </a:lnTo>
                  <a:lnTo>
                    <a:pt x="1478" y="66"/>
                  </a:lnTo>
                  <a:lnTo>
                    <a:pt x="1670" y="4"/>
                  </a:lnTo>
                  <a:lnTo>
                    <a:pt x="1874" y="0"/>
                  </a:lnTo>
                  <a:lnTo>
                    <a:pt x="2078" y="0"/>
                  </a:lnTo>
                  <a:lnTo>
                    <a:pt x="2274" y="66"/>
                  </a:lnTo>
                  <a:lnTo>
                    <a:pt x="2409" y="135"/>
                  </a:lnTo>
                  <a:lnTo>
                    <a:pt x="2736" y="90"/>
                  </a:lnTo>
                  <a:lnTo>
                    <a:pt x="3010" y="135"/>
                  </a:lnTo>
                  <a:lnTo>
                    <a:pt x="3283" y="233"/>
                  </a:lnTo>
                  <a:lnTo>
                    <a:pt x="3411" y="331"/>
                  </a:lnTo>
                  <a:lnTo>
                    <a:pt x="3610" y="531"/>
                  </a:lnTo>
                  <a:lnTo>
                    <a:pt x="3811" y="796"/>
                  </a:lnTo>
                  <a:lnTo>
                    <a:pt x="3941" y="1061"/>
                  </a:lnTo>
                  <a:lnTo>
                    <a:pt x="4003" y="1233"/>
                  </a:lnTo>
                  <a:lnTo>
                    <a:pt x="4093" y="1262"/>
                  </a:lnTo>
                  <a:lnTo>
                    <a:pt x="4203" y="1380"/>
                  </a:lnTo>
                  <a:lnTo>
                    <a:pt x="4260" y="1523"/>
                  </a:lnTo>
                  <a:lnTo>
                    <a:pt x="4289" y="1724"/>
                  </a:lnTo>
                  <a:lnTo>
                    <a:pt x="4289" y="1839"/>
                  </a:lnTo>
                  <a:lnTo>
                    <a:pt x="4277" y="1923"/>
                  </a:lnTo>
                  <a:lnTo>
                    <a:pt x="4342" y="2255"/>
                  </a:lnTo>
                  <a:lnTo>
                    <a:pt x="4342" y="2455"/>
                  </a:lnTo>
                  <a:lnTo>
                    <a:pt x="4277" y="2725"/>
                  </a:lnTo>
                  <a:lnTo>
                    <a:pt x="4145" y="2920"/>
                  </a:lnTo>
                  <a:lnTo>
                    <a:pt x="4076" y="3190"/>
                  </a:lnTo>
                  <a:lnTo>
                    <a:pt x="4012" y="3386"/>
                  </a:lnTo>
                  <a:lnTo>
                    <a:pt x="3941" y="3587"/>
                  </a:lnTo>
                  <a:lnTo>
                    <a:pt x="3811" y="3718"/>
                  </a:lnTo>
                  <a:lnTo>
                    <a:pt x="3676" y="3917"/>
                  </a:lnTo>
                  <a:lnTo>
                    <a:pt x="3610" y="3983"/>
                  </a:lnTo>
                  <a:lnTo>
                    <a:pt x="3145" y="4314"/>
                  </a:lnTo>
                  <a:lnTo>
                    <a:pt x="678" y="4314"/>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52280" y="1216800"/>
              <a:ext cx="2590920" cy="5412240"/>
            </a:xfrm>
            <a:custGeom>
              <a:avLst/>
              <a:gdLst/>
              <a:ahLst/>
              <a:rect l="l" t="t" r="r" b="b"/>
              <a:pathLst>
                <a:path w="11382" h="23724">
                  <a:moveTo>
                    <a:pt x="9081" y="9189"/>
                  </a:moveTo>
                  <a:lnTo>
                    <a:pt x="9081" y="9508"/>
                  </a:lnTo>
                  <a:lnTo>
                    <a:pt x="9052" y="9617"/>
                  </a:lnTo>
                  <a:lnTo>
                    <a:pt x="9003" y="9757"/>
                  </a:lnTo>
                  <a:lnTo>
                    <a:pt x="8995" y="9896"/>
                  </a:lnTo>
                  <a:lnTo>
                    <a:pt x="8939" y="9982"/>
                  </a:lnTo>
                  <a:lnTo>
                    <a:pt x="8910" y="10039"/>
                  </a:lnTo>
                  <a:lnTo>
                    <a:pt x="8848" y="10296"/>
                  </a:lnTo>
                  <a:lnTo>
                    <a:pt x="8791" y="10410"/>
                  </a:lnTo>
                  <a:lnTo>
                    <a:pt x="8734" y="10553"/>
                  </a:lnTo>
                  <a:lnTo>
                    <a:pt x="8738" y="10623"/>
                  </a:lnTo>
                  <a:lnTo>
                    <a:pt x="8669" y="10754"/>
                  </a:lnTo>
                  <a:lnTo>
                    <a:pt x="8624" y="10884"/>
                  </a:lnTo>
                  <a:lnTo>
                    <a:pt x="8603" y="11149"/>
                  </a:lnTo>
                  <a:lnTo>
                    <a:pt x="8652" y="11340"/>
                  </a:lnTo>
                  <a:lnTo>
                    <a:pt x="8669" y="11484"/>
                  </a:lnTo>
                  <a:lnTo>
                    <a:pt x="8804" y="11814"/>
                  </a:lnTo>
                  <a:lnTo>
                    <a:pt x="8910" y="12231"/>
                  </a:lnTo>
                  <a:lnTo>
                    <a:pt x="8966" y="12541"/>
                  </a:lnTo>
                  <a:lnTo>
                    <a:pt x="8995" y="12746"/>
                  </a:lnTo>
                  <a:lnTo>
                    <a:pt x="8966" y="12885"/>
                  </a:lnTo>
                  <a:lnTo>
                    <a:pt x="8939" y="13077"/>
                  </a:lnTo>
                  <a:lnTo>
                    <a:pt x="9069" y="13477"/>
                  </a:lnTo>
                  <a:lnTo>
                    <a:pt x="9138" y="13862"/>
                  </a:lnTo>
                  <a:lnTo>
                    <a:pt x="9204" y="14070"/>
                  </a:lnTo>
                  <a:lnTo>
                    <a:pt x="9270" y="14670"/>
                  </a:lnTo>
                  <a:lnTo>
                    <a:pt x="9339" y="15202"/>
                  </a:lnTo>
                  <a:lnTo>
                    <a:pt x="9371" y="15782"/>
                  </a:lnTo>
                  <a:lnTo>
                    <a:pt x="9343" y="16701"/>
                  </a:lnTo>
                  <a:lnTo>
                    <a:pt x="9257" y="17718"/>
                  </a:lnTo>
                  <a:lnTo>
                    <a:pt x="9285" y="18638"/>
                  </a:lnTo>
                  <a:lnTo>
                    <a:pt x="9270" y="19319"/>
                  </a:lnTo>
                  <a:lnTo>
                    <a:pt x="9138" y="20214"/>
                  </a:lnTo>
                  <a:lnTo>
                    <a:pt x="9003" y="20913"/>
                  </a:lnTo>
                  <a:lnTo>
                    <a:pt x="8804" y="21775"/>
                  </a:lnTo>
                  <a:lnTo>
                    <a:pt x="8669" y="22306"/>
                  </a:lnTo>
                  <a:lnTo>
                    <a:pt x="8603" y="22968"/>
                  </a:lnTo>
                  <a:lnTo>
                    <a:pt x="8505" y="23380"/>
                  </a:lnTo>
                  <a:lnTo>
                    <a:pt x="8448" y="23466"/>
                  </a:lnTo>
                  <a:lnTo>
                    <a:pt x="8334" y="23552"/>
                  </a:lnTo>
                  <a:lnTo>
                    <a:pt x="8133" y="23633"/>
                  </a:lnTo>
                  <a:lnTo>
                    <a:pt x="7471" y="23724"/>
                  </a:lnTo>
                  <a:lnTo>
                    <a:pt x="7002" y="23699"/>
                  </a:lnTo>
                  <a:lnTo>
                    <a:pt x="6548" y="23609"/>
                  </a:lnTo>
                  <a:lnTo>
                    <a:pt x="6258" y="23500"/>
                  </a:lnTo>
                  <a:lnTo>
                    <a:pt x="6204" y="23351"/>
                  </a:lnTo>
                  <a:lnTo>
                    <a:pt x="6120" y="22580"/>
                  </a:lnTo>
                  <a:lnTo>
                    <a:pt x="6091" y="22175"/>
                  </a:lnTo>
                  <a:lnTo>
                    <a:pt x="6120" y="21661"/>
                  </a:lnTo>
                  <a:lnTo>
                    <a:pt x="6135" y="20978"/>
                  </a:lnTo>
                  <a:lnTo>
                    <a:pt x="6034" y="20242"/>
                  </a:lnTo>
                  <a:lnTo>
                    <a:pt x="5914" y="19638"/>
                  </a:lnTo>
                  <a:lnTo>
                    <a:pt x="5830" y="19181"/>
                  </a:lnTo>
                  <a:lnTo>
                    <a:pt x="5744" y="18722"/>
                  </a:lnTo>
                  <a:lnTo>
                    <a:pt x="5715" y="18265"/>
                  </a:lnTo>
                  <a:lnTo>
                    <a:pt x="5670" y="17926"/>
                  </a:lnTo>
                  <a:lnTo>
                    <a:pt x="5600" y="18788"/>
                  </a:lnTo>
                  <a:lnTo>
                    <a:pt x="5535" y="19250"/>
                  </a:lnTo>
                  <a:lnTo>
                    <a:pt x="5469" y="20112"/>
                  </a:lnTo>
                  <a:lnTo>
                    <a:pt x="5396" y="20529"/>
                  </a:lnTo>
                  <a:lnTo>
                    <a:pt x="5335" y="20978"/>
                  </a:lnTo>
                  <a:lnTo>
                    <a:pt x="5335" y="21710"/>
                  </a:lnTo>
                  <a:lnTo>
                    <a:pt x="5269" y="22306"/>
                  </a:lnTo>
                  <a:lnTo>
                    <a:pt x="5269" y="22906"/>
                  </a:lnTo>
                  <a:lnTo>
                    <a:pt x="5253" y="23351"/>
                  </a:lnTo>
                  <a:lnTo>
                    <a:pt x="5167" y="23500"/>
                  </a:lnTo>
                  <a:lnTo>
                    <a:pt x="5024" y="23552"/>
                  </a:lnTo>
                  <a:lnTo>
                    <a:pt x="4707" y="23638"/>
                  </a:lnTo>
                  <a:lnTo>
                    <a:pt x="4277" y="23724"/>
                  </a:lnTo>
                  <a:lnTo>
                    <a:pt x="3754" y="23724"/>
                  </a:lnTo>
                  <a:lnTo>
                    <a:pt x="3383" y="23667"/>
                  </a:lnTo>
                  <a:lnTo>
                    <a:pt x="3064" y="23581"/>
                  </a:lnTo>
                  <a:lnTo>
                    <a:pt x="2921" y="23437"/>
                  </a:lnTo>
                  <a:lnTo>
                    <a:pt x="2872" y="22906"/>
                  </a:lnTo>
                  <a:lnTo>
                    <a:pt x="2803" y="22371"/>
                  </a:lnTo>
                  <a:lnTo>
                    <a:pt x="2721" y="21759"/>
                  </a:lnTo>
                  <a:lnTo>
                    <a:pt x="2578" y="21101"/>
                  </a:lnTo>
                  <a:lnTo>
                    <a:pt x="2435" y="20586"/>
                  </a:lnTo>
                  <a:lnTo>
                    <a:pt x="2317" y="20129"/>
                  </a:lnTo>
                  <a:lnTo>
                    <a:pt x="2231" y="19712"/>
                  </a:lnTo>
                  <a:lnTo>
                    <a:pt x="2145" y="19254"/>
                  </a:lnTo>
                  <a:lnTo>
                    <a:pt x="2087" y="18780"/>
                  </a:lnTo>
                  <a:lnTo>
                    <a:pt x="2067" y="18257"/>
                  </a:lnTo>
                  <a:lnTo>
                    <a:pt x="2059" y="17718"/>
                  </a:lnTo>
                  <a:lnTo>
                    <a:pt x="2087" y="17260"/>
                  </a:lnTo>
                  <a:lnTo>
                    <a:pt x="2059" y="16730"/>
                  </a:lnTo>
                  <a:lnTo>
                    <a:pt x="2030" y="16472"/>
                  </a:lnTo>
                  <a:lnTo>
                    <a:pt x="2001" y="16064"/>
                  </a:lnTo>
                  <a:lnTo>
                    <a:pt x="2030" y="15667"/>
                  </a:lnTo>
                  <a:lnTo>
                    <a:pt x="2067" y="15202"/>
                  </a:lnTo>
                  <a:lnTo>
                    <a:pt x="2087" y="14809"/>
                  </a:lnTo>
                  <a:lnTo>
                    <a:pt x="2136" y="14474"/>
                  </a:lnTo>
                  <a:lnTo>
                    <a:pt x="2173" y="14066"/>
                  </a:lnTo>
                  <a:lnTo>
                    <a:pt x="2202" y="13739"/>
                  </a:lnTo>
                  <a:lnTo>
                    <a:pt x="2271" y="13477"/>
                  </a:lnTo>
                  <a:lnTo>
                    <a:pt x="2317" y="13204"/>
                  </a:lnTo>
                  <a:lnTo>
                    <a:pt x="2271" y="12946"/>
                  </a:lnTo>
                  <a:lnTo>
                    <a:pt x="2202" y="12746"/>
                  </a:lnTo>
                  <a:lnTo>
                    <a:pt x="2231" y="12541"/>
                  </a:lnTo>
                  <a:lnTo>
                    <a:pt x="2337" y="12280"/>
                  </a:lnTo>
                  <a:lnTo>
                    <a:pt x="2406" y="12015"/>
                  </a:lnTo>
                  <a:lnTo>
                    <a:pt x="2467" y="11750"/>
                  </a:lnTo>
                  <a:lnTo>
                    <a:pt x="2537" y="11549"/>
                  </a:lnTo>
                  <a:lnTo>
                    <a:pt x="2578" y="11312"/>
                  </a:lnTo>
                  <a:lnTo>
                    <a:pt x="2602" y="11149"/>
                  </a:lnTo>
                  <a:lnTo>
                    <a:pt x="2537" y="10754"/>
                  </a:lnTo>
                  <a:lnTo>
                    <a:pt x="2463" y="10582"/>
                  </a:lnTo>
                  <a:lnTo>
                    <a:pt x="2435" y="10410"/>
                  </a:lnTo>
                  <a:lnTo>
                    <a:pt x="2406" y="10358"/>
                  </a:lnTo>
                  <a:lnTo>
                    <a:pt x="2337" y="10223"/>
                  </a:lnTo>
                  <a:lnTo>
                    <a:pt x="2288" y="10149"/>
                  </a:lnTo>
                  <a:lnTo>
                    <a:pt x="2231" y="9953"/>
                  </a:lnTo>
                  <a:lnTo>
                    <a:pt x="2202" y="9838"/>
                  </a:lnTo>
                  <a:lnTo>
                    <a:pt x="2202" y="9691"/>
                  </a:lnTo>
                  <a:lnTo>
                    <a:pt x="2136" y="9556"/>
                  </a:lnTo>
                  <a:lnTo>
                    <a:pt x="2116" y="10054"/>
                  </a:lnTo>
                  <a:lnTo>
                    <a:pt x="2087" y="10280"/>
                  </a:lnTo>
                  <a:lnTo>
                    <a:pt x="2030" y="10541"/>
                  </a:lnTo>
                  <a:lnTo>
                    <a:pt x="1969" y="10680"/>
                  </a:lnTo>
                  <a:lnTo>
                    <a:pt x="1915" y="10827"/>
                  </a:lnTo>
                  <a:lnTo>
                    <a:pt x="1871" y="10953"/>
                  </a:lnTo>
                  <a:lnTo>
                    <a:pt x="1736" y="11149"/>
                  </a:lnTo>
                  <a:lnTo>
                    <a:pt x="1671" y="11283"/>
                  </a:lnTo>
                  <a:lnTo>
                    <a:pt x="1626" y="11484"/>
                  </a:lnTo>
                  <a:lnTo>
                    <a:pt x="1654" y="11684"/>
                  </a:lnTo>
                  <a:lnTo>
                    <a:pt x="1671" y="11883"/>
                  </a:lnTo>
                  <a:lnTo>
                    <a:pt x="1671" y="12015"/>
                  </a:lnTo>
                  <a:lnTo>
                    <a:pt x="1736" y="12415"/>
                  </a:lnTo>
                  <a:lnTo>
                    <a:pt x="1773" y="12689"/>
                  </a:lnTo>
                  <a:lnTo>
                    <a:pt x="1831" y="13089"/>
                  </a:lnTo>
                  <a:lnTo>
                    <a:pt x="1831" y="13461"/>
                  </a:lnTo>
                  <a:lnTo>
                    <a:pt x="1773" y="14066"/>
                  </a:lnTo>
                  <a:lnTo>
                    <a:pt x="1745" y="14466"/>
                  </a:lnTo>
                  <a:lnTo>
                    <a:pt x="1687" y="14923"/>
                  </a:lnTo>
                  <a:lnTo>
                    <a:pt x="1654" y="15409"/>
                  </a:lnTo>
                  <a:lnTo>
                    <a:pt x="1601" y="15733"/>
                  </a:lnTo>
                  <a:lnTo>
                    <a:pt x="1601" y="15868"/>
                  </a:lnTo>
                  <a:lnTo>
                    <a:pt x="1569" y="16072"/>
                  </a:lnTo>
                  <a:lnTo>
                    <a:pt x="1569" y="16271"/>
                  </a:lnTo>
                  <a:lnTo>
                    <a:pt x="1569" y="16415"/>
                  </a:lnTo>
                  <a:lnTo>
                    <a:pt x="1671" y="16529"/>
                  </a:lnTo>
                  <a:lnTo>
                    <a:pt x="1745" y="16672"/>
                  </a:lnTo>
                  <a:lnTo>
                    <a:pt x="1831" y="16843"/>
                  </a:lnTo>
                  <a:lnTo>
                    <a:pt x="2001" y="17175"/>
                  </a:lnTo>
                  <a:lnTo>
                    <a:pt x="2059" y="17604"/>
                  </a:lnTo>
                  <a:lnTo>
                    <a:pt x="2059" y="18265"/>
                  </a:lnTo>
                  <a:lnTo>
                    <a:pt x="2067" y="18584"/>
                  </a:lnTo>
                  <a:lnTo>
                    <a:pt x="2001" y="18695"/>
                  </a:lnTo>
                  <a:lnTo>
                    <a:pt x="1871" y="18719"/>
                  </a:lnTo>
                  <a:lnTo>
                    <a:pt x="1397" y="18780"/>
                  </a:lnTo>
                  <a:lnTo>
                    <a:pt x="1001" y="18719"/>
                  </a:lnTo>
                  <a:lnTo>
                    <a:pt x="870" y="18653"/>
                  </a:lnTo>
                  <a:lnTo>
                    <a:pt x="601" y="18323"/>
                  </a:lnTo>
                  <a:lnTo>
                    <a:pt x="404" y="17988"/>
                  </a:lnTo>
                  <a:lnTo>
                    <a:pt x="339" y="17857"/>
                  </a:lnTo>
                  <a:lnTo>
                    <a:pt x="302" y="17661"/>
                  </a:lnTo>
                  <a:lnTo>
                    <a:pt x="339" y="17521"/>
                  </a:lnTo>
                  <a:lnTo>
                    <a:pt x="404" y="17326"/>
                  </a:lnTo>
                  <a:lnTo>
                    <a:pt x="445" y="17118"/>
                  </a:lnTo>
                  <a:lnTo>
                    <a:pt x="503" y="16917"/>
                  </a:lnTo>
                  <a:lnTo>
                    <a:pt x="535" y="16794"/>
                  </a:lnTo>
                  <a:lnTo>
                    <a:pt x="535" y="16730"/>
                  </a:lnTo>
                  <a:lnTo>
                    <a:pt x="559" y="16587"/>
                  </a:lnTo>
                  <a:lnTo>
                    <a:pt x="601" y="16398"/>
                  </a:lnTo>
                  <a:lnTo>
                    <a:pt x="601" y="16198"/>
                  </a:lnTo>
                  <a:lnTo>
                    <a:pt x="601" y="15868"/>
                  </a:lnTo>
                  <a:lnTo>
                    <a:pt x="503" y="15409"/>
                  </a:lnTo>
                  <a:lnTo>
                    <a:pt x="445" y="15067"/>
                  </a:lnTo>
                  <a:lnTo>
                    <a:pt x="359" y="14667"/>
                  </a:lnTo>
                  <a:lnTo>
                    <a:pt x="270" y="14205"/>
                  </a:lnTo>
                  <a:lnTo>
                    <a:pt x="135" y="13739"/>
                  </a:lnTo>
                  <a:lnTo>
                    <a:pt x="69" y="13277"/>
                  </a:lnTo>
                  <a:lnTo>
                    <a:pt x="0" y="12946"/>
                  </a:lnTo>
                  <a:lnTo>
                    <a:pt x="0" y="12480"/>
                  </a:lnTo>
                  <a:lnTo>
                    <a:pt x="0" y="12280"/>
                  </a:lnTo>
                  <a:lnTo>
                    <a:pt x="69" y="11949"/>
                  </a:lnTo>
                  <a:lnTo>
                    <a:pt x="204" y="11484"/>
                  </a:lnTo>
                  <a:lnTo>
                    <a:pt x="339" y="11084"/>
                  </a:lnTo>
                  <a:lnTo>
                    <a:pt x="404" y="10754"/>
                  </a:lnTo>
                  <a:lnTo>
                    <a:pt x="417" y="10553"/>
                  </a:lnTo>
                  <a:lnTo>
                    <a:pt x="469" y="10088"/>
                  </a:lnTo>
                  <a:lnTo>
                    <a:pt x="469" y="9556"/>
                  </a:lnTo>
                  <a:lnTo>
                    <a:pt x="503" y="8976"/>
                  </a:lnTo>
                  <a:lnTo>
                    <a:pt x="535" y="8499"/>
                  </a:lnTo>
                  <a:lnTo>
                    <a:pt x="670" y="7898"/>
                  </a:lnTo>
                  <a:lnTo>
                    <a:pt x="736" y="7502"/>
                  </a:lnTo>
                  <a:lnTo>
                    <a:pt x="707" y="7228"/>
                  </a:lnTo>
                  <a:lnTo>
                    <a:pt x="678" y="6770"/>
                  </a:lnTo>
                  <a:lnTo>
                    <a:pt x="736" y="6240"/>
                  </a:lnTo>
                  <a:lnTo>
                    <a:pt x="805" y="5843"/>
                  </a:lnTo>
                  <a:lnTo>
                    <a:pt x="1026" y="5381"/>
                  </a:lnTo>
                  <a:lnTo>
                    <a:pt x="1271" y="5108"/>
                  </a:lnTo>
                  <a:lnTo>
                    <a:pt x="1426" y="4988"/>
                  </a:lnTo>
                  <a:lnTo>
                    <a:pt x="1671" y="4846"/>
                  </a:lnTo>
                  <a:lnTo>
                    <a:pt x="2136" y="4777"/>
                  </a:lnTo>
                  <a:lnTo>
                    <a:pt x="2668" y="4711"/>
                  </a:lnTo>
                  <a:lnTo>
                    <a:pt x="2803" y="4646"/>
                  </a:lnTo>
                  <a:lnTo>
                    <a:pt x="3203" y="4445"/>
                  </a:lnTo>
                  <a:lnTo>
                    <a:pt x="3469" y="4274"/>
                  </a:lnTo>
                  <a:lnTo>
                    <a:pt x="3874" y="4114"/>
                  </a:lnTo>
                  <a:lnTo>
                    <a:pt x="4135" y="3984"/>
                  </a:lnTo>
                  <a:lnTo>
                    <a:pt x="4339" y="3784"/>
                  </a:lnTo>
                  <a:lnTo>
                    <a:pt x="4363" y="3645"/>
                  </a:lnTo>
                  <a:lnTo>
                    <a:pt x="4404" y="3117"/>
                  </a:lnTo>
                  <a:lnTo>
                    <a:pt x="4404" y="2652"/>
                  </a:lnTo>
                  <a:lnTo>
                    <a:pt x="4339" y="2321"/>
                  </a:lnTo>
                  <a:lnTo>
                    <a:pt x="4339" y="2120"/>
                  </a:lnTo>
                  <a:lnTo>
                    <a:pt x="4204" y="1990"/>
                  </a:lnTo>
                  <a:lnTo>
                    <a:pt x="4004" y="1724"/>
                  </a:lnTo>
                  <a:lnTo>
                    <a:pt x="3938" y="1528"/>
                  </a:lnTo>
                  <a:lnTo>
                    <a:pt x="3874" y="1194"/>
                  </a:lnTo>
                  <a:lnTo>
                    <a:pt x="3874" y="928"/>
                  </a:lnTo>
                  <a:lnTo>
                    <a:pt x="3938" y="862"/>
                  </a:lnTo>
                  <a:lnTo>
                    <a:pt x="4004" y="793"/>
                  </a:lnTo>
                  <a:lnTo>
                    <a:pt x="4135" y="793"/>
                  </a:lnTo>
                  <a:lnTo>
                    <a:pt x="4135" y="862"/>
                  </a:lnTo>
                  <a:lnTo>
                    <a:pt x="4204" y="993"/>
                  </a:lnTo>
                  <a:lnTo>
                    <a:pt x="4188" y="1063"/>
                  </a:lnTo>
                  <a:lnTo>
                    <a:pt x="4204" y="1194"/>
                  </a:lnTo>
                  <a:lnTo>
                    <a:pt x="4269" y="1324"/>
                  </a:lnTo>
                  <a:lnTo>
                    <a:pt x="4277" y="1349"/>
                  </a:lnTo>
                  <a:lnTo>
                    <a:pt x="4404" y="1459"/>
                  </a:lnTo>
                  <a:lnTo>
                    <a:pt x="4404" y="1590"/>
                  </a:lnTo>
                  <a:lnTo>
                    <a:pt x="4449" y="1724"/>
                  </a:lnTo>
                  <a:lnTo>
                    <a:pt x="4469" y="1790"/>
                  </a:lnTo>
                  <a:lnTo>
                    <a:pt x="4535" y="1855"/>
                  </a:lnTo>
                  <a:lnTo>
                    <a:pt x="4604" y="1855"/>
                  </a:lnTo>
                  <a:lnTo>
                    <a:pt x="4678" y="1778"/>
                  </a:lnTo>
                  <a:lnTo>
                    <a:pt x="4804" y="1590"/>
                  </a:lnTo>
                  <a:lnTo>
                    <a:pt x="4736" y="1459"/>
                  </a:lnTo>
                  <a:lnTo>
                    <a:pt x="4670" y="1194"/>
                  </a:lnTo>
                  <a:lnTo>
                    <a:pt x="4670" y="1124"/>
                  </a:lnTo>
                  <a:lnTo>
                    <a:pt x="4670" y="993"/>
                  </a:lnTo>
                  <a:lnTo>
                    <a:pt x="4736" y="928"/>
                  </a:lnTo>
                  <a:lnTo>
                    <a:pt x="4804" y="728"/>
                  </a:lnTo>
                  <a:lnTo>
                    <a:pt x="4939" y="593"/>
                  </a:lnTo>
                  <a:lnTo>
                    <a:pt x="5000" y="462"/>
                  </a:lnTo>
                  <a:lnTo>
                    <a:pt x="5069" y="332"/>
                  </a:lnTo>
                  <a:lnTo>
                    <a:pt x="5204" y="197"/>
                  </a:lnTo>
                  <a:lnTo>
                    <a:pt x="5335" y="197"/>
                  </a:lnTo>
                  <a:lnTo>
                    <a:pt x="5469" y="197"/>
                  </a:lnTo>
                  <a:lnTo>
                    <a:pt x="5539" y="233"/>
                  </a:lnTo>
                  <a:lnTo>
                    <a:pt x="5658" y="290"/>
                  </a:lnTo>
                  <a:lnTo>
                    <a:pt x="6000" y="332"/>
                  </a:lnTo>
                  <a:lnTo>
                    <a:pt x="6405" y="261"/>
                  </a:lnTo>
                  <a:lnTo>
                    <a:pt x="6601" y="261"/>
                  </a:lnTo>
                  <a:lnTo>
                    <a:pt x="6936" y="332"/>
                  </a:lnTo>
                  <a:lnTo>
                    <a:pt x="7267" y="233"/>
                  </a:lnTo>
                  <a:lnTo>
                    <a:pt x="7603" y="0"/>
                  </a:lnTo>
                  <a:lnTo>
                    <a:pt x="7667" y="197"/>
                  </a:lnTo>
                  <a:lnTo>
                    <a:pt x="7667" y="396"/>
                  </a:lnTo>
                  <a:lnTo>
                    <a:pt x="7667" y="531"/>
                  </a:lnTo>
                  <a:lnTo>
                    <a:pt x="7667" y="658"/>
                  </a:lnTo>
                  <a:lnTo>
                    <a:pt x="7701" y="809"/>
                  </a:lnTo>
                  <a:lnTo>
                    <a:pt x="7738" y="1324"/>
                  </a:lnTo>
                  <a:lnTo>
                    <a:pt x="7667" y="1655"/>
                  </a:lnTo>
                  <a:lnTo>
                    <a:pt x="7603" y="1925"/>
                  </a:lnTo>
                  <a:lnTo>
                    <a:pt x="7537" y="2255"/>
                  </a:lnTo>
                  <a:lnTo>
                    <a:pt x="7410" y="2586"/>
                  </a:lnTo>
                  <a:lnTo>
                    <a:pt x="7267" y="2930"/>
                  </a:lnTo>
                  <a:lnTo>
                    <a:pt x="7067" y="3183"/>
                  </a:lnTo>
                  <a:lnTo>
                    <a:pt x="6924" y="3330"/>
                  </a:lnTo>
                  <a:lnTo>
                    <a:pt x="6896" y="3387"/>
                  </a:lnTo>
                  <a:lnTo>
                    <a:pt x="6871" y="3583"/>
                  </a:lnTo>
                  <a:lnTo>
                    <a:pt x="6871" y="3849"/>
                  </a:lnTo>
                  <a:lnTo>
                    <a:pt x="7137" y="4114"/>
                  </a:lnTo>
                  <a:lnTo>
                    <a:pt x="7336" y="4180"/>
                  </a:lnTo>
                  <a:lnTo>
                    <a:pt x="7471" y="4217"/>
                  </a:lnTo>
                  <a:lnTo>
                    <a:pt x="7672" y="4274"/>
                  </a:lnTo>
                  <a:lnTo>
                    <a:pt x="7876" y="4359"/>
                  </a:lnTo>
                  <a:lnTo>
                    <a:pt x="8072" y="4479"/>
                  </a:lnTo>
                  <a:lnTo>
                    <a:pt x="8334" y="4617"/>
                  </a:lnTo>
                  <a:lnTo>
                    <a:pt x="8939" y="4646"/>
                  </a:lnTo>
                  <a:lnTo>
                    <a:pt x="9371" y="4674"/>
                  </a:lnTo>
                  <a:lnTo>
                    <a:pt x="9540" y="4711"/>
                  </a:lnTo>
                  <a:lnTo>
                    <a:pt x="9857" y="4879"/>
                  </a:lnTo>
                  <a:lnTo>
                    <a:pt x="10070" y="5108"/>
                  </a:lnTo>
                  <a:lnTo>
                    <a:pt x="10291" y="5450"/>
                  </a:lnTo>
                  <a:lnTo>
                    <a:pt x="10471" y="5843"/>
                  </a:lnTo>
                  <a:lnTo>
                    <a:pt x="10606" y="6382"/>
                  </a:lnTo>
                  <a:lnTo>
                    <a:pt x="10635" y="6697"/>
                  </a:lnTo>
                  <a:lnTo>
                    <a:pt x="10635" y="6896"/>
                  </a:lnTo>
                  <a:lnTo>
                    <a:pt x="10635" y="7129"/>
                  </a:lnTo>
                  <a:lnTo>
                    <a:pt x="10606" y="7355"/>
                  </a:lnTo>
                  <a:lnTo>
                    <a:pt x="10601" y="7567"/>
                  </a:lnTo>
                  <a:lnTo>
                    <a:pt x="10601" y="7697"/>
                  </a:lnTo>
                  <a:lnTo>
                    <a:pt x="10670" y="8033"/>
                  </a:lnTo>
                  <a:lnTo>
                    <a:pt x="10736" y="8364"/>
                  </a:lnTo>
                  <a:lnTo>
                    <a:pt x="10867" y="8890"/>
                  </a:lnTo>
                  <a:lnTo>
                    <a:pt x="10925" y="9348"/>
                  </a:lnTo>
                  <a:lnTo>
                    <a:pt x="10937" y="9757"/>
                  </a:lnTo>
                  <a:lnTo>
                    <a:pt x="11006" y="10553"/>
                  </a:lnTo>
                  <a:lnTo>
                    <a:pt x="11038" y="10884"/>
                  </a:lnTo>
                  <a:lnTo>
                    <a:pt x="11136" y="11084"/>
                  </a:lnTo>
                  <a:lnTo>
                    <a:pt x="11158" y="11426"/>
                  </a:lnTo>
                  <a:lnTo>
                    <a:pt x="11271" y="11814"/>
                  </a:lnTo>
                  <a:lnTo>
                    <a:pt x="11357" y="12288"/>
                  </a:lnTo>
                  <a:lnTo>
                    <a:pt x="11382" y="12603"/>
                  </a:lnTo>
                  <a:lnTo>
                    <a:pt x="11382" y="12885"/>
                  </a:lnTo>
                  <a:lnTo>
                    <a:pt x="11357" y="13204"/>
                  </a:lnTo>
                  <a:lnTo>
                    <a:pt x="11271" y="13538"/>
                  </a:lnTo>
                  <a:lnTo>
                    <a:pt x="11186" y="13947"/>
                  </a:lnTo>
                  <a:lnTo>
                    <a:pt x="11072" y="14339"/>
                  </a:lnTo>
                  <a:lnTo>
                    <a:pt x="10952" y="14724"/>
                  </a:lnTo>
                  <a:lnTo>
                    <a:pt x="10839" y="15210"/>
                  </a:lnTo>
                  <a:lnTo>
                    <a:pt x="10781" y="15627"/>
                  </a:lnTo>
                  <a:lnTo>
                    <a:pt x="10753" y="15855"/>
                  </a:lnTo>
                  <a:lnTo>
                    <a:pt x="10724" y="16059"/>
                  </a:lnTo>
                  <a:lnTo>
                    <a:pt x="10724" y="16198"/>
                  </a:lnTo>
                  <a:lnTo>
                    <a:pt x="10724" y="16256"/>
                  </a:lnTo>
                  <a:lnTo>
                    <a:pt x="10724" y="16342"/>
                  </a:lnTo>
                  <a:lnTo>
                    <a:pt x="10724" y="16472"/>
                  </a:lnTo>
                  <a:lnTo>
                    <a:pt x="10781" y="16587"/>
                  </a:lnTo>
                  <a:lnTo>
                    <a:pt x="10871" y="16860"/>
                  </a:lnTo>
                  <a:lnTo>
                    <a:pt x="10952" y="17204"/>
                  </a:lnTo>
                  <a:lnTo>
                    <a:pt x="11009" y="17518"/>
                  </a:lnTo>
                  <a:lnTo>
                    <a:pt x="11009" y="17632"/>
                  </a:lnTo>
                  <a:lnTo>
                    <a:pt x="10896" y="17923"/>
                  </a:lnTo>
                  <a:lnTo>
                    <a:pt x="10839" y="18061"/>
                  </a:lnTo>
                  <a:lnTo>
                    <a:pt x="10802" y="18188"/>
                  </a:lnTo>
                  <a:lnTo>
                    <a:pt x="10663" y="18434"/>
                  </a:lnTo>
                  <a:lnTo>
                    <a:pt x="10601" y="18518"/>
                  </a:lnTo>
                  <a:lnTo>
                    <a:pt x="10471" y="18653"/>
                  </a:lnTo>
                  <a:lnTo>
                    <a:pt x="10319" y="18722"/>
                  </a:lnTo>
                  <a:lnTo>
                    <a:pt x="10135" y="18788"/>
                  </a:lnTo>
                  <a:lnTo>
                    <a:pt x="9870" y="18788"/>
                  </a:lnTo>
                  <a:lnTo>
                    <a:pt x="9670" y="18788"/>
                  </a:lnTo>
                  <a:lnTo>
                    <a:pt x="9371" y="18695"/>
                  </a:lnTo>
                  <a:lnTo>
                    <a:pt x="9285" y="18580"/>
                  </a:lnTo>
                  <a:lnTo>
                    <a:pt x="9270" y="17521"/>
                  </a:lnTo>
                  <a:lnTo>
                    <a:pt x="9371" y="17003"/>
                  </a:lnTo>
                  <a:lnTo>
                    <a:pt x="9428" y="16803"/>
                  </a:lnTo>
                  <a:lnTo>
                    <a:pt x="9600" y="16464"/>
                  </a:lnTo>
                  <a:lnTo>
                    <a:pt x="9801" y="16124"/>
                  </a:lnTo>
                  <a:lnTo>
                    <a:pt x="9870" y="15733"/>
                  </a:lnTo>
                  <a:lnTo>
                    <a:pt x="9870" y="15467"/>
                  </a:lnTo>
                  <a:lnTo>
                    <a:pt x="9828" y="15210"/>
                  </a:lnTo>
                  <a:lnTo>
                    <a:pt x="9805" y="14935"/>
                  </a:lnTo>
                  <a:lnTo>
                    <a:pt x="9735" y="14535"/>
                  </a:lnTo>
                  <a:lnTo>
                    <a:pt x="9670" y="14070"/>
                  </a:lnTo>
                  <a:lnTo>
                    <a:pt x="9600" y="13608"/>
                  </a:lnTo>
                  <a:lnTo>
                    <a:pt x="9540" y="13277"/>
                  </a:lnTo>
                  <a:lnTo>
                    <a:pt x="9540" y="12811"/>
                  </a:lnTo>
                  <a:lnTo>
                    <a:pt x="9600" y="12415"/>
                  </a:lnTo>
                  <a:lnTo>
                    <a:pt x="9670" y="12080"/>
                  </a:lnTo>
                  <a:lnTo>
                    <a:pt x="9715" y="11827"/>
                  </a:lnTo>
                  <a:lnTo>
                    <a:pt x="9735" y="11615"/>
                  </a:lnTo>
                  <a:lnTo>
                    <a:pt x="9735" y="11549"/>
                  </a:lnTo>
                  <a:lnTo>
                    <a:pt x="9670" y="11218"/>
                  </a:lnTo>
                  <a:lnTo>
                    <a:pt x="9540" y="10889"/>
                  </a:lnTo>
                  <a:lnTo>
                    <a:pt x="9371" y="10410"/>
                  </a:lnTo>
                  <a:lnTo>
                    <a:pt x="9224" y="9953"/>
                  </a:lnTo>
                  <a:lnTo>
                    <a:pt x="9135" y="9496"/>
                  </a:lnTo>
                  <a:lnTo>
                    <a:pt x="9081" y="9189"/>
                  </a:lnTo>
                  <a:close/>
                </a:path>
              </a:pathLst>
            </a:custGeom>
            <a:solidFill>
              <a:srgbClr val="ffcc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52280" y="1216800"/>
              <a:ext cx="2590920" cy="5412240"/>
            </a:xfrm>
            <a:custGeom>
              <a:avLst/>
              <a:gdLst/>
              <a:ahLst/>
              <a:rect l="l" t="t" r="r" b="b"/>
              <a:pathLst>
                <a:path w="11382" h="23724">
                  <a:moveTo>
                    <a:pt x="9081" y="9189"/>
                  </a:moveTo>
                  <a:lnTo>
                    <a:pt x="9081" y="9508"/>
                  </a:lnTo>
                  <a:lnTo>
                    <a:pt x="9052" y="9617"/>
                  </a:lnTo>
                  <a:lnTo>
                    <a:pt x="9003" y="9757"/>
                  </a:lnTo>
                  <a:lnTo>
                    <a:pt x="8995" y="9896"/>
                  </a:lnTo>
                  <a:lnTo>
                    <a:pt x="8939" y="9982"/>
                  </a:lnTo>
                  <a:lnTo>
                    <a:pt x="8910" y="10039"/>
                  </a:lnTo>
                  <a:lnTo>
                    <a:pt x="8848" y="10296"/>
                  </a:lnTo>
                  <a:lnTo>
                    <a:pt x="8791" y="10410"/>
                  </a:lnTo>
                  <a:lnTo>
                    <a:pt x="8734" y="10553"/>
                  </a:lnTo>
                  <a:lnTo>
                    <a:pt x="8738" y="10623"/>
                  </a:lnTo>
                  <a:lnTo>
                    <a:pt x="8669" y="10754"/>
                  </a:lnTo>
                  <a:lnTo>
                    <a:pt x="8624" y="10884"/>
                  </a:lnTo>
                  <a:lnTo>
                    <a:pt x="8603" y="11149"/>
                  </a:lnTo>
                  <a:lnTo>
                    <a:pt x="8652" y="11340"/>
                  </a:lnTo>
                  <a:lnTo>
                    <a:pt x="8669" y="11484"/>
                  </a:lnTo>
                  <a:lnTo>
                    <a:pt x="8804" y="11814"/>
                  </a:lnTo>
                  <a:lnTo>
                    <a:pt x="8910" y="12231"/>
                  </a:lnTo>
                  <a:lnTo>
                    <a:pt x="8966" y="12541"/>
                  </a:lnTo>
                  <a:lnTo>
                    <a:pt x="8995" y="12746"/>
                  </a:lnTo>
                  <a:lnTo>
                    <a:pt x="8966" y="12885"/>
                  </a:lnTo>
                  <a:lnTo>
                    <a:pt x="8939" y="13077"/>
                  </a:lnTo>
                  <a:lnTo>
                    <a:pt x="9069" y="13477"/>
                  </a:lnTo>
                  <a:lnTo>
                    <a:pt x="9138" y="13862"/>
                  </a:lnTo>
                  <a:lnTo>
                    <a:pt x="9204" y="14070"/>
                  </a:lnTo>
                  <a:lnTo>
                    <a:pt x="9270" y="14670"/>
                  </a:lnTo>
                  <a:lnTo>
                    <a:pt x="9339" y="15202"/>
                  </a:lnTo>
                  <a:lnTo>
                    <a:pt x="9371" y="15782"/>
                  </a:lnTo>
                  <a:lnTo>
                    <a:pt x="9343" y="16701"/>
                  </a:lnTo>
                  <a:lnTo>
                    <a:pt x="9257" y="17718"/>
                  </a:lnTo>
                  <a:lnTo>
                    <a:pt x="9285" y="18638"/>
                  </a:lnTo>
                  <a:lnTo>
                    <a:pt x="9270" y="19319"/>
                  </a:lnTo>
                  <a:lnTo>
                    <a:pt x="9138" y="20214"/>
                  </a:lnTo>
                  <a:lnTo>
                    <a:pt x="9003" y="20913"/>
                  </a:lnTo>
                  <a:lnTo>
                    <a:pt x="8804" y="21775"/>
                  </a:lnTo>
                  <a:lnTo>
                    <a:pt x="8669" y="22306"/>
                  </a:lnTo>
                  <a:lnTo>
                    <a:pt x="8603" y="22968"/>
                  </a:lnTo>
                  <a:lnTo>
                    <a:pt x="8505" y="23380"/>
                  </a:lnTo>
                  <a:lnTo>
                    <a:pt x="8448" y="23466"/>
                  </a:lnTo>
                  <a:lnTo>
                    <a:pt x="8334" y="23552"/>
                  </a:lnTo>
                  <a:lnTo>
                    <a:pt x="8133" y="23633"/>
                  </a:lnTo>
                  <a:lnTo>
                    <a:pt x="7471" y="23724"/>
                  </a:lnTo>
                  <a:lnTo>
                    <a:pt x="7002" y="23699"/>
                  </a:lnTo>
                  <a:lnTo>
                    <a:pt x="6548" y="23609"/>
                  </a:lnTo>
                  <a:lnTo>
                    <a:pt x="6258" y="23500"/>
                  </a:lnTo>
                  <a:lnTo>
                    <a:pt x="6204" y="23351"/>
                  </a:lnTo>
                  <a:lnTo>
                    <a:pt x="6120" y="22580"/>
                  </a:lnTo>
                  <a:lnTo>
                    <a:pt x="6091" y="22175"/>
                  </a:lnTo>
                  <a:lnTo>
                    <a:pt x="6120" y="21661"/>
                  </a:lnTo>
                  <a:lnTo>
                    <a:pt x="6135" y="20978"/>
                  </a:lnTo>
                  <a:lnTo>
                    <a:pt x="6034" y="20242"/>
                  </a:lnTo>
                  <a:lnTo>
                    <a:pt x="5914" y="19638"/>
                  </a:lnTo>
                  <a:lnTo>
                    <a:pt x="5830" y="19181"/>
                  </a:lnTo>
                  <a:lnTo>
                    <a:pt x="5744" y="18722"/>
                  </a:lnTo>
                  <a:lnTo>
                    <a:pt x="5715" y="18265"/>
                  </a:lnTo>
                  <a:lnTo>
                    <a:pt x="5670" y="17926"/>
                  </a:lnTo>
                  <a:lnTo>
                    <a:pt x="5600" y="18788"/>
                  </a:lnTo>
                  <a:lnTo>
                    <a:pt x="5535" y="19250"/>
                  </a:lnTo>
                  <a:lnTo>
                    <a:pt x="5469" y="20112"/>
                  </a:lnTo>
                  <a:lnTo>
                    <a:pt x="5396" y="20529"/>
                  </a:lnTo>
                  <a:lnTo>
                    <a:pt x="5335" y="20978"/>
                  </a:lnTo>
                  <a:lnTo>
                    <a:pt x="5335" y="21710"/>
                  </a:lnTo>
                  <a:lnTo>
                    <a:pt x="5269" y="22306"/>
                  </a:lnTo>
                  <a:lnTo>
                    <a:pt x="5269" y="22906"/>
                  </a:lnTo>
                  <a:lnTo>
                    <a:pt x="5253" y="23351"/>
                  </a:lnTo>
                  <a:lnTo>
                    <a:pt x="5167" y="23500"/>
                  </a:lnTo>
                  <a:lnTo>
                    <a:pt x="5024" y="23552"/>
                  </a:lnTo>
                  <a:lnTo>
                    <a:pt x="4707" y="23638"/>
                  </a:lnTo>
                  <a:lnTo>
                    <a:pt x="4277" y="23724"/>
                  </a:lnTo>
                  <a:lnTo>
                    <a:pt x="3754" y="23724"/>
                  </a:lnTo>
                  <a:lnTo>
                    <a:pt x="3383" y="23667"/>
                  </a:lnTo>
                  <a:lnTo>
                    <a:pt x="3064" y="23581"/>
                  </a:lnTo>
                  <a:lnTo>
                    <a:pt x="2921" y="23437"/>
                  </a:lnTo>
                  <a:lnTo>
                    <a:pt x="2872" y="22906"/>
                  </a:lnTo>
                  <a:lnTo>
                    <a:pt x="2803" y="22371"/>
                  </a:lnTo>
                  <a:lnTo>
                    <a:pt x="2721" y="21759"/>
                  </a:lnTo>
                  <a:lnTo>
                    <a:pt x="2578" y="21101"/>
                  </a:lnTo>
                  <a:lnTo>
                    <a:pt x="2435" y="20586"/>
                  </a:lnTo>
                  <a:lnTo>
                    <a:pt x="2317" y="20129"/>
                  </a:lnTo>
                  <a:lnTo>
                    <a:pt x="2231" y="19712"/>
                  </a:lnTo>
                  <a:lnTo>
                    <a:pt x="2145" y="19254"/>
                  </a:lnTo>
                  <a:lnTo>
                    <a:pt x="2087" y="18780"/>
                  </a:lnTo>
                  <a:lnTo>
                    <a:pt x="2067" y="18257"/>
                  </a:lnTo>
                  <a:lnTo>
                    <a:pt x="2059" y="17718"/>
                  </a:lnTo>
                  <a:lnTo>
                    <a:pt x="2087" y="17260"/>
                  </a:lnTo>
                  <a:lnTo>
                    <a:pt x="2059" y="16730"/>
                  </a:lnTo>
                  <a:lnTo>
                    <a:pt x="2030" y="16472"/>
                  </a:lnTo>
                  <a:lnTo>
                    <a:pt x="2001" y="16064"/>
                  </a:lnTo>
                  <a:lnTo>
                    <a:pt x="2030" y="15667"/>
                  </a:lnTo>
                  <a:lnTo>
                    <a:pt x="2067" y="15202"/>
                  </a:lnTo>
                  <a:lnTo>
                    <a:pt x="2087" y="14809"/>
                  </a:lnTo>
                  <a:lnTo>
                    <a:pt x="2136" y="14474"/>
                  </a:lnTo>
                  <a:lnTo>
                    <a:pt x="2173" y="14066"/>
                  </a:lnTo>
                  <a:lnTo>
                    <a:pt x="2202" y="13739"/>
                  </a:lnTo>
                  <a:lnTo>
                    <a:pt x="2271" y="13477"/>
                  </a:lnTo>
                  <a:lnTo>
                    <a:pt x="2317" y="13204"/>
                  </a:lnTo>
                  <a:lnTo>
                    <a:pt x="2271" y="12946"/>
                  </a:lnTo>
                  <a:lnTo>
                    <a:pt x="2202" y="12746"/>
                  </a:lnTo>
                  <a:lnTo>
                    <a:pt x="2231" y="12541"/>
                  </a:lnTo>
                  <a:lnTo>
                    <a:pt x="2337" y="12280"/>
                  </a:lnTo>
                  <a:lnTo>
                    <a:pt x="2406" y="12015"/>
                  </a:lnTo>
                  <a:lnTo>
                    <a:pt x="2467" y="11750"/>
                  </a:lnTo>
                  <a:lnTo>
                    <a:pt x="2537" y="11549"/>
                  </a:lnTo>
                  <a:lnTo>
                    <a:pt x="2578" y="11312"/>
                  </a:lnTo>
                  <a:lnTo>
                    <a:pt x="2602" y="11149"/>
                  </a:lnTo>
                  <a:lnTo>
                    <a:pt x="2537" y="10754"/>
                  </a:lnTo>
                  <a:lnTo>
                    <a:pt x="2463" y="10582"/>
                  </a:lnTo>
                  <a:lnTo>
                    <a:pt x="2435" y="10410"/>
                  </a:lnTo>
                  <a:lnTo>
                    <a:pt x="2406" y="10358"/>
                  </a:lnTo>
                  <a:lnTo>
                    <a:pt x="2337" y="10223"/>
                  </a:lnTo>
                  <a:lnTo>
                    <a:pt x="2288" y="10149"/>
                  </a:lnTo>
                  <a:lnTo>
                    <a:pt x="2231" y="9953"/>
                  </a:lnTo>
                  <a:lnTo>
                    <a:pt x="2202" y="9838"/>
                  </a:lnTo>
                  <a:lnTo>
                    <a:pt x="2202" y="9691"/>
                  </a:lnTo>
                  <a:lnTo>
                    <a:pt x="2136" y="9556"/>
                  </a:lnTo>
                  <a:lnTo>
                    <a:pt x="2116" y="10054"/>
                  </a:lnTo>
                  <a:lnTo>
                    <a:pt x="2087" y="10280"/>
                  </a:lnTo>
                  <a:lnTo>
                    <a:pt x="2030" y="10541"/>
                  </a:lnTo>
                  <a:lnTo>
                    <a:pt x="1969" y="10680"/>
                  </a:lnTo>
                  <a:lnTo>
                    <a:pt x="1915" y="10827"/>
                  </a:lnTo>
                  <a:lnTo>
                    <a:pt x="1871" y="10953"/>
                  </a:lnTo>
                  <a:lnTo>
                    <a:pt x="1736" y="11149"/>
                  </a:lnTo>
                  <a:lnTo>
                    <a:pt x="1671" y="11283"/>
                  </a:lnTo>
                  <a:lnTo>
                    <a:pt x="1626" y="11484"/>
                  </a:lnTo>
                  <a:lnTo>
                    <a:pt x="1654" y="11684"/>
                  </a:lnTo>
                  <a:lnTo>
                    <a:pt x="1671" y="11883"/>
                  </a:lnTo>
                  <a:lnTo>
                    <a:pt x="1671" y="12015"/>
                  </a:lnTo>
                  <a:lnTo>
                    <a:pt x="1736" y="12415"/>
                  </a:lnTo>
                  <a:lnTo>
                    <a:pt x="1773" y="12689"/>
                  </a:lnTo>
                  <a:lnTo>
                    <a:pt x="1831" y="13089"/>
                  </a:lnTo>
                  <a:lnTo>
                    <a:pt x="1831" y="13461"/>
                  </a:lnTo>
                  <a:lnTo>
                    <a:pt x="1773" y="14066"/>
                  </a:lnTo>
                  <a:lnTo>
                    <a:pt x="1745" y="14466"/>
                  </a:lnTo>
                  <a:lnTo>
                    <a:pt x="1687" y="14923"/>
                  </a:lnTo>
                  <a:lnTo>
                    <a:pt x="1654" y="15409"/>
                  </a:lnTo>
                  <a:lnTo>
                    <a:pt x="1601" y="15733"/>
                  </a:lnTo>
                  <a:lnTo>
                    <a:pt x="1601" y="15868"/>
                  </a:lnTo>
                  <a:lnTo>
                    <a:pt x="1569" y="16072"/>
                  </a:lnTo>
                  <a:lnTo>
                    <a:pt x="1569" y="16271"/>
                  </a:lnTo>
                  <a:lnTo>
                    <a:pt x="1569" y="16415"/>
                  </a:lnTo>
                  <a:lnTo>
                    <a:pt x="1671" y="16529"/>
                  </a:lnTo>
                  <a:lnTo>
                    <a:pt x="1745" y="16672"/>
                  </a:lnTo>
                  <a:lnTo>
                    <a:pt x="1831" y="16843"/>
                  </a:lnTo>
                  <a:lnTo>
                    <a:pt x="2001" y="17175"/>
                  </a:lnTo>
                  <a:lnTo>
                    <a:pt x="2059" y="17604"/>
                  </a:lnTo>
                  <a:lnTo>
                    <a:pt x="2059" y="18265"/>
                  </a:lnTo>
                  <a:lnTo>
                    <a:pt x="2067" y="18584"/>
                  </a:lnTo>
                  <a:lnTo>
                    <a:pt x="2001" y="18695"/>
                  </a:lnTo>
                  <a:lnTo>
                    <a:pt x="1871" y="18719"/>
                  </a:lnTo>
                  <a:lnTo>
                    <a:pt x="1397" y="18780"/>
                  </a:lnTo>
                  <a:lnTo>
                    <a:pt x="1001" y="18719"/>
                  </a:lnTo>
                  <a:lnTo>
                    <a:pt x="870" y="18653"/>
                  </a:lnTo>
                  <a:lnTo>
                    <a:pt x="601" y="18323"/>
                  </a:lnTo>
                  <a:lnTo>
                    <a:pt x="404" y="17988"/>
                  </a:lnTo>
                  <a:lnTo>
                    <a:pt x="339" y="17857"/>
                  </a:lnTo>
                  <a:lnTo>
                    <a:pt x="302" y="17661"/>
                  </a:lnTo>
                  <a:lnTo>
                    <a:pt x="339" y="17521"/>
                  </a:lnTo>
                  <a:lnTo>
                    <a:pt x="404" y="17326"/>
                  </a:lnTo>
                  <a:lnTo>
                    <a:pt x="445" y="17118"/>
                  </a:lnTo>
                  <a:lnTo>
                    <a:pt x="503" y="16917"/>
                  </a:lnTo>
                  <a:lnTo>
                    <a:pt x="535" y="16794"/>
                  </a:lnTo>
                  <a:lnTo>
                    <a:pt x="535" y="16730"/>
                  </a:lnTo>
                  <a:lnTo>
                    <a:pt x="559" y="16587"/>
                  </a:lnTo>
                  <a:lnTo>
                    <a:pt x="601" y="16398"/>
                  </a:lnTo>
                  <a:lnTo>
                    <a:pt x="601" y="16198"/>
                  </a:lnTo>
                  <a:lnTo>
                    <a:pt x="601" y="15868"/>
                  </a:lnTo>
                  <a:lnTo>
                    <a:pt x="503" y="15409"/>
                  </a:lnTo>
                  <a:lnTo>
                    <a:pt x="445" y="15067"/>
                  </a:lnTo>
                  <a:lnTo>
                    <a:pt x="359" y="14667"/>
                  </a:lnTo>
                  <a:lnTo>
                    <a:pt x="270" y="14205"/>
                  </a:lnTo>
                  <a:lnTo>
                    <a:pt x="135" y="13739"/>
                  </a:lnTo>
                  <a:lnTo>
                    <a:pt x="69" y="13277"/>
                  </a:lnTo>
                  <a:lnTo>
                    <a:pt x="0" y="12946"/>
                  </a:lnTo>
                  <a:lnTo>
                    <a:pt x="0" y="12480"/>
                  </a:lnTo>
                  <a:lnTo>
                    <a:pt x="0" y="12280"/>
                  </a:lnTo>
                  <a:lnTo>
                    <a:pt x="69" y="11949"/>
                  </a:lnTo>
                  <a:lnTo>
                    <a:pt x="204" y="11484"/>
                  </a:lnTo>
                  <a:lnTo>
                    <a:pt x="339" y="11084"/>
                  </a:lnTo>
                  <a:lnTo>
                    <a:pt x="404" y="10754"/>
                  </a:lnTo>
                  <a:lnTo>
                    <a:pt x="417" y="10553"/>
                  </a:lnTo>
                  <a:lnTo>
                    <a:pt x="469" y="10088"/>
                  </a:lnTo>
                  <a:lnTo>
                    <a:pt x="469" y="9556"/>
                  </a:lnTo>
                  <a:lnTo>
                    <a:pt x="503" y="8976"/>
                  </a:lnTo>
                  <a:lnTo>
                    <a:pt x="535" y="8499"/>
                  </a:lnTo>
                  <a:lnTo>
                    <a:pt x="670" y="7898"/>
                  </a:lnTo>
                  <a:lnTo>
                    <a:pt x="736" y="7502"/>
                  </a:lnTo>
                  <a:lnTo>
                    <a:pt x="707" y="7228"/>
                  </a:lnTo>
                  <a:lnTo>
                    <a:pt x="678" y="6770"/>
                  </a:lnTo>
                  <a:lnTo>
                    <a:pt x="736" y="6240"/>
                  </a:lnTo>
                  <a:lnTo>
                    <a:pt x="805" y="5843"/>
                  </a:lnTo>
                  <a:lnTo>
                    <a:pt x="1026" y="5381"/>
                  </a:lnTo>
                  <a:lnTo>
                    <a:pt x="1271" y="5108"/>
                  </a:lnTo>
                  <a:lnTo>
                    <a:pt x="1426" y="4988"/>
                  </a:lnTo>
                  <a:lnTo>
                    <a:pt x="1671" y="4846"/>
                  </a:lnTo>
                  <a:lnTo>
                    <a:pt x="2136" y="4777"/>
                  </a:lnTo>
                  <a:lnTo>
                    <a:pt x="2668" y="4711"/>
                  </a:lnTo>
                  <a:lnTo>
                    <a:pt x="2803" y="4646"/>
                  </a:lnTo>
                  <a:lnTo>
                    <a:pt x="3203" y="4445"/>
                  </a:lnTo>
                  <a:lnTo>
                    <a:pt x="3469" y="4274"/>
                  </a:lnTo>
                  <a:lnTo>
                    <a:pt x="3874" y="4114"/>
                  </a:lnTo>
                  <a:lnTo>
                    <a:pt x="4135" y="3984"/>
                  </a:lnTo>
                  <a:lnTo>
                    <a:pt x="4339" y="3784"/>
                  </a:lnTo>
                  <a:lnTo>
                    <a:pt x="4363" y="3645"/>
                  </a:lnTo>
                  <a:lnTo>
                    <a:pt x="4404" y="3117"/>
                  </a:lnTo>
                  <a:lnTo>
                    <a:pt x="4404" y="2652"/>
                  </a:lnTo>
                  <a:lnTo>
                    <a:pt x="4339" y="2321"/>
                  </a:lnTo>
                  <a:lnTo>
                    <a:pt x="4339" y="2120"/>
                  </a:lnTo>
                  <a:lnTo>
                    <a:pt x="4204" y="1990"/>
                  </a:lnTo>
                  <a:lnTo>
                    <a:pt x="4004" y="1724"/>
                  </a:lnTo>
                  <a:lnTo>
                    <a:pt x="3938" y="1528"/>
                  </a:lnTo>
                  <a:lnTo>
                    <a:pt x="3874" y="1194"/>
                  </a:lnTo>
                  <a:lnTo>
                    <a:pt x="3874" y="928"/>
                  </a:lnTo>
                  <a:lnTo>
                    <a:pt x="3938" y="862"/>
                  </a:lnTo>
                  <a:lnTo>
                    <a:pt x="4004" y="793"/>
                  </a:lnTo>
                  <a:lnTo>
                    <a:pt x="4135" y="793"/>
                  </a:lnTo>
                  <a:lnTo>
                    <a:pt x="4135" y="862"/>
                  </a:lnTo>
                  <a:lnTo>
                    <a:pt x="4204" y="993"/>
                  </a:lnTo>
                  <a:lnTo>
                    <a:pt x="4188" y="1063"/>
                  </a:lnTo>
                  <a:lnTo>
                    <a:pt x="4204" y="1194"/>
                  </a:lnTo>
                  <a:lnTo>
                    <a:pt x="4269" y="1324"/>
                  </a:lnTo>
                  <a:lnTo>
                    <a:pt x="4277" y="1349"/>
                  </a:lnTo>
                  <a:lnTo>
                    <a:pt x="4404" y="1459"/>
                  </a:lnTo>
                  <a:lnTo>
                    <a:pt x="4404" y="1590"/>
                  </a:lnTo>
                  <a:lnTo>
                    <a:pt x="4449" y="1724"/>
                  </a:lnTo>
                  <a:lnTo>
                    <a:pt x="4469" y="1790"/>
                  </a:lnTo>
                  <a:lnTo>
                    <a:pt x="4535" y="1855"/>
                  </a:lnTo>
                  <a:lnTo>
                    <a:pt x="4604" y="1855"/>
                  </a:lnTo>
                  <a:lnTo>
                    <a:pt x="4678" y="1778"/>
                  </a:lnTo>
                  <a:lnTo>
                    <a:pt x="4804" y="1590"/>
                  </a:lnTo>
                  <a:lnTo>
                    <a:pt x="4736" y="1459"/>
                  </a:lnTo>
                  <a:lnTo>
                    <a:pt x="4670" y="1194"/>
                  </a:lnTo>
                  <a:lnTo>
                    <a:pt x="4670" y="1124"/>
                  </a:lnTo>
                  <a:lnTo>
                    <a:pt x="4670" y="993"/>
                  </a:lnTo>
                  <a:lnTo>
                    <a:pt x="4736" y="928"/>
                  </a:lnTo>
                  <a:lnTo>
                    <a:pt x="4804" y="728"/>
                  </a:lnTo>
                  <a:lnTo>
                    <a:pt x="4939" y="593"/>
                  </a:lnTo>
                  <a:lnTo>
                    <a:pt x="5000" y="462"/>
                  </a:lnTo>
                  <a:lnTo>
                    <a:pt x="5069" y="332"/>
                  </a:lnTo>
                  <a:lnTo>
                    <a:pt x="5204" y="197"/>
                  </a:lnTo>
                  <a:lnTo>
                    <a:pt x="5335" y="197"/>
                  </a:lnTo>
                  <a:lnTo>
                    <a:pt x="5469" y="197"/>
                  </a:lnTo>
                  <a:lnTo>
                    <a:pt x="5539" y="233"/>
                  </a:lnTo>
                  <a:lnTo>
                    <a:pt x="5658" y="290"/>
                  </a:lnTo>
                  <a:lnTo>
                    <a:pt x="6000" y="332"/>
                  </a:lnTo>
                  <a:lnTo>
                    <a:pt x="6405" y="261"/>
                  </a:lnTo>
                  <a:lnTo>
                    <a:pt x="6601" y="261"/>
                  </a:lnTo>
                  <a:lnTo>
                    <a:pt x="6936" y="332"/>
                  </a:lnTo>
                  <a:lnTo>
                    <a:pt x="7267" y="233"/>
                  </a:lnTo>
                  <a:lnTo>
                    <a:pt x="7603" y="0"/>
                  </a:lnTo>
                  <a:lnTo>
                    <a:pt x="7667" y="197"/>
                  </a:lnTo>
                  <a:lnTo>
                    <a:pt x="7667" y="396"/>
                  </a:lnTo>
                  <a:lnTo>
                    <a:pt x="7667" y="531"/>
                  </a:lnTo>
                  <a:lnTo>
                    <a:pt x="7667" y="658"/>
                  </a:lnTo>
                  <a:lnTo>
                    <a:pt x="7701" y="809"/>
                  </a:lnTo>
                  <a:lnTo>
                    <a:pt x="7738" y="1324"/>
                  </a:lnTo>
                  <a:lnTo>
                    <a:pt x="7667" y="1655"/>
                  </a:lnTo>
                  <a:lnTo>
                    <a:pt x="7603" y="1925"/>
                  </a:lnTo>
                  <a:lnTo>
                    <a:pt x="7537" y="2255"/>
                  </a:lnTo>
                  <a:lnTo>
                    <a:pt x="7410" y="2586"/>
                  </a:lnTo>
                  <a:lnTo>
                    <a:pt x="7267" y="2930"/>
                  </a:lnTo>
                  <a:lnTo>
                    <a:pt x="7067" y="3183"/>
                  </a:lnTo>
                  <a:lnTo>
                    <a:pt x="6924" y="3330"/>
                  </a:lnTo>
                  <a:lnTo>
                    <a:pt x="6896" y="3387"/>
                  </a:lnTo>
                  <a:lnTo>
                    <a:pt x="6871" y="3583"/>
                  </a:lnTo>
                  <a:lnTo>
                    <a:pt x="6871" y="3849"/>
                  </a:lnTo>
                  <a:lnTo>
                    <a:pt x="7137" y="4114"/>
                  </a:lnTo>
                  <a:lnTo>
                    <a:pt x="7336" y="4180"/>
                  </a:lnTo>
                  <a:lnTo>
                    <a:pt x="7471" y="4217"/>
                  </a:lnTo>
                  <a:lnTo>
                    <a:pt x="7672" y="4274"/>
                  </a:lnTo>
                  <a:lnTo>
                    <a:pt x="7876" y="4359"/>
                  </a:lnTo>
                  <a:lnTo>
                    <a:pt x="8072" y="4479"/>
                  </a:lnTo>
                  <a:lnTo>
                    <a:pt x="8334" y="4617"/>
                  </a:lnTo>
                  <a:lnTo>
                    <a:pt x="8939" y="4646"/>
                  </a:lnTo>
                  <a:lnTo>
                    <a:pt x="9371" y="4674"/>
                  </a:lnTo>
                  <a:lnTo>
                    <a:pt x="9540" y="4711"/>
                  </a:lnTo>
                  <a:lnTo>
                    <a:pt x="9857" y="4879"/>
                  </a:lnTo>
                  <a:lnTo>
                    <a:pt x="10070" y="5108"/>
                  </a:lnTo>
                  <a:lnTo>
                    <a:pt x="10291" y="5450"/>
                  </a:lnTo>
                  <a:lnTo>
                    <a:pt x="10471" y="5843"/>
                  </a:lnTo>
                  <a:lnTo>
                    <a:pt x="10606" y="6382"/>
                  </a:lnTo>
                  <a:lnTo>
                    <a:pt x="10635" y="6697"/>
                  </a:lnTo>
                  <a:lnTo>
                    <a:pt x="10635" y="6896"/>
                  </a:lnTo>
                  <a:lnTo>
                    <a:pt x="10635" y="7129"/>
                  </a:lnTo>
                  <a:lnTo>
                    <a:pt x="10606" y="7355"/>
                  </a:lnTo>
                  <a:lnTo>
                    <a:pt x="10601" y="7567"/>
                  </a:lnTo>
                  <a:lnTo>
                    <a:pt x="10601" y="7697"/>
                  </a:lnTo>
                  <a:lnTo>
                    <a:pt x="10670" y="8033"/>
                  </a:lnTo>
                  <a:lnTo>
                    <a:pt x="10736" y="8364"/>
                  </a:lnTo>
                  <a:lnTo>
                    <a:pt x="10867" y="8890"/>
                  </a:lnTo>
                  <a:lnTo>
                    <a:pt x="10925" y="9348"/>
                  </a:lnTo>
                  <a:lnTo>
                    <a:pt x="10937" y="9757"/>
                  </a:lnTo>
                  <a:lnTo>
                    <a:pt x="11006" y="10553"/>
                  </a:lnTo>
                  <a:lnTo>
                    <a:pt x="11038" y="10884"/>
                  </a:lnTo>
                  <a:lnTo>
                    <a:pt x="11136" y="11084"/>
                  </a:lnTo>
                  <a:lnTo>
                    <a:pt x="11158" y="11426"/>
                  </a:lnTo>
                  <a:lnTo>
                    <a:pt x="11271" y="11814"/>
                  </a:lnTo>
                  <a:lnTo>
                    <a:pt x="11357" y="12288"/>
                  </a:lnTo>
                  <a:lnTo>
                    <a:pt x="11382" y="12603"/>
                  </a:lnTo>
                  <a:lnTo>
                    <a:pt x="11382" y="12885"/>
                  </a:lnTo>
                  <a:lnTo>
                    <a:pt x="11357" y="13204"/>
                  </a:lnTo>
                  <a:lnTo>
                    <a:pt x="11271" y="13538"/>
                  </a:lnTo>
                  <a:lnTo>
                    <a:pt x="11186" y="13947"/>
                  </a:lnTo>
                  <a:lnTo>
                    <a:pt x="11072" y="14339"/>
                  </a:lnTo>
                  <a:lnTo>
                    <a:pt x="10952" y="14724"/>
                  </a:lnTo>
                  <a:lnTo>
                    <a:pt x="10839" y="15210"/>
                  </a:lnTo>
                  <a:lnTo>
                    <a:pt x="10781" y="15627"/>
                  </a:lnTo>
                  <a:lnTo>
                    <a:pt x="10753" y="15855"/>
                  </a:lnTo>
                  <a:lnTo>
                    <a:pt x="10724" y="16059"/>
                  </a:lnTo>
                  <a:lnTo>
                    <a:pt x="10724" y="16198"/>
                  </a:lnTo>
                  <a:lnTo>
                    <a:pt x="10724" y="16256"/>
                  </a:lnTo>
                  <a:lnTo>
                    <a:pt x="10724" y="16342"/>
                  </a:lnTo>
                  <a:lnTo>
                    <a:pt x="10724" y="16472"/>
                  </a:lnTo>
                  <a:lnTo>
                    <a:pt x="10781" y="16587"/>
                  </a:lnTo>
                  <a:lnTo>
                    <a:pt x="10871" y="16860"/>
                  </a:lnTo>
                  <a:lnTo>
                    <a:pt x="10952" y="17204"/>
                  </a:lnTo>
                  <a:lnTo>
                    <a:pt x="11009" y="17518"/>
                  </a:lnTo>
                  <a:lnTo>
                    <a:pt x="11009" y="17632"/>
                  </a:lnTo>
                  <a:lnTo>
                    <a:pt x="10896" y="17923"/>
                  </a:lnTo>
                  <a:lnTo>
                    <a:pt x="10839" y="18061"/>
                  </a:lnTo>
                  <a:lnTo>
                    <a:pt x="10802" y="18188"/>
                  </a:lnTo>
                  <a:lnTo>
                    <a:pt x="10663" y="18434"/>
                  </a:lnTo>
                  <a:lnTo>
                    <a:pt x="10601" y="18518"/>
                  </a:lnTo>
                  <a:lnTo>
                    <a:pt x="10471" y="18653"/>
                  </a:lnTo>
                  <a:lnTo>
                    <a:pt x="10319" y="18722"/>
                  </a:lnTo>
                  <a:lnTo>
                    <a:pt x="10135" y="18788"/>
                  </a:lnTo>
                  <a:lnTo>
                    <a:pt x="9870" y="18788"/>
                  </a:lnTo>
                  <a:lnTo>
                    <a:pt x="9670" y="18788"/>
                  </a:lnTo>
                  <a:lnTo>
                    <a:pt x="9371" y="18695"/>
                  </a:lnTo>
                  <a:lnTo>
                    <a:pt x="9285" y="18580"/>
                  </a:lnTo>
                  <a:lnTo>
                    <a:pt x="9270" y="17521"/>
                  </a:lnTo>
                  <a:lnTo>
                    <a:pt x="9371" y="17003"/>
                  </a:lnTo>
                  <a:lnTo>
                    <a:pt x="9428" y="16803"/>
                  </a:lnTo>
                  <a:lnTo>
                    <a:pt x="9600" y="16464"/>
                  </a:lnTo>
                  <a:lnTo>
                    <a:pt x="9801" y="16124"/>
                  </a:lnTo>
                  <a:lnTo>
                    <a:pt x="9870" y="15733"/>
                  </a:lnTo>
                  <a:lnTo>
                    <a:pt x="9870" y="15467"/>
                  </a:lnTo>
                  <a:lnTo>
                    <a:pt x="9828" y="15210"/>
                  </a:lnTo>
                  <a:lnTo>
                    <a:pt x="9805" y="14935"/>
                  </a:lnTo>
                  <a:lnTo>
                    <a:pt x="9735" y="14535"/>
                  </a:lnTo>
                  <a:lnTo>
                    <a:pt x="9670" y="14070"/>
                  </a:lnTo>
                  <a:lnTo>
                    <a:pt x="9600" y="13608"/>
                  </a:lnTo>
                  <a:lnTo>
                    <a:pt x="9540" y="13277"/>
                  </a:lnTo>
                  <a:lnTo>
                    <a:pt x="9540" y="12811"/>
                  </a:lnTo>
                  <a:lnTo>
                    <a:pt x="9600" y="12415"/>
                  </a:lnTo>
                  <a:lnTo>
                    <a:pt x="9670" y="12080"/>
                  </a:lnTo>
                  <a:lnTo>
                    <a:pt x="9715" y="11827"/>
                  </a:lnTo>
                  <a:lnTo>
                    <a:pt x="9735" y="11615"/>
                  </a:lnTo>
                  <a:lnTo>
                    <a:pt x="9735" y="11549"/>
                  </a:lnTo>
                  <a:lnTo>
                    <a:pt x="9670" y="11218"/>
                  </a:lnTo>
                  <a:lnTo>
                    <a:pt x="9540" y="10889"/>
                  </a:lnTo>
                  <a:lnTo>
                    <a:pt x="9371" y="10410"/>
                  </a:lnTo>
                  <a:lnTo>
                    <a:pt x="9224" y="9953"/>
                  </a:lnTo>
                  <a:lnTo>
                    <a:pt x="9135" y="9496"/>
                  </a:lnTo>
                  <a:lnTo>
                    <a:pt x="9081" y="9189"/>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283040" y="1899000"/>
              <a:ext cx="444960" cy="155520"/>
            </a:xfrm>
            <a:custGeom>
              <a:avLst/>
              <a:gdLst/>
              <a:ahLst/>
              <a:rect l="l" t="t" r="r" b="b"/>
              <a:pathLst>
                <a:path w="1957" h="687">
                  <a:moveTo>
                    <a:pt x="1957" y="343"/>
                  </a:moveTo>
                  <a:lnTo>
                    <a:pt x="1786" y="458"/>
                  </a:lnTo>
                  <a:lnTo>
                    <a:pt x="1639" y="572"/>
                  </a:lnTo>
                  <a:lnTo>
                    <a:pt x="1524" y="625"/>
                  </a:lnTo>
                  <a:lnTo>
                    <a:pt x="1438" y="658"/>
                  </a:lnTo>
                  <a:lnTo>
                    <a:pt x="1320" y="687"/>
                  </a:lnTo>
                  <a:lnTo>
                    <a:pt x="1124" y="658"/>
                  </a:lnTo>
                  <a:lnTo>
                    <a:pt x="919" y="601"/>
                  </a:lnTo>
                  <a:lnTo>
                    <a:pt x="719" y="515"/>
                  </a:lnTo>
                  <a:lnTo>
                    <a:pt x="458" y="400"/>
                  </a:lnTo>
                  <a:lnTo>
                    <a:pt x="286" y="253"/>
                  </a:lnTo>
                  <a:lnTo>
                    <a:pt x="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39720" y="3056760"/>
              <a:ext cx="46440" cy="346320"/>
            </a:xfrm>
            <a:custGeom>
              <a:avLst/>
              <a:gdLst/>
              <a:ahLst/>
              <a:rect l="l" t="t" r="r" b="b"/>
              <a:pathLst>
                <a:path w="200" h="1520">
                  <a:moveTo>
                    <a:pt x="0" y="1520"/>
                  </a:moveTo>
                  <a:lnTo>
                    <a:pt x="86" y="914"/>
                  </a:lnTo>
                  <a:lnTo>
                    <a:pt x="172" y="457"/>
                  </a:lnTo>
                  <a:lnTo>
                    <a:pt x="20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00120" y="2971800"/>
              <a:ext cx="164880" cy="188640"/>
            </a:xfrm>
            <a:custGeom>
              <a:avLst/>
              <a:gdLst/>
              <a:ahLst/>
              <a:rect l="l" t="t" r="r" b="b"/>
              <a:pathLst>
                <a:path w="724" h="830">
                  <a:moveTo>
                    <a:pt x="0" y="29"/>
                  </a:moveTo>
                  <a:lnTo>
                    <a:pt x="90" y="0"/>
                  </a:lnTo>
                  <a:lnTo>
                    <a:pt x="118" y="0"/>
                  </a:lnTo>
                  <a:lnTo>
                    <a:pt x="176" y="29"/>
                  </a:lnTo>
                  <a:lnTo>
                    <a:pt x="262" y="111"/>
                  </a:lnTo>
                  <a:lnTo>
                    <a:pt x="348" y="253"/>
                  </a:lnTo>
                  <a:lnTo>
                    <a:pt x="405" y="401"/>
                  </a:lnTo>
                  <a:lnTo>
                    <a:pt x="523" y="597"/>
                  </a:lnTo>
                  <a:lnTo>
                    <a:pt x="724" y="83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042280" y="2911680"/>
              <a:ext cx="203400" cy="248760"/>
            </a:xfrm>
            <a:custGeom>
              <a:avLst/>
              <a:gdLst/>
              <a:ahLst/>
              <a:rect l="l" t="t" r="r" b="b"/>
              <a:pathLst>
                <a:path w="891" h="1091">
                  <a:moveTo>
                    <a:pt x="891" y="0"/>
                  </a:moveTo>
                  <a:lnTo>
                    <a:pt x="776" y="343"/>
                  </a:lnTo>
                  <a:lnTo>
                    <a:pt x="605" y="662"/>
                  </a:lnTo>
                  <a:lnTo>
                    <a:pt x="376" y="915"/>
                  </a:lnTo>
                  <a:lnTo>
                    <a:pt x="114" y="1062"/>
                  </a:lnTo>
                  <a:lnTo>
                    <a:pt x="0" y="1091"/>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199600" y="3029400"/>
              <a:ext cx="25560" cy="313200"/>
            </a:xfrm>
            <a:custGeom>
              <a:avLst/>
              <a:gdLst/>
              <a:ahLst/>
              <a:rect l="l" t="t" r="r" b="b"/>
              <a:pathLst>
                <a:path w="115" h="1378">
                  <a:moveTo>
                    <a:pt x="115" y="1378"/>
                  </a:moveTo>
                  <a:lnTo>
                    <a:pt x="57" y="1034"/>
                  </a:lnTo>
                  <a:lnTo>
                    <a:pt x="0" y="491"/>
                  </a:lnTo>
                  <a:lnTo>
                    <a:pt x="0" y="233"/>
                  </a:lnTo>
                  <a:lnTo>
                    <a:pt x="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072440" y="1505880"/>
              <a:ext cx="39600" cy="19080"/>
            </a:xfrm>
            <a:custGeom>
              <a:avLst/>
              <a:gdLst/>
              <a:ahLst/>
              <a:rect l="l" t="t" r="r" b="b"/>
              <a:pathLst>
                <a:path w="176" h="82">
                  <a:moveTo>
                    <a:pt x="0" y="0"/>
                  </a:moveTo>
                  <a:lnTo>
                    <a:pt x="0" y="54"/>
                  </a:lnTo>
                  <a:lnTo>
                    <a:pt x="29" y="82"/>
                  </a:lnTo>
                  <a:lnTo>
                    <a:pt x="86" y="54"/>
                  </a:lnTo>
                  <a:lnTo>
                    <a:pt x="115" y="25"/>
                  </a:lnTo>
                  <a:lnTo>
                    <a:pt x="144" y="0"/>
                  </a:lnTo>
                  <a:lnTo>
                    <a:pt x="176" y="0"/>
                  </a:lnTo>
                </a:path>
              </a:pathLst>
            </a:custGeom>
            <a:noFill/>
            <a:ln w="12600">
              <a:solidFill>
                <a:srgbClr val="0e0d0c"/>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9" name=""/>
            <p:cNvSpPr/>
            <p:nvPr/>
          </p:nvSpPr>
          <p:spPr>
            <a:xfrm>
              <a:off x="1086480" y="1578600"/>
              <a:ext cx="65160" cy="31320"/>
            </a:xfrm>
            <a:custGeom>
              <a:avLst/>
              <a:gdLst/>
              <a:ahLst/>
              <a:rect l="l" t="t" r="r" b="b"/>
              <a:pathLst>
                <a:path w="290" h="142">
                  <a:moveTo>
                    <a:pt x="0" y="0"/>
                  </a:moveTo>
                  <a:lnTo>
                    <a:pt x="57" y="0"/>
                  </a:lnTo>
                  <a:lnTo>
                    <a:pt x="147" y="113"/>
                  </a:lnTo>
                  <a:lnTo>
                    <a:pt x="175" y="142"/>
                  </a:lnTo>
                  <a:lnTo>
                    <a:pt x="233" y="142"/>
                  </a:lnTo>
                  <a:lnTo>
                    <a:pt x="290" y="86"/>
                  </a:lnTo>
                </a:path>
              </a:pathLst>
            </a:custGeom>
            <a:noFill/>
            <a:ln w="12600">
              <a:solidFill>
                <a:srgbClr val="0e0d0c"/>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0" name=""/>
            <p:cNvSpPr/>
            <p:nvPr/>
          </p:nvSpPr>
          <p:spPr>
            <a:xfrm>
              <a:off x="1885320" y="1139040"/>
              <a:ext cx="32760" cy="86040"/>
            </a:xfrm>
            <a:custGeom>
              <a:avLst/>
              <a:gdLst/>
              <a:ahLst/>
              <a:rect l="l" t="t" r="r" b="b"/>
              <a:pathLst>
                <a:path w="143" h="372">
                  <a:moveTo>
                    <a:pt x="0" y="372"/>
                  </a:moveTo>
                  <a:lnTo>
                    <a:pt x="114" y="226"/>
                  </a:lnTo>
                  <a:lnTo>
                    <a:pt x="143" y="86"/>
                  </a:lnTo>
                  <a:lnTo>
                    <a:pt x="143" y="0"/>
                  </a:lnTo>
                </a:path>
              </a:pathLst>
            </a:custGeom>
            <a:noFill/>
            <a:ln w="12600">
              <a:solidFill>
                <a:srgbClr val="0e0d0c"/>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1" name=""/>
            <p:cNvSpPr/>
            <p:nvPr/>
          </p:nvSpPr>
          <p:spPr>
            <a:xfrm>
              <a:off x="1510920" y="1505880"/>
              <a:ext cx="183960" cy="228240"/>
            </a:xfrm>
            <a:custGeom>
              <a:avLst/>
              <a:gdLst/>
              <a:ahLst/>
              <a:rect l="l" t="t" r="r" b="b"/>
              <a:pathLst>
                <a:path w="809" h="1002">
                  <a:moveTo>
                    <a:pt x="62" y="772"/>
                  </a:moveTo>
                  <a:lnTo>
                    <a:pt x="0" y="801"/>
                  </a:lnTo>
                  <a:lnTo>
                    <a:pt x="0" y="858"/>
                  </a:lnTo>
                  <a:lnTo>
                    <a:pt x="28" y="944"/>
                  </a:lnTo>
                  <a:lnTo>
                    <a:pt x="204" y="1002"/>
                  </a:lnTo>
                  <a:lnTo>
                    <a:pt x="286" y="973"/>
                  </a:lnTo>
                  <a:lnTo>
                    <a:pt x="376" y="973"/>
                  </a:lnTo>
                  <a:lnTo>
                    <a:pt x="433" y="1002"/>
                  </a:lnTo>
                  <a:lnTo>
                    <a:pt x="548" y="1002"/>
                  </a:lnTo>
                  <a:lnTo>
                    <a:pt x="662" y="1002"/>
                  </a:lnTo>
                  <a:lnTo>
                    <a:pt x="752" y="944"/>
                  </a:lnTo>
                  <a:lnTo>
                    <a:pt x="809" y="858"/>
                  </a:lnTo>
                  <a:lnTo>
                    <a:pt x="781" y="801"/>
                  </a:lnTo>
                  <a:lnTo>
                    <a:pt x="720" y="600"/>
                  </a:lnTo>
                  <a:lnTo>
                    <a:pt x="662" y="401"/>
                  </a:lnTo>
                  <a:lnTo>
                    <a:pt x="634" y="258"/>
                  </a:lnTo>
                  <a:lnTo>
                    <a:pt x="634"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695240" y="1499040"/>
              <a:ext cx="131040" cy="32760"/>
            </a:xfrm>
            <a:custGeom>
              <a:avLst/>
              <a:gdLst/>
              <a:ahLst/>
              <a:rect l="l" t="t" r="r" b="b"/>
              <a:pathLst>
                <a:path w="572" h="140">
                  <a:moveTo>
                    <a:pt x="0" y="140"/>
                  </a:moveTo>
                  <a:lnTo>
                    <a:pt x="172" y="83"/>
                  </a:lnTo>
                  <a:lnTo>
                    <a:pt x="286" y="29"/>
                  </a:lnTo>
                  <a:lnTo>
                    <a:pt x="400" y="0"/>
                  </a:lnTo>
                  <a:lnTo>
                    <a:pt x="486" y="0"/>
                  </a:lnTo>
                  <a:lnTo>
                    <a:pt x="515" y="29"/>
                  </a:lnTo>
                  <a:lnTo>
                    <a:pt x="544" y="83"/>
                  </a:lnTo>
                  <a:lnTo>
                    <a:pt x="572" y="140"/>
                  </a:lnTo>
                </a:path>
              </a:pathLst>
            </a:custGeom>
            <a:noFill/>
            <a:ln w="12600">
              <a:solidFill>
                <a:srgbClr val="0e0d0c"/>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3" name=""/>
            <p:cNvSpPr/>
            <p:nvPr/>
          </p:nvSpPr>
          <p:spPr>
            <a:xfrm>
              <a:off x="1761120" y="1499040"/>
              <a:ext cx="37800" cy="53280"/>
            </a:xfrm>
            <a:custGeom>
              <a:avLst/>
              <a:gdLst/>
              <a:ahLst/>
              <a:rect l="l" t="t" r="r" b="b"/>
              <a:pathLst>
                <a:path w="172" h="229">
                  <a:moveTo>
                    <a:pt x="143" y="0"/>
                  </a:moveTo>
                  <a:lnTo>
                    <a:pt x="172" y="54"/>
                  </a:lnTo>
                  <a:lnTo>
                    <a:pt x="172" y="140"/>
                  </a:lnTo>
                  <a:lnTo>
                    <a:pt x="143" y="168"/>
                  </a:lnTo>
                  <a:lnTo>
                    <a:pt x="114" y="229"/>
                  </a:lnTo>
                  <a:lnTo>
                    <a:pt x="28" y="229"/>
                  </a:lnTo>
                  <a:lnTo>
                    <a:pt x="0" y="168"/>
                  </a:lnTo>
                  <a:lnTo>
                    <a:pt x="0" y="140"/>
                  </a:lnTo>
                  <a:lnTo>
                    <a:pt x="28" y="29"/>
                  </a:lnTo>
                </a:path>
              </a:pathLst>
            </a:custGeom>
            <a:noFill/>
            <a:ln w="12600">
              <a:solidFill>
                <a:srgbClr val="0e0d0c"/>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4" name=""/>
            <p:cNvSpPr/>
            <p:nvPr/>
          </p:nvSpPr>
          <p:spPr>
            <a:xfrm>
              <a:off x="1362240" y="1466280"/>
              <a:ext cx="163800" cy="45000"/>
            </a:xfrm>
            <a:custGeom>
              <a:avLst/>
              <a:gdLst/>
              <a:ahLst/>
              <a:rect l="l" t="t" r="r" b="b"/>
              <a:pathLst>
                <a:path w="720" h="201">
                  <a:moveTo>
                    <a:pt x="0" y="147"/>
                  </a:moveTo>
                  <a:lnTo>
                    <a:pt x="82" y="90"/>
                  </a:lnTo>
                  <a:lnTo>
                    <a:pt x="168" y="33"/>
                  </a:lnTo>
                  <a:lnTo>
                    <a:pt x="283" y="0"/>
                  </a:lnTo>
                  <a:lnTo>
                    <a:pt x="401" y="33"/>
                  </a:lnTo>
                  <a:lnTo>
                    <a:pt x="516" y="61"/>
                  </a:lnTo>
                  <a:lnTo>
                    <a:pt x="600" y="147"/>
                  </a:lnTo>
                  <a:lnTo>
                    <a:pt x="720" y="201"/>
                  </a:lnTo>
                </a:path>
              </a:pathLst>
            </a:custGeom>
            <a:noFill/>
            <a:ln w="12600">
              <a:solidFill>
                <a:srgbClr val="0e0d0c"/>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5" name=""/>
            <p:cNvSpPr/>
            <p:nvPr/>
          </p:nvSpPr>
          <p:spPr>
            <a:xfrm>
              <a:off x="1413000" y="1466280"/>
              <a:ext cx="66600" cy="58680"/>
            </a:xfrm>
            <a:custGeom>
              <a:avLst/>
              <a:gdLst/>
              <a:ahLst/>
              <a:rect l="l" t="t" r="r" b="b"/>
              <a:pathLst>
                <a:path w="291" h="258">
                  <a:moveTo>
                    <a:pt x="90" y="0"/>
                  </a:moveTo>
                  <a:lnTo>
                    <a:pt x="29" y="61"/>
                  </a:lnTo>
                  <a:lnTo>
                    <a:pt x="0" y="118"/>
                  </a:lnTo>
                  <a:lnTo>
                    <a:pt x="0" y="147"/>
                  </a:lnTo>
                  <a:lnTo>
                    <a:pt x="29" y="201"/>
                  </a:lnTo>
                  <a:lnTo>
                    <a:pt x="119" y="258"/>
                  </a:lnTo>
                  <a:lnTo>
                    <a:pt x="205" y="258"/>
                  </a:lnTo>
                  <a:lnTo>
                    <a:pt x="262" y="201"/>
                  </a:lnTo>
                  <a:lnTo>
                    <a:pt x="291" y="118"/>
                  </a:lnTo>
                  <a:lnTo>
                    <a:pt x="262" y="61"/>
                  </a:lnTo>
                </a:path>
              </a:pathLst>
            </a:custGeom>
            <a:noFill/>
            <a:ln w="12600">
              <a:solidFill>
                <a:srgbClr val="0e0d0c"/>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6" name=""/>
            <p:cNvSpPr/>
            <p:nvPr/>
          </p:nvSpPr>
          <p:spPr>
            <a:xfrm>
              <a:off x="1446840" y="1845360"/>
              <a:ext cx="254880" cy="18720"/>
            </a:xfrm>
            <a:custGeom>
              <a:avLst/>
              <a:gdLst/>
              <a:ahLst/>
              <a:rect l="l" t="t" r="r" b="b"/>
              <a:pathLst>
                <a:path w="1124" h="86">
                  <a:moveTo>
                    <a:pt x="0" y="29"/>
                  </a:moveTo>
                  <a:lnTo>
                    <a:pt x="172" y="29"/>
                  </a:lnTo>
                  <a:lnTo>
                    <a:pt x="348" y="0"/>
                  </a:lnTo>
                  <a:lnTo>
                    <a:pt x="405" y="0"/>
                  </a:lnTo>
                  <a:lnTo>
                    <a:pt x="461" y="0"/>
                  </a:lnTo>
                  <a:lnTo>
                    <a:pt x="518" y="29"/>
                  </a:lnTo>
                  <a:lnTo>
                    <a:pt x="572" y="58"/>
                  </a:lnTo>
                  <a:lnTo>
                    <a:pt x="662" y="86"/>
                  </a:lnTo>
                  <a:lnTo>
                    <a:pt x="748" y="58"/>
                  </a:lnTo>
                  <a:lnTo>
                    <a:pt x="834" y="29"/>
                  </a:lnTo>
                  <a:lnTo>
                    <a:pt x="891" y="0"/>
                  </a:lnTo>
                  <a:lnTo>
                    <a:pt x="920" y="0"/>
                  </a:lnTo>
                  <a:lnTo>
                    <a:pt x="977" y="29"/>
                  </a:lnTo>
                  <a:lnTo>
                    <a:pt x="1038" y="58"/>
                  </a:lnTo>
                  <a:lnTo>
                    <a:pt x="1124" y="86"/>
                  </a:lnTo>
                </a:path>
              </a:pathLst>
            </a:custGeom>
            <a:noFill/>
            <a:ln w="12600">
              <a:solidFill>
                <a:srgbClr val="0e0d0c"/>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7" name=""/>
            <p:cNvSpPr/>
            <p:nvPr/>
          </p:nvSpPr>
          <p:spPr>
            <a:xfrm>
              <a:off x="1569960" y="1820520"/>
              <a:ext cx="92520" cy="18000"/>
            </a:xfrm>
            <a:custGeom>
              <a:avLst/>
              <a:gdLst/>
              <a:ahLst/>
              <a:rect l="l" t="t" r="r" b="b"/>
              <a:pathLst>
                <a:path w="404" h="83">
                  <a:moveTo>
                    <a:pt x="0" y="0"/>
                  </a:moveTo>
                  <a:lnTo>
                    <a:pt x="86" y="25"/>
                  </a:lnTo>
                  <a:lnTo>
                    <a:pt x="146" y="25"/>
                  </a:lnTo>
                  <a:lnTo>
                    <a:pt x="204" y="0"/>
                  </a:lnTo>
                  <a:lnTo>
                    <a:pt x="261" y="0"/>
                  </a:lnTo>
                  <a:lnTo>
                    <a:pt x="290" y="0"/>
                  </a:lnTo>
                  <a:lnTo>
                    <a:pt x="376" y="54"/>
                  </a:lnTo>
                  <a:lnTo>
                    <a:pt x="404" y="83"/>
                  </a:lnTo>
                </a:path>
              </a:pathLst>
            </a:custGeom>
            <a:noFill/>
            <a:ln w="12600">
              <a:solidFill>
                <a:srgbClr val="0e0d0c"/>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8" name=""/>
            <p:cNvSpPr/>
            <p:nvPr/>
          </p:nvSpPr>
          <p:spPr>
            <a:xfrm>
              <a:off x="1517760" y="1878120"/>
              <a:ext cx="150120" cy="32760"/>
            </a:xfrm>
            <a:custGeom>
              <a:avLst/>
              <a:gdLst/>
              <a:ahLst/>
              <a:rect l="l" t="t" r="r" b="b"/>
              <a:pathLst>
                <a:path w="663" h="148">
                  <a:moveTo>
                    <a:pt x="0" y="0"/>
                  </a:moveTo>
                  <a:lnTo>
                    <a:pt x="120" y="90"/>
                  </a:lnTo>
                  <a:lnTo>
                    <a:pt x="204" y="119"/>
                  </a:lnTo>
                  <a:lnTo>
                    <a:pt x="434" y="148"/>
                  </a:lnTo>
                  <a:lnTo>
                    <a:pt x="548" y="119"/>
                  </a:lnTo>
                  <a:lnTo>
                    <a:pt x="634" y="33"/>
                  </a:lnTo>
                  <a:lnTo>
                    <a:pt x="663" y="0"/>
                  </a:lnTo>
                </a:path>
              </a:pathLst>
            </a:custGeom>
            <a:noFill/>
            <a:ln w="12600">
              <a:solidFill>
                <a:srgbClr val="0e0d0c"/>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9" name=""/>
            <p:cNvSpPr/>
            <p:nvPr/>
          </p:nvSpPr>
          <p:spPr>
            <a:xfrm>
              <a:off x="1405800" y="4070880"/>
              <a:ext cx="79200" cy="46440"/>
            </a:xfrm>
            <a:custGeom>
              <a:avLst/>
              <a:gdLst/>
              <a:ahLst/>
              <a:rect l="l" t="t" r="r" b="b"/>
              <a:pathLst>
                <a:path w="347" h="204">
                  <a:moveTo>
                    <a:pt x="0" y="90"/>
                  </a:moveTo>
                  <a:lnTo>
                    <a:pt x="57" y="62"/>
                  </a:lnTo>
                  <a:lnTo>
                    <a:pt x="86" y="28"/>
                  </a:lnTo>
                  <a:lnTo>
                    <a:pt x="147" y="0"/>
                  </a:lnTo>
                  <a:lnTo>
                    <a:pt x="175" y="0"/>
                  </a:lnTo>
                  <a:lnTo>
                    <a:pt x="233" y="0"/>
                  </a:lnTo>
                  <a:lnTo>
                    <a:pt x="290" y="28"/>
                  </a:lnTo>
                  <a:lnTo>
                    <a:pt x="319" y="62"/>
                  </a:lnTo>
                  <a:lnTo>
                    <a:pt x="347" y="119"/>
                  </a:lnTo>
                  <a:lnTo>
                    <a:pt x="319" y="148"/>
                  </a:lnTo>
                  <a:lnTo>
                    <a:pt x="290" y="204"/>
                  </a:lnTo>
                  <a:lnTo>
                    <a:pt x="261" y="204"/>
                  </a:lnTo>
                  <a:lnTo>
                    <a:pt x="175" y="204"/>
                  </a:lnTo>
                  <a:lnTo>
                    <a:pt x="147" y="204"/>
                  </a:lnTo>
                  <a:lnTo>
                    <a:pt x="86" y="148"/>
                  </a:lnTo>
                  <a:lnTo>
                    <a:pt x="86" y="119"/>
                  </a:lnTo>
                  <a:lnTo>
                    <a:pt x="0" y="90"/>
                  </a:lnTo>
                  <a:close/>
                </a:path>
              </a:pathLst>
            </a:custGeom>
            <a:solidFill>
              <a:srgbClr val="ff7e5e"/>
            </a:solidFill>
            <a:ln w="1260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0" name=""/>
            <p:cNvSpPr/>
            <p:nvPr/>
          </p:nvSpPr>
          <p:spPr>
            <a:xfrm>
              <a:off x="1405800" y="4070880"/>
              <a:ext cx="79200" cy="46440"/>
            </a:xfrm>
            <a:custGeom>
              <a:avLst/>
              <a:gdLst/>
              <a:ahLst/>
              <a:rect l="l" t="t" r="r" b="b"/>
              <a:pathLst>
                <a:path w="347" h="204">
                  <a:moveTo>
                    <a:pt x="0" y="90"/>
                  </a:moveTo>
                  <a:lnTo>
                    <a:pt x="57" y="62"/>
                  </a:lnTo>
                  <a:lnTo>
                    <a:pt x="86" y="28"/>
                  </a:lnTo>
                  <a:lnTo>
                    <a:pt x="147" y="0"/>
                  </a:lnTo>
                  <a:lnTo>
                    <a:pt x="175" y="0"/>
                  </a:lnTo>
                  <a:lnTo>
                    <a:pt x="233" y="0"/>
                  </a:lnTo>
                  <a:lnTo>
                    <a:pt x="290" y="28"/>
                  </a:lnTo>
                  <a:lnTo>
                    <a:pt x="319" y="62"/>
                  </a:lnTo>
                  <a:lnTo>
                    <a:pt x="347" y="119"/>
                  </a:lnTo>
                  <a:lnTo>
                    <a:pt x="319" y="148"/>
                  </a:lnTo>
                  <a:lnTo>
                    <a:pt x="290" y="204"/>
                  </a:lnTo>
                  <a:lnTo>
                    <a:pt x="261" y="204"/>
                  </a:lnTo>
                  <a:lnTo>
                    <a:pt x="175" y="204"/>
                  </a:lnTo>
                  <a:lnTo>
                    <a:pt x="147" y="204"/>
                  </a:lnTo>
                  <a:lnTo>
                    <a:pt x="86" y="148"/>
                  </a:lnTo>
                  <a:lnTo>
                    <a:pt x="86" y="119"/>
                  </a:lnTo>
                  <a:lnTo>
                    <a:pt x="0" y="90"/>
                  </a:lnTo>
                </a:path>
              </a:pathLst>
            </a:custGeom>
            <a:solidFill>
              <a:srgbClr val="ffcc66"/>
            </a:solidFill>
            <a:ln w="12600">
              <a:solidFill>
                <a:srgbClr val="0e0d0c"/>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1" name=""/>
            <p:cNvSpPr/>
            <p:nvPr/>
          </p:nvSpPr>
          <p:spPr>
            <a:xfrm flipH="1" flipV="1">
              <a:off x="1433160" y="5277960"/>
              <a:ext cx="6480" cy="33840"/>
            </a:xfrm>
            <a:prstGeom prst="line">
              <a:avLst/>
            </a:prstGeom>
            <a:ln w="12600">
              <a:solidFill>
                <a:srgbClr val="0e0d0c"/>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02" name=""/>
            <p:cNvSpPr/>
            <p:nvPr/>
          </p:nvSpPr>
          <p:spPr>
            <a:xfrm>
              <a:off x="2266560" y="5397480"/>
              <a:ext cx="64080" cy="90000"/>
            </a:xfrm>
            <a:custGeom>
              <a:avLst/>
              <a:gdLst/>
              <a:ahLst/>
              <a:rect l="l" t="t" r="r" b="b"/>
              <a:pathLst>
                <a:path w="287" h="399">
                  <a:moveTo>
                    <a:pt x="0" y="343"/>
                  </a:moveTo>
                  <a:lnTo>
                    <a:pt x="86" y="399"/>
                  </a:lnTo>
                  <a:lnTo>
                    <a:pt x="143" y="399"/>
                  </a:lnTo>
                  <a:lnTo>
                    <a:pt x="258" y="343"/>
                  </a:lnTo>
                  <a:lnTo>
                    <a:pt x="287" y="167"/>
                  </a:lnTo>
                  <a:lnTo>
                    <a:pt x="258" y="85"/>
                  </a:lnTo>
                  <a:lnTo>
                    <a:pt x="201" y="28"/>
                  </a:lnTo>
                  <a:lnTo>
                    <a:pt x="115" y="0"/>
                  </a:lnTo>
                  <a:lnTo>
                    <a:pt x="29" y="28"/>
                  </a:lnTo>
                  <a:lnTo>
                    <a:pt x="0" y="57"/>
                  </a:lnTo>
                  <a:lnTo>
                    <a:pt x="0" y="224"/>
                  </a:lnTo>
                  <a:lnTo>
                    <a:pt x="0" y="343"/>
                  </a:lnTo>
                  <a:close/>
                </a:path>
              </a:pathLst>
            </a:custGeom>
            <a:solidFill>
              <a:srgbClr val="ff7e5e"/>
            </a:solidFill>
            <a:ln w="1260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3" name=""/>
            <p:cNvSpPr/>
            <p:nvPr/>
          </p:nvSpPr>
          <p:spPr>
            <a:xfrm>
              <a:off x="2266560" y="5397480"/>
              <a:ext cx="64080" cy="90000"/>
            </a:xfrm>
            <a:custGeom>
              <a:avLst/>
              <a:gdLst/>
              <a:ahLst/>
              <a:rect l="l" t="t" r="r" b="b"/>
              <a:pathLst>
                <a:path w="287" h="399">
                  <a:moveTo>
                    <a:pt x="0" y="343"/>
                  </a:moveTo>
                  <a:lnTo>
                    <a:pt x="86" y="399"/>
                  </a:lnTo>
                  <a:lnTo>
                    <a:pt x="143" y="399"/>
                  </a:lnTo>
                  <a:lnTo>
                    <a:pt x="258" y="343"/>
                  </a:lnTo>
                  <a:lnTo>
                    <a:pt x="287" y="167"/>
                  </a:lnTo>
                  <a:lnTo>
                    <a:pt x="258" y="85"/>
                  </a:lnTo>
                  <a:lnTo>
                    <a:pt x="201" y="28"/>
                  </a:lnTo>
                  <a:lnTo>
                    <a:pt x="115" y="0"/>
                  </a:lnTo>
                  <a:lnTo>
                    <a:pt x="29" y="28"/>
                  </a:lnTo>
                  <a:lnTo>
                    <a:pt x="0" y="57"/>
                  </a:lnTo>
                  <a:lnTo>
                    <a:pt x="0" y="224"/>
                  </a:lnTo>
                  <a:lnTo>
                    <a:pt x="0" y="343"/>
                  </a:lnTo>
                </a:path>
              </a:pathLst>
            </a:custGeom>
            <a:solidFill>
              <a:srgbClr val="ffcc66"/>
            </a:solidFill>
            <a:ln w="12600">
              <a:solidFill>
                <a:srgbClr val="0e0d0c"/>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4" name=""/>
            <p:cNvSpPr/>
            <p:nvPr/>
          </p:nvSpPr>
          <p:spPr>
            <a:xfrm>
              <a:off x="568800" y="5397480"/>
              <a:ext cx="58680" cy="90000"/>
            </a:xfrm>
            <a:custGeom>
              <a:avLst/>
              <a:gdLst/>
              <a:ahLst/>
              <a:rect l="l" t="t" r="r" b="b"/>
              <a:pathLst>
                <a:path w="256" h="399">
                  <a:moveTo>
                    <a:pt x="57" y="399"/>
                  </a:moveTo>
                  <a:lnTo>
                    <a:pt x="138" y="399"/>
                  </a:lnTo>
                  <a:lnTo>
                    <a:pt x="256" y="372"/>
                  </a:lnTo>
                  <a:lnTo>
                    <a:pt x="228" y="28"/>
                  </a:lnTo>
                  <a:lnTo>
                    <a:pt x="199" y="28"/>
                  </a:lnTo>
                  <a:lnTo>
                    <a:pt x="138" y="0"/>
                  </a:lnTo>
                  <a:lnTo>
                    <a:pt x="84" y="28"/>
                  </a:lnTo>
                  <a:lnTo>
                    <a:pt x="28" y="57"/>
                  </a:lnTo>
                  <a:lnTo>
                    <a:pt x="0" y="138"/>
                  </a:lnTo>
                  <a:lnTo>
                    <a:pt x="0" y="257"/>
                  </a:lnTo>
                  <a:lnTo>
                    <a:pt x="28" y="343"/>
                  </a:lnTo>
                  <a:lnTo>
                    <a:pt x="57" y="399"/>
                  </a:lnTo>
                  <a:close/>
                </a:path>
              </a:pathLst>
            </a:custGeom>
            <a:solidFill>
              <a:srgbClr val="ff7e5e"/>
            </a:solidFill>
            <a:ln w="1260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5" name=""/>
            <p:cNvSpPr/>
            <p:nvPr/>
          </p:nvSpPr>
          <p:spPr>
            <a:xfrm>
              <a:off x="568800" y="5397480"/>
              <a:ext cx="58680" cy="90000"/>
            </a:xfrm>
            <a:custGeom>
              <a:avLst/>
              <a:gdLst/>
              <a:ahLst/>
              <a:rect l="l" t="t" r="r" b="b"/>
              <a:pathLst>
                <a:path w="256" h="399">
                  <a:moveTo>
                    <a:pt x="57" y="399"/>
                  </a:moveTo>
                  <a:lnTo>
                    <a:pt x="138" y="399"/>
                  </a:lnTo>
                  <a:lnTo>
                    <a:pt x="256" y="372"/>
                  </a:lnTo>
                  <a:lnTo>
                    <a:pt x="228" y="28"/>
                  </a:lnTo>
                  <a:lnTo>
                    <a:pt x="199" y="28"/>
                  </a:lnTo>
                  <a:lnTo>
                    <a:pt x="138" y="0"/>
                  </a:lnTo>
                  <a:lnTo>
                    <a:pt x="84" y="28"/>
                  </a:lnTo>
                  <a:lnTo>
                    <a:pt x="28" y="57"/>
                  </a:lnTo>
                  <a:lnTo>
                    <a:pt x="0" y="138"/>
                  </a:lnTo>
                  <a:lnTo>
                    <a:pt x="0" y="257"/>
                  </a:lnTo>
                  <a:lnTo>
                    <a:pt x="28" y="343"/>
                  </a:lnTo>
                  <a:lnTo>
                    <a:pt x="57" y="399"/>
                  </a:lnTo>
                </a:path>
              </a:pathLst>
            </a:custGeom>
            <a:solidFill>
              <a:srgbClr val="ffcc66"/>
            </a:solidFill>
            <a:ln w="12600">
              <a:solidFill>
                <a:srgbClr val="0e0d0c"/>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6" name=""/>
            <p:cNvSpPr/>
            <p:nvPr/>
          </p:nvSpPr>
          <p:spPr>
            <a:xfrm>
              <a:off x="477360" y="5232960"/>
              <a:ext cx="91080" cy="248760"/>
            </a:xfrm>
            <a:custGeom>
              <a:avLst/>
              <a:gdLst/>
              <a:ahLst/>
              <a:rect l="l" t="t" r="r" b="b"/>
              <a:pathLst>
                <a:path w="405" h="1091">
                  <a:moveTo>
                    <a:pt x="405" y="1091"/>
                  </a:moveTo>
                  <a:lnTo>
                    <a:pt x="319" y="1062"/>
                  </a:lnTo>
                  <a:lnTo>
                    <a:pt x="261" y="976"/>
                  </a:lnTo>
                  <a:lnTo>
                    <a:pt x="200" y="886"/>
                  </a:lnTo>
                  <a:lnTo>
                    <a:pt x="172" y="747"/>
                  </a:lnTo>
                  <a:lnTo>
                    <a:pt x="172" y="572"/>
                  </a:lnTo>
                  <a:lnTo>
                    <a:pt x="200" y="457"/>
                  </a:lnTo>
                  <a:lnTo>
                    <a:pt x="200" y="428"/>
                  </a:lnTo>
                  <a:lnTo>
                    <a:pt x="143" y="229"/>
                  </a:lnTo>
                  <a:lnTo>
                    <a:pt x="57" y="57"/>
                  </a:lnTo>
                  <a:lnTo>
                    <a:pt x="0"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65040" y="5246640"/>
              <a:ext cx="150120" cy="38160"/>
            </a:xfrm>
            <a:custGeom>
              <a:avLst/>
              <a:gdLst/>
              <a:ahLst/>
              <a:rect l="l" t="t" r="r" b="b"/>
              <a:pathLst>
                <a:path w="663" h="172">
                  <a:moveTo>
                    <a:pt x="663" y="172"/>
                  </a:moveTo>
                  <a:lnTo>
                    <a:pt x="462" y="115"/>
                  </a:lnTo>
                  <a:lnTo>
                    <a:pt x="315" y="57"/>
                  </a:lnTo>
                  <a:lnTo>
                    <a:pt x="201" y="0"/>
                  </a:lnTo>
                  <a:lnTo>
                    <a:pt x="91" y="0"/>
                  </a:lnTo>
                  <a:lnTo>
                    <a:pt x="0" y="0"/>
                  </a:lnTo>
                </a:path>
              </a:pathLst>
            </a:custGeom>
            <a:noFill/>
            <a:ln w="12600">
              <a:solidFill>
                <a:srgbClr val="0e0d0c"/>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8" name=""/>
            <p:cNvSpPr/>
            <p:nvPr/>
          </p:nvSpPr>
          <p:spPr>
            <a:xfrm>
              <a:off x="371880" y="5258880"/>
              <a:ext cx="150120" cy="169560"/>
            </a:xfrm>
            <a:custGeom>
              <a:avLst/>
              <a:gdLst/>
              <a:ahLst/>
              <a:rect l="l" t="t" r="r" b="b"/>
              <a:pathLst>
                <a:path w="658" h="743">
                  <a:moveTo>
                    <a:pt x="311" y="0"/>
                  </a:moveTo>
                  <a:lnTo>
                    <a:pt x="282" y="86"/>
                  </a:lnTo>
                  <a:lnTo>
                    <a:pt x="196" y="205"/>
                  </a:lnTo>
                  <a:lnTo>
                    <a:pt x="168" y="257"/>
                  </a:lnTo>
                  <a:lnTo>
                    <a:pt x="110" y="314"/>
                  </a:lnTo>
                  <a:lnTo>
                    <a:pt x="29" y="314"/>
                  </a:lnTo>
                  <a:lnTo>
                    <a:pt x="0" y="314"/>
                  </a:lnTo>
                  <a:lnTo>
                    <a:pt x="139" y="343"/>
                  </a:lnTo>
                  <a:lnTo>
                    <a:pt x="196" y="400"/>
                  </a:lnTo>
                  <a:lnTo>
                    <a:pt x="196" y="458"/>
                  </a:lnTo>
                  <a:lnTo>
                    <a:pt x="254" y="576"/>
                  </a:lnTo>
                  <a:lnTo>
                    <a:pt x="282" y="633"/>
                  </a:lnTo>
                  <a:lnTo>
                    <a:pt x="282" y="662"/>
                  </a:lnTo>
                  <a:lnTo>
                    <a:pt x="343" y="662"/>
                  </a:lnTo>
                  <a:lnTo>
                    <a:pt x="458" y="662"/>
                  </a:lnTo>
                  <a:lnTo>
                    <a:pt x="486" y="662"/>
                  </a:lnTo>
                  <a:lnTo>
                    <a:pt x="544" y="690"/>
                  </a:lnTo>
                  <a:lnTo>
                    <a:pt x="658" y="743"/>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330640" y="5200200"/>
              <a:ext cx="84240" cy="267840"/>
            </a:xfrm>
            <a:custGeom>
              <a:avLst/>
              <a:gdLst/>
              <a:ahLst/>
              <a:rect l="l" t="t" r="r" b="b"/>
              <a:pathLst>
                <a:path w="371" h="1178">
                  <a:moveTo>
                    <a:pt x="0" y="1178"/>
                  </a:moveTo>
                  <a:lnTo>
                    <a:pt x="61" y="1087"/>
                  </a:lnTo>
                  <a:lnTo>
                    <a:pt x="114" y="974"/>
                  </a:lnTo>
                  <a:lnTo>
                    <a:pt x="143" y="805"/>
                  </a:lnTo>
                  <a:lnTo>
                    <a:pt x="143" y="658"/>
                  </a:lnTo>
                  <a:lnTo>
                    <a:pt x="114" y="515"/>
                  </a:lnTo>
                  <a:lnTo>
                    <a:pt x="172" y="373"/>
                  </a:lnTo>
                  <a:lnTo>
                    <a:pt x="256" y="258"/>
                  </a:lnTo>
                  <a:lnTo>
                    <a:pt x="371"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408400" y="5213880"/>
              <a:ext cx="132480" cy="25920"/>
            </a:xfrm>
            <a:custGeom>
              <a:avLst/>
              <a:gdLst/>
              <a:ahLst/>
              <a:rect l="l" t="t" r="r" b="b"/>
              <a:pathLst>
                <a:path w="581" h="114">
                  <a:moveTo>
                    <a:pt x="0" y="86"/>
                  </a:moveTo>
                  <a:lnTo>
                    <a:pt x="91" y="114"/>
                  </a:lnTo>
                  <a:lnTo>
                    <a:pt x="233" y="86"/>
                  </a:lnTo>
                  <a:lnTo>
                    <a:pt x="438" y="28"/>
                  </a:lnTo>
                  <a:lnTo>
                    <a:pt x="581" y="0"/>
                  </a:lnTo>
                </a:path>
              </a:pathLst>
            </a:custGeom>
            <a:noFill/>
            <a:ln w="12600">
              <a:solidFill>
                <a:srgbClr val="0e0d0c"/>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11" name=""/>
            <p:cNvSpPr/>
            <p:nvPr/>
          </p:nvSpPr>
          <p:spPr>
            <a:xfrm>
              <a:off x="2363400" y="5232960"/>
              <a:ext cx="151200" cy="188640"/>
            </a:xfrm>
            <a:custGeom>
              <a:avLst/>
              <a:gdLst/>
              <a:ahLst/>
              <a:rect l="l" t="t" r="r" b="b"/>
              <a:pathLst>
                <a:path w="665" h="830">
                  <a:moveTo>
                    <a:pt x="0" y="776"/>
                  </a:moveTo>
                  <a:lnTo>
                    <a:pt x="86" y="804"/>
                  </a:lnTo>
                  <a:lnTo>
                    <a:pt x="199" y="830"/>
                  </a:lnTo>
                  <a:lnTo>
                    <a:pt x="262" y="776"/>
                  </a:lnTo>
                  <a:lnTo>
                    <a:pt x="348" y="719"/>
                  </a:lnTo>
                  <a:lnTo>
                    <a:pt x="432" y="719"/>
                  </a:lnTo>
                  <a:lnTo>
                    <a:pt x="461" y="719"/>
                  </a:lnTo>
                  <a:lnTo>
                    <a:pt x="461" y="690"/>
                  </a:lnTo>
                  <a:lnTo>
                    <a:pt x="461" y="633"/>
                  </a:lnTo>
                  <a:lnTo>
                    <a:pt x="518" y="543"/>
                  </a:lnTo>
                  <a:lnTo>
                    <a:pt x="547" y="400"/>
                  </a:lnTo>
                  <a:lnTo>
                    <a:pt x="604" y="371"/>
                  </a:lnTo>
                  <a:lnTo>
                    <a:pt x="665" y="347"/>
                  </a:lnTo>
                  <a:lnTo>
                    <a:pt x="604" y="319"/>
                  </a:lnTo>
                  <a:lnTo>
                    <a:pt x="547" y="229"/>
                  </a:lnTo>
                  <a:lnTo>
                    <a:pt x="547" y="114"/>
                  </a:lnTo>
                  <a:lnTo>
                    <a:pt x="518" y="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363400" y="5357520"/>
              <a:ext cx="104760" cy="25920"/>
            </a:xfrm>
            <a:custGeom>
              <a:avLst/>
              <a:gdLst/>
              <a:ahLst/>
              <a:rect l="l" t="t" r="r" b="b"/>
              <a:pathLst>
                <a:path w="461" h="118">
                  <a:moveTo>
                    <a:pt x="0" y="29"/>
                  </a:moveTo>
                  <a:lnTo>
                    <a:pt x="86" y="0"/>
                  </a:lnTo>
                  <a:lnTo>
                    <a:pt x="262" y="29"/>
                  </a:lnTo>
                  <a:lnTo>
                    <a:pt x="461" y="118"/>
                  </a:lnTo>
                </a:path>
              </a:pathLst>
            </a:custGeom>
            <a:noFill/>
            <a:ln w="12600">
              <a:solidFill>
                <a:srgbClr val="0e0d0c"/>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13" name=""/>
            <p:cNvSpPr/>
            <p:nvPr/>
          </p:nvSpPr>
          <p:spPr>
            <a:xfrm>
              <a:off x="1262520" y="4820760"/>
              <a:ext cx="327960" cy="457200"/>
            </a:xfrm>
            <a:custGeom>
              <a:avLst/>
              <a:gdLst/>
              <a:ahLst/>
              <a:rect l="l" t="t" r="r" b="b"/>
              <a:pathLst>
                <a:path w="1439" h="2007">
                  <a:moveTo>
                    <a:pt x="33" y="0"/>
                  </a:moveTo>
                  <a:lnTo>
                    <a:pt x="90" y="516"/>
                  </a:lnTo>
                  <a:lnTo>
                    <a:pt x="62" y="859"/>
                  </a:lnTo>
                  <a:lnTo>
                    <a:pt x="0" y="1178"/>
                  </a:lnTo>
                  <a:lnTo>
                    <a:pt x="0" y="1463"/>
                  </a:lnTo>
                  <a:lnTo>
                    <a:pt x="119" y="1721"/>
                  </a:lnTo>
                  <a:lnTo>
                    <a:pt x="232" y="1864"/>
                  </a:lnTo>
                  <a:lnTo>
                    <a:pt x="347" y="1921"/>
                  </a:lnTo>
                  <a:lnTo>
                    <a:pt x="490" y="1979"/>
                  </a:lnTo>
                  <a:lnTo>
                    <a:pt x="662" y="2007"/>
                  </a:lnTo>
                  <a:lnTo>
                    <a:pt x="752" y="1979"/>
                  </a:lnTo>
                  <a:lnTo>
                    <a:pt x="838" y="1979"/>
                  </a:lnTo>
                  <a:lnTo>
                    <a:pt x="981" y="1979"/>
                  </a:lnTo>
                  <a:lnTo>
                    <a:pt x="1123" y="1921"/>
                  </a:lnTo>
                  <a:lnTo>
                    <a:pt x="1270" y="1778"/>
                  </a:lnTo>
                  <a:lnTo>
                    <a:pt x="1381" y="1578"/>
                  </a:lnTo>
                  <a:lnTo>
                    <a:pt x="1439" y="1259"/>
                  </a:lnTo>
                  <a:lnTo>
                    <a:pt x="1410" y="1034"/>
                  </a:lnTo>
                  <a:lnTo>
                    <a:pt x="1353" y="720"/>
                  </a:lnTo>
                  <a:lnTo>
                    <a:pt x="1353" y="430"/>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334880" y="4833360"/>
              <a:ext cx="176040" cy="399600"/>
            </a:xfrm>
            <a:custGeom>
              <a:avLst/>
              <a:gdLst/>
              <a:ahLst/>
              <a:rect l="l" t="t" r="r" b="b"/>
              <a:pathLst>
                <a:path w="777" h="1749">
                  <a:moveTo>
                    <a:pt x="86" y="0"/>
                  </a:moveTo>
                  <a:lnTo>
                    <a:pt x="58" y="114"/>
                  </a:lnTo>
                  <a:lnTo>
                    <a:pt x="29" y="257"/>
                  </a:lnTo>
                  <a:lnTo>
                    <a:pt x="0" y="372"/>
                  </a:lnTo>
                  <a:lnTo>
                    <a:pt x="29" y="487"/>
                  </a:lnTo>
                  <a:lnTo>
                    <a:pt x="58" y="634"/>
                  </a:lnTo>
                  <a:lnTo>
                    <a:pt x="58" y="890"/>
                  </a:lnTo>
                  <a:lnTo>
                    <a:pt x="29" y="1034"/>
                  </a:lnTo>
                  <a:lnTo>
                    <a:pt x="29" y="1263"/>
                  </a:lnTo>
                  <a:lnTo>
                    <a:pt x="86" y="1462"/>
                  </a:lnTo>
                  <a:lnTo>
                    <a:pt x="147" y="1634"/>
                  </a:lnTo>
                  <a:lnTo>
                    <a:pt x="258" y="1720"/>
                  </a:lnTo>
                  <a:lnTo>
                    <a:pt x="402" y="1749"/>
                  </a:lnTo>
                  <a:lnTo>
                    <a:pt x="491" y="1749"/>
                  </a:lnTo>
                  <a:lnTo>
                    <a:pt x="635" y="1634"/>
                  </a:lnTo>
                  <a:lnTo>
                    <a:pt x="691" y="1548"/>
                  </a:lnTo>
                  <a:lnTo>
                    <a:pt x="777" y="1377"/>
                  </a:lnTo>
                  <a:lnTo>
                    <a:pt x="748" y="1005"/>
                  </a:lnTo>
                  <a:lnTo>
                    <a:pt x="719" y="772"/>
                  </a:lnTo>
                  <a:lnTo>
                    <a:pt x="777" y="458"/>
                  </a:lnTo>
                  <a:lnTo>
                    <a:pt x="777" y="257"/>
                  </a:lnTo>
                  <a:lnTo>
                    <a:pt x="719" y="114"/>
                  </a:lnTo>
                  <a:lnTo>
                    <a:pt x="606" y="28"/>
                  </a:lnTo>
                </a:path>
              </a:pathLst>
            </a:custGeom>
            <a:noFill/>
            <a:ln w="12600">
              <a:solidFill>
                <a:srgbClr val="0e0d0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mittlung und Kontrolle</a:t>
            </a:r>
            <a:endParaRPr b="0" lang="en-US" sz="2400" spc="-1" strike="noStrike">
              <a:solidFill>
                <a:srgbClr val="000000"/>
              </a:solidFill>
              <a:latin typeface="Times New Roman"/>
            </a:endParaRPr>
          </a:p>
        </p:txBody>
      </p:sp>
      <p:sp>
        <p:nvSpPr>
          <p:cNvPr id="21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17" name=""/>
          <p:cNvSpPr/>
          <p:nvPr/>
        </p:nvSpPr>
        <p:spPr>
          <a:xfrm>
            <a:off x="3157200" y="828720"/>
            <a:ext cx="5795280" cy="138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cc"/>
                </a:solidFill>
                <a:latin typeface="Arial"/>
              </a:rPr>
              <a:t>Zur Ermittlung von MRSA werden auf ärztliche Anordnung</a:t>
            </a:r>
            <a:br>
              <a:rPr sz="1600"/>
            </a:br>
            <a:r>
              <a:rPr b="1" lang="de-DE" sz="1600" spc="-1" strike="noStrike">
                <a:solidFill>
                  <a:srgbClr val="3333cc"/>
                </a:solidFill>
                <a:latin typeface="Arial"/>
              </a:rPr>
              <a:t>Abstriche entnommen:</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Stieltupfer wird mit (vermutlich) MRSA-haltigen Materialien</a:t>
            </a:r>
            <a:br>
              <a:rPr sz="1600"/>
            </a:br>
            <a:r>
              <a:rPr b="0" lang="de-DE" sz="1600" spc="-1" strike="noStrike">
                <a:solidFill>
                  <a:srgbClr val="000000"/>
                </a:solidFill>
                <a:latin typeface="Arial"/>
              </a:rPr>
              <a:t>in Berührung gebracht und die so entnommenen Keime im</a:t>
            </a:r>
            <a:br>
              <a:rPr sz="1600"/>
            </a:br>
            <a:r>
              <a:rPr b="0" lang="de-DE" sz="1600" spc="-1" strike="noStrike">
                <a:solidFill>
                  <a:srgbClr val="000000"/>
                </a:solidFill>
                <a:latin typeface="Arial"/>
              </a:rPr>
              <a:t>Labor identifiziert.</a:t>
            </a:r>
            <a:endParaRPr b="0" lang="en-US" sz="1600" spc="-1" strike="noStrike">
              <a:solidFill>
                <a:srgbClr val="000000"/>
              </a:solidFill>
              <a:latin typeface="Times New Roman"/>
            </a:endParaRPr>
          </a:p>
        </p:txBody>
      </p:sp>
      <p:grpSp>
        <p:nvGrpSpPr>
          <p:cNvPr id="218" name=""/>
          <p:cNvGrpSpPr/>
          <p:nvPr/>
        </p:nvGrpSpPr>
        <p:grpSpPr>
          <a:xfrm>
            <a:off x="3068640" y="2482920"/>
            <a:ext cx="5486400" cy="2929320"/>
            <a:chOff x="3068640" y="2482920"/>
            <a:chExt cx="5486400" cy="2929320"/>
          </a:xfrm>
        </p:grpSpPr>
        <p:sp>
          <p:nvSpPr>
            <p:cNvPr id="219" name=""/>
            <p:cNvSpPr/>
            <p:nvPr/>
          </p:nvSpPr>
          <p:spPr>
            <a:xfrm>
              <a:off x="3068640" y="2745000"/>
              <a:ext cx="5486400" cy="146340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möglichen MRSA-Trägern, d.h.:</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ue Bewohner mit </a:t>
              </a:r>
              <a:r>
                <a:rPr b="0" lang="en-US" sz="1600" spc="-1" strike="noStrike" u="sng">
                  <a:solidFill>
                    <a:srgbClr val="000000"/>
                  </a:solidFill>
                  <a:uFillTx/>
                  <a:latin typeface="Arial"/>
                </a:rPr>
                <a:t>bekannter</a:t>
              </a:r>
              <a:r>
                <a:rPr b="0" lang="en-US" sz="1600" spc="-1" strike="noStrike">
                  <a:solidFill>
                    <a:srgbClr val="000000"/>
                  </a:solidFill>
                  <a:latin typeface="Arial"/>
                </a:rPr>
                <a:t> MRSA-Anamnese aber derzeit unbekanntem MRSA-Status.</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tl. weitere Bewohner und medizinisch-pflegerisches</a:t>
              </a:r>
              <a:br>
                <a:rPr sz="1600"/>
              </a:br>
              <a:r>
                <a:rPr b="0" lang="en-US" sz="1600" spc="-1" strike="noStrike">
                  <a:solidFill>
                    <a:srgbClr val="000000"/>
                  </a:solidFill>
                  <a:latin typeface="Arial"/>
                </a:rPr>
                <a:t>Personal bei MRSA-Ausbrüchen.</a:t>
              </a:r>
              <a:endParaRPr b="0" lang="en-US" sz="1600" spc="-1" strike="noStrike">
                <a:solidFill>
                  <a:srgbClr val="000000"/>
                </a:solidFill>
                <a:latin typeface="Times New Roman"/>
              </a:endParaRPr>
            </a:p>
          </p:txBody>
        </p:sp>
        <p:sp>
          <p:nvSpPr>
            <p:cNvPr id="220" name=""/>
            <p:cNvSpPr/>
            <p:nvPr/>
          </p:nvSpPr>
          <p:spPr>
            <a:xfrm>
              <a:off x="3072240" y="4192200"/>
              <a:ext cx="4918680" cy="1220040"/>
            </a:xfrm>
            <a:prstGeom prst="rect">
              <a:avLst/>
            </a:prstGeom>
            <a:noFill/>
            <a:ln w="0">
              <a:noFill/>
            </a:ln>
          </p:spPr>
          <p:style>
            <a:lnRef idx="0"/>
            <a:fillRef idx="0"/>
            <a:effectRef idx="0"/>
            <a:fontRef idx="minor"/>
          </p:style>
          <p:txBody>
            <a:bodyPr wrap="none" lIns="90000" rIns="90000" tIns="46800" bIns="46800" anchor="ctr">
              <a:spAutoFit/>
            </a:bodyPr>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und erwiesenen MRSA-Trägern:</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r und im Rahmen einer Sanierung.</a:t>
              </a:r>
              <a:endParaRPr b="0" lang="en-US" sz="1600" spc="-1" strike="noStrike">
                <a:solidFill>
                  <a:srgbClr val="000000"/>
                </a:solidFill>
                <a:latin typeface="Times New Roman"/>
              </a:endParaRPr>
            </a:p>
            <a:p>
              <a:pPr marL="190440" indent="-1904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tl. vor geplanten Krankenhausaufenthalten oder </a:t>
              </a:r>
              <a:br>
                <a:rPr sz="1600"/>
              </a:br>
              <a:r>
                <a:rPr b="0" lang="en-US" sz="1600" spc="-1" strike="noStrike">
                  <a:solidFill>
                    <a:srgbClr val="000000"/>
                  </a:solidFill>
                  <a:latin typeface="Arial"/>
                </a:rPr>
                <a:t>Verlegungen in andere stationäre Einrichtungen.</a:t>
              </a:r>
              <a:endParaRPr b="0" lang="en-US" sz="1600" spc="-1" strike="noStrike">
                <a:solidFill>
                  <a:srgbClr val="000000"/>
                </a:solidFill>
                <a:latin typeface="Times New Roman"/>
              </a:endParaRPr>
            </a:p>
          </p:txBody>
        </p:sp>
        <p:sp>
          <p:nvSpPr>
            <p:cNvPr id="221" name=""/>
            <p:cNvSpPr/>
            <p:nvPr/>
          </p:nvSpPr>
          <p:spPr>
            <a:xfrm>
              <a:off x="3085920" y="2482920"/>
              <a:ext cx="353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bstriche können indiziert sein bei</a:t>
              </a:r>
              <a:endParaRPr b="0" lang="en-US" sz="1600" spc="-1" strike="noStrike">
                <a:solidFill>
                  <a:srgbClr val="000000"/>
                </a:solidFill>
                <a:latin typeface="Times New Roman"/>
              </a:endParaRPr>
            </a:p>
          </p:txBody>
        </p:sp>
      </p:grpSp>
      <p:sp>
        <p:nvSpPr>
          <p:cNvPr id="222" name=""/>
          <p:cNvSpPr/>
          <p:nvPr/>
        </p:nvSpPr>
        <p:spPr>
          <a:xfrm>
            <a:off x="677880" y="5877000"/>
            <a:ext cx="75996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Abstriche ohne Indikation sind teuer, sinnlos und verwirrend.</a:t>
            </a:r>
            <a:endParaRPr b="0" lang="en-US" sz="2000" spc="-1" strike="noStrike">
              <a:solidFill>
                <a:srgbClr val="000000"/>
              </a:solidFill>
              <a:latin typeface="Times New Roman"/>
            </a:endParaRPr>
          </a:p>
        </p:txBody>
      </p:sp>
      <p:sp>
        <p:nvSpPr>
          <p:cNvPr id="223" name=""/>
          <p:cNvSpPr txBox="1"/>
          <p:nvPr/>
        </p:nvSpPr>
        <p:spPr>
          <a:xfrm>
            <a:off x="1066680" y="2590920"/>
            <a:ext cx="743040" cy="1724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9080">
                  <a:solidFill>
                    <a:srgbClr val="99ccff"/>
                  </a:solidFill>
                  <a:miter/>
                </a:ln>
                <a:solidFill>
                  <a:srgbClr val="0066cc"/>
                </a:solidFill>
                <a:effectLst>
                  <a:outerShdw dist="17819" dir="2700000" blurRad="0" rotWithShape="0">
                    <a:srgbClr val="990000"/>
                  </a:outerShdw>
                </a:effectLst>
                <a:latin typeface="Arial Black"/>
              </a:rPr>
              <a:t>?</a:t>
            </a:r>
            <a:endParaRPr b="0" lang="en-US" sz="9600" spc="1" strike="noStrike">
              <a:ln w="19080">
                <a:solidFill>
                  <a:srgbClr val="99ccff"/>
                </a:solidFill>
                <a:miter/>
              </a:ln>
              <a:solidFill>
                <a:srgbClr val="0066cc"/>
              </a:solidFill>
              <a:effectLst>
                <a:outerShdw dist="17819" dir="2700000" blurRad="0" rotWithShape="0">
                  <a:srgbClr val="990000"/>
                </a:outerShdw>
              </a:effectLst>
              <a:latin typeface="Arial Black"/>
              <a:ea typeface="Arial Black"/>
            </a:endParaRPr>
          </a:p>
        </p:txBody>
      </p:sp>
    </p:spTree>
  </p:cSld>
  <p:transition>
    <p:zoom dir="ou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3" presetSubtype="5">
                                  <p:stCondLst>
                                    <p:cond delay="0"/>
                                  </p:stCondLst>
                                  <p:childTnLst>
                                    <p:set>
                                      <p:cBhvr>
                                        <p:cTn id="194" dur="1" fill="hold">
                                          <p:stCondLst>
                                            <p:cond delay="0"/>
                                          </p:stCondLst>
                                        </p:cTn>
                                        <p:tgtEl>
                                          <p:spTgt spid="218"/>
                                        </p:tgtEl>
                                        <p:attrNameLst>
                                          <p:attrName>style.visibility</p:attrName>
                                        </p:attrNameLst>
                                      </p:cBhvr>
                                      <p:to>
                                        <p:strVal val="visible"/>
                                      </p:to>
                                    </p:set>
                                    <p:animEffect filter="blinds(vertical)" transition="in">
                                      <p:cBhvr additive="repl">
                                        <p:cTn id="195" dur="500"/>
                                        <p:tgtEl>
                                          <p:spTgt spid="218"/>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5">
                                  <p:stCondLst>
                                    <p:cond delay="0"/>
                                  </p:stCondLst>
                                  <p:childTnLst>
                                    <p:set>
                                      <p:cBhvr>
                                        <p:cTn id="199" dur="1" fill="hold">
                                          <p:stCondLst>
                                            <p:cond delay="0"/>
                                          </p:stCondLst>
                                        </p:cTn>
                                        <p:tgtEl>
                                          <p:spTgt spid="222"/>
                                        </p:tgtEl>
                                        <p:attrNameLst>
                                          <p:attrName>style.visibility</p:attrName>
                                        </p:attrNameLst>
                                      </p:cBhvr>
                                      <p:to>
                                        <p:strVal val="visible"/>
                                      </p:to>
                                    </p:set>
                                    <p:animEffect filter="blinds(vertical)" transition="in">
                                      <p:cBhvr additive="repl">
                                        <p:cTn id="200"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mittlung und Kontrolle</a:t>
            </a:r>
            <a:endParaRPr b="0" lang="en-US" sz="2400" spc="-1" strike="noStrike">
              <a:solidFill>
                <a:srgbClr val="000000"/>
              </a:solidFill>
              <a:latin typeface="Times New Roman"/>
            </a:endParaRPr>
          </a:p>
        </p:txBody>
      </p:sp>
      <p:sp>
        <p:nvSpPr>
          <p:cNvPr id="22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26" name=""/>
          <p:cNvSpPr/>
          <p:nvPr/>
        </p:nvSpPr>
        <p:spPr>
          <a:xfrm>
            <a:off x="3318480" y="901080"/>
            <a:ext cx="1614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Abstrichorte:</a:t>
            </a:r>
            <a:endParaRPr b="0" lang="en-US" sz="1800" spc="-1" strike="noStrike">
              <a:solidFill>
                <a:srgbClr val="000000"/>
              </a:solidFill>
              <a:latin typeface="Times New Roman"/>
            </a:endParaRPr>
          </a:p>
        </p:txBody>
      </p:sp>
      <p:sp>
        <p:nvSpPr>
          <p:cNvPr id="227" name=""/>
          <p:cNvSpPr/>
          <p:nvPr/>
        </p:nvSpPr>
        <p:spPr>
          <a:xfrm>
            <a:off x="3318120" y="2896200"/>
            <a:ext cx="5147280" cy="5317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itere Abstriche </a:t>
            </a:r>
            <a:r>
              <a:rPr b="0" lang="de-DE" sz="1600" spc="-1" strike="noStrike">
                <a:solidFill>
                  <a:srgbClr val="000000"/>
                </a:solidFill>
                <a:latin typeface="Arial"/>
              </a:rPr>
              <a:t>(z.B. Haut, Perineum, Urin etc.)</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je nach Sachverhalt bzw. auf besondere Veranlassung.</a:t>
            </a:r>
            <a:endParaRPr b="0" lang="en-US" sz="1600" spc="-1" strike="noStrike">
              <a:solidFill>
                <a:srgbClr val="000000"/>
              </a:solidFill>
              <a:latin typeface="Times New Roman"/>
            </a:endParaRPr>
          </a:p>
        </p:txBody>
      </p:sp>
      <p:sp>
        <p:nvSpPr>
          <p:cNvPr id="228" name=""/>
          <p:cNvSpPr/>
          <p:nvPr/>
        </p:nvSpPr>
        <p:spPr>
          <a:xfrm>
            <a:off x="3316320" y="1203480"/>
            <a:ext cx="5719680" cy="750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mer Rachen- und Nasenabstrich:</a:t>
            </a:r>
            <a:r>
              <a:rPr b="0" lang="en-US" sz="1600" spc="-1" strike="noStrike">
                <a:solidFill>
                  <a:srgbClr val="000000"/>
                </a:solidFill>
                <a:latin typeface="Arial"/>
              </a:rPr>
              <a:t> mit einem Abstrich-Stieltupfer zunächst den Rachen, dann beide Nasenvorhöfe abstreichen.</a:t>
            </a:r>
            <a:endParaRPr b="0" lang="en-US" sz="1600" spc="-1" strike="noStrike">
              <a:solidFill>
                <a:srgbClr val="000000"/>
              </a:solidFill>
              <a:latin typeface="Times New Roman"/>
            </a:endParaRPr>
          </a:p>
        </p:txBody>
      </p:sp>
      <p:sp>
        <p:nvSpPr>
          <p:cNvPr id="229" name=""/>
          <p:cNvSpPr/>
          <p:nvPr/>
        </p:nvSpPr>
        <p:spPr>
          <a:xfrm>
            <a:off x="3321000" y="1923480"/>
            <a:ext cx="5392800" cy="96948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gf. Wundabstrich </a:t>
            </a:r>
            <a:r>
              <a:rPr b="0" lang="en-US" sz="1600" spc="-1" strike="noStrike">
                <a:solidFill>
                  <a:srgbClr val="000000"/>
                </a:solidFill>
                <a:latin typeface="Arial"/>
              </a:rPr>
              <a:t>= mit einem Abstrich-Stieltupfer</a:t>
            </a:r>
            <a:br>
              <a:rPr sz="1600"/>
            </a:br>
            <a:r>
              <a:rPr b="0" lang="en-US" sz="1600" spc="-1" strike="noStrike">
                <a:solidFill>
                  <a:srgbClr val="000000"/>
                </a:solidFill>
                <a:latin typeface="Arial"/>
              </a:rPr>
              <a:t>den Wundgrund und die Wundfläche bzw. die Insertions-</a:t>
            </a:r>
            <a:br>
              <a:rPr sz="1600"/>
            </a:br>
            <a:r>
              <a:rPr b="0" lang="en-US" sz="1600" spc="-1" strike="noStrike">
                <a:solidFill>
                  <a:srgbClr val="000000"/>
                </a:solidFill>
                <a:latin typeface="Arial"/>
              </a:rPr>
              <a:t>stelle abstreichen.</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ür jede Wunde bzw. Insertionsstelle gesonderten Tupfer.</a:t>
            </a:r>
            <a:endParaRPr b="0" lang="en-US" sz="1600" spc="-1" strike="noStrike">
              <a:solidFill>
                <a:srgbClr val="000000"/>
              </a:solidFill>
              <a:latin typeface="Times New Roman"/>
            </a:endParaRPr>
          </a:p>
        </p:txBody>
      </p:sp>
      <p:grpSp>
        <p:nvGrpSpPr>
          <p:cNvPr id="230" name=""/>
          <p:cNvGrpSpPr/>
          <p:nvPr/>
        </p:nvGrpSpPr>
        <p:grpSpPr>
          <a:xfrm>
            <a:off x="36360" y="692280"/>
            <a:ext cx="3240360" cy="5400360"/>
            <a:chOff x="36360" y="692280"/>
            <a:chExt cx="3240360" cy="5400360"/>
          </a:xfrm>
        </p:grpSpPr>
        <p:pic>
          <p:nvPicPr>
            <p:cNvPr id="231" name="" descr=""/>
            <p:cNvPicPr/>
            <p:nvPr/>
          </p:nvPicPr>
          <p:blipFill>
            <a:blip r:embed="rId1"/>
            <a:stretch/>
          </p:blipFill>
          <p:spPr>
            <a:xfrm>
              <a:off x="36360" y="692280"/>
              <a:ext cx="3240360" cy="2802960"/>
            </a:xfrm>
            <a:prstGeom prst="rect">
              <a:avLst/>
            </a:prstGeom>
            <a:ln w="0">
              <a:noFill/>
            </a:ln>
          </p:spPr>
        </p:pic>
        <p:pic>
          <p:nvPicPr>
            <p:cNvPr id="232" name="" descr=""/>
            <p:cNvPicPr/>
            <p:nvPr/>
          </p:nvPicPr>
          <p:blipFill>
            <a:blip r:embed="rId2"/>
            <a:stretch/>
          </p:blipFill>
          <p:spPr>
            <a:xfrm>
              <a:off x="36360" y="3657600"/>
              <a:ext cx="3192840" cy="2435040"/>
            </a:xfrm>
            <a:prstGeom prst="rect">
              <a:avLst/>
            </a:prstGeom>
            <a:ln w="0">
              <a:noFill/>
            </a:ln>
          </p:spPr>
        </p:pic>
      </p:grpSp>
      <p:pic>
        <p:nvPicPr>
          <p:cNvPr id="233" name="" descr=""/>
          <p:cNvPicPr/>
          <p:nvPr/>
        </p:nvPicPr>
        <p:blipFill>
          <a:blip r:embed="rId3"/>
          <a:stretch/>
        </p:blipFill>
        <p:spPr>
          <a:xfrm>
            <a:off x="2411280" y="2421000"/>
            <a:ext cx="750960" cy="4103640"/>
          </a:xfrm>
          <a:prstGeom prst="rect">
            <a:avLst/>
          </a:prstGeom>
          <a:ln w="0">
            <a:noFill/>
          </a:ln>
        </p:spPr>
      </p:pic>
      <p:sp>
        <p:nvSpPr>
          <p:cNvPr id="234" name=""/>
          <p:cNvSpPr/>
          <p:nvPr/>
        </p:nvSpPr>
        <p:spPr>
          <a:xfrm>
            <a:off x="3306600" y="3504960"/>
            <a:ext cx="5729400" cy="1768320"/>
          </a:xfrm>
          <a:prstGeom prst="rect">
            <a:avLst/>
          </a:prstGeom>
          <a:noFill/>
          <a:ln w="0">
            <a:noFill/>
          </a:ln>
        </p:spPr>
        <p:style>
          <a:lnRef idx="0"/>
          <a:fillRef idx="0"/>
          <a:effectRef idx="0"/>
          <a:fontRef idx="minor"/>
        </p:style>
        <p:txBody>
          <a:bodyPr lIns="90000" rIns="90000" tIns="46800" bIns="46800" anchor="ctr">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Regeln:</a:t>
            </a:r>
            <a:endParaRPr b="0" lang="en-US" sz="18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träge vollständig und präzise ausfüll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rockene Abstriche vermeiden (ggf. Stieltupfer mit steriler Kochsalz-Lösung anfeuch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Abstriche unmittelbar nach oder während antibioti-scher bzw. antiseptischer Behandlung (Turixin, Polyhexanid, PVP-Jod).</a:t>
            </a:r>
            <a:endParaRPr b="0" lang="en-US" sz="1600" spc="-1" strike="noStrike">
              <a:solidFill>
                <a:srgbClr val="000000"/>
              </a:solidFill>
              <a:latin typeface="Times New Roman"/>
            </a:endParaRPr>
          </a:p>
        </p:txBody>
      </p:sp>
      <p:sp>
        <p:nvSpPr>
          <p:cNvPr id="235" name=""/>
          <p:cNvSpPr/>
          <p:nvPr/>
        </p:nvSpPr>
        <p:spPr>
          <a:xfrm>
            <a:off x="3276720" y="5303520"/>
            <a:ext cx="5688000" cy="1330560"/>
          </a:xfrm>
          <a:prstGeom prst="rect">
            <a:avLst/>
          </a:prstGeom>
          <a:noFill/>
          <a:ln w="0">
            <a:noFill/>
          </a:ln>
        </p:spPr>
        <p:style>
          <a:lnRef idx="0"/>
          <a:fillRef idx="0"/>
          <a:effectRef idx="0"/>
          <a:fontRef idx="minor"/>
        </p:style>
        <p:txBody>
          <a:bodyPr lIns="90000" rIns="90000" tIns="46800" bIns="46800" anchor="ctr">
            <a:spAutoFit/>
          </a:bodyPr>
          <a:p>
            <a:pPr marL="187200" indent="-187200">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Untersuchung</a:t>
            </a:r>
            <a:endParaRPr b="0" lang="en-US" sz="18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erweise wird MRSA über eine Kultur- und Resistenzuntersuchung ermittelt.</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gebnisse sind nach ca. 3 Tagen zu erwarten.</a:t>
            </a:r>
            <a:endParaRPr b="0" lang="en-US" sz="1600" spc="-1" strike="noStrike">
              <a:solidFill>
                <a:srgbClr val="000000"/>
              </a:solidFill>
              <a:latin typeface="Times New Roman"/>
            </a:endParaRPr>
          </a:p>
          <a:p>
            <a:pPr marL="187200" indent="-187200">
              <a:lnSpc>
                <a:spcPct val="90000"/>
              </a:lnSpc>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lsch-negative Ergebnisse sind möglich.</a:t>
            </a:r>
            <a:endParaRPr b="0" lang="en-US" sz="1600" spc="-1" strike="noStrike">
              <a:solidFill>
                <a:srgbClr val="000000"/>
              </a:solidFill>
              <a:latin typeface="Times New Roman"/>
            </a:endParaRPr>
          </a:p>
        </p:txBody>
      </p:sp>
    </p:spTree>
  </p:cSld>
  <p:transition>
    <p:zoom dir="out"/>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234"/>
                                        </p:tgtEl>
                                        <p:attrNameLst>
                                          <p:attrName>style.visibility</p:attrName>
                                        </p:attrNameLst>
                                      </p:cBhvr>
                                      <p:to>
                                        <p:strVal val="visible"/>
                                      </p:to>
                                    </p:set>
                                    <p:animEffect filter="dissolve" transition="in">
                                      <p:cBhvr additive="repl">
                                        <p:cTn id="207" dur="500"/>
                                        <p:tgtEl>
                                          <p:spTgt spid="23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235"/>
                                        </p:tgtEl>
                                        <p:attrNameLst>
                                          <p:attrName>style.visibility</p:attrName>
                                        </p:attrNameLst>
                                      </p:cBhvr>
                                      <p:to>
                                        <p:strVal val="visible"/>
                                      </p:to>
                                    </p:set>
                                    <p:animEffect filter="dissolve" transition="in">
                                      <p:cBhvr additive="repl">
                                        <p:cTn id="212"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nierung</a:t>
            </a:r>
            <a:endParaRPr b="0" lang="en-US" sz="2400" spc="-1" strike="noStrike">
              <a:solidFill>
                <a:srgbClr val="000000"/>
              </a:solidFill>
              <a:latin typeface="Times New Roman"/>
            </a:endParaRPr>
          </a:p>
        </p:txBody>
      </p:sp>
      <p:sp>
        <p:nvSpPr>
          <p:cNvPr id="23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38" name=""/>
          <p:cNvSpPr/>
          <p:nvPr/>
        </p:nvSpPr>
        <p:spPr>
          <a:xfrm>
            <a:off x="476640" y="762120"/>
            <a:ext cx="7441200" cy="931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Begriffsdeutu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anierung = Eradikation = Beseitigung von MRSA mit Hilfe lokal anzuwendender</a:t>
            </a:r>
            <a:br>
              <a:rPr sz="1600"/>
            </a:br>
            <a:r>
              <a:rPr b="0" lang="de-DE" sz="1600" spc="-1" strike="noStrike">
                <a:solidFill>
                  <a:srgbClr val="000000"/>
                </a:solidFill>
                <a:latin typeface="Arial"/>
              </a:rPr>
              <a:t>antibiotischer und / oder desinfizierender Substanzen</a:t>
            </a:r>
            <a:endParaRPr b="0" lang="en-US" sz="1600" spc="-1" strike="noStrike">
              <a:solidFill>
                <a:srgbClr val="000000"/>
              </a:solidFill>
              <a:latin typeface="Times New Roman"/>
            </a:endParaRPr>
          </a:p>
        </p:txBody>
      </p:sp>
      <p:grpSp>
        <p:nvGrpSpPr>
          <p:cNvPr id="239" name=""/>
          <p:cNvGrpSpPr/>
          <p:nvPr/>
        </p:nvGrpSpPr>
        <p:grpSpPr>
          <a:xfrm>
            <a:off x="305280" y="1751760"/>
            <a:ext cx="7043040" cy="2250720"/>
            <a:chOff x="305280" y="1751760"/>
            <a:chExt cx="7043040" cy="2250720"/>
          </a:xfrm>
        </p:grpSpPr>
        <p:sp>
          <p:nvSpPr>
            <p:cNvPr id="240" name=""/>
            <p:cNvSpPr/>
            <p:nvPr/>
          </p:nvSpPr>
          <p:spPr>
            <a:xfrm>
              <a:off x="305280" y="2128680"/>
              <a:ext cx="7043040" cy="1873800"/>
            </a:xfrm>
            <a:prstGeom prst="rect">
              <a:avLst/>
            </a:prstGeom>
            <a:noFill/>
            <a:ln w="0">
              <a:noFill/>
            </a:ln>
          </p:spPr>
          <p:style>
            <a:lnRef idx="0"/>
            <a:fillRef idx="0"/>
            <a:effectRef idx="0"/>
            <a:fontRef idx="minor"/>
          </p:style>
          <p:txBody>
            <a:bodyPr wrap="none" lIns="90000" rIns="90000" tIns="46800" bIns="46800" anchor="ctr">
              <a:spAutoFit/>
            </a:bodyPr>
            <a:p>
              <a:pPr marL="190440" indent="-190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okale Antibiotika</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Mupirocin (Markenname „Turixin® “)</a:t>
              </a:r>
              <a:endParaRPr b="0" lang="en-US" sz="1600" spc="-1" strike="noStrike">
                <a:solidFill>
                  <a:srgbClr val="000000"/>
                </a:solidFill>
                <a:latin typeface="Times New Roman"/>
              </a:endParaRPr>
            </a:p>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Bacitracin (Markenname z.B. „Cicatrex® “)</a:t>
              </a:r>
              <a:endParaRPr b="0" lang="en-US" sz="1600" spc="-1" strike="noStrike">
                <a:solidFill>
                  <a:srgbClr val="000000"/>
                </a:solidFill>
                <a:latin typeface="Times New Roman"/>
              </a:endParaRPr>
            </a:p>
            <a:p>
              <a:pPr marL="190440" indent="-190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 und Schleimhaut-verträgliche Antiseptika</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Polyhexanidderivate (Markenname z.B. „Sanalind® “</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Octenidin (Markenname „Octenisept®“)</a:t>
              </a:r>
              <a:endParaRPr b="0" lang="en-US" sz="1600" spc="-1" strike="noStrike">
                <a:solidFill>
                  <a:srgbClr val="000000"/>
                </a:solidFill>
                <a:latin typeface="Times New Roman"/>
              </a:endParaRPr>
            </a:p>
            <a:p>
              <a:pPr marL="19044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ntiseptische Waschlotionen (Markenname z.B. „Stellisept Scrub® “)</a:t>
              </a:r>
              <a:endParaRPr b="0" lang="en-US" sz="1600" spc="-1" strike="noStrike">
                <a:solidFill>
                  <a:srgbClr val="000000"/>
                </a:solidFill>
                <a:latin typeface="Times New Roman"/>
              </a:endParaRPr>
            </a:p>
          </p:txBody>
        </p:sp>
        <p:sp>
          <p:nvSpPr>
            <p:cNvPr id="241" name=""/>
            <p:cNvSpPr/>
            <p:nvPr/>
          </p:nvSpPr>
          <p:spPr>
            <a:xfrm>
              <a:off x="479160" y="1751760"/>
              <a:ext cx="20354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anierungsmittel</a:t>
              </a:r>
              <a:endParaRPr b="0" lang="en-US" sz="1800" spc="-1" strike="noStrike">
                <a:solidFill>
                  <a:srgbClr val="000000"/>
                </a:solidFill>
                <a:latin typeface="Times New Roman"/>
              </a:endParaRPr>
            </a:p>
          </p:txBody>
        </p:sp>
      </p:grpSp>
      <p:sp>
        <p:nvSpPr>
          <p:cNvPr id="242" name=""/>
          <p:cNvSpPr/>
          <p:nvPr/>
        </p:nvSpPr>
        <p:spPr>
          <a:xfrm>
            <a:off x="496080" y="4076640"/>
            <a:ext cx="8285040" cy="21337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Durchführung</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estlegung der anzuwendenden Mittel und der Durchführungsmodalitäten ist Arztsach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cedere ist schriftlich festzulegen, die Durchführung gewissenhaft zu dokument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ypisch: 5 Tage Anwendung, mind. 2 Tage Pause, Abstriche von 3 verschiedenen</a:t>
            </a:r>
            <a:br>
              <a:rPr sz="1600"/>
            </a:br>
            <a:r>
              <a:rPr b="0" lang="de-DE" sz="1600" spc="-1" strike="noStrike">
                <a:solidFill>
                  <a:srgbClr val="000000"/>
                </a:solidFill>
                <a:latin typeface="Arial"/>
              </a:rPr>
              <a:t>Tagen zur Erstkontrolle, weitere Abstriche nach 6 Monaten zur Folgekontroll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ohner gilt als „vorerst MRSA-frei“ nach neg. Erstkontrolle und „dauerhaft MRSA-frei“</a:t>
            </a:r>
            <a:br>
              <a:rPr sz="1600"/>
            </a:br>
            <a:r>
              <a:rPr b="0" lang="de-DE" sz="1600" spc="-1" strike="noStrike">
                <a:solidFill>
                  <a:srgbClr val="000000"/>
                </a:solidFill>
                <a:latin typeface="Arial"/>
              </a:rPr>
              <a:t>nach neg. Folgekontrolle.</a:t>
            </a:r>
            <a:endParaRPr b="0" lang="en-US" sz="1600" spc="-1" strike="noStrike">
              <a:solidFill>
                <a:srgbClr val="000000"/>
              </a:solidFill>
              <a:latin typeface="Times New Roman"/>
            </a:endParaRPr>
          </a:p>
        </p:txBody>
      </p:sp>
    </p:spTree>
  </p:cSld>
  <p:transition>
    <p:zoom dir="out"/>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3" presetSubtype="5">
                                  <p:stCondLst>
                                    <p:cond delay="0"/>
                                  </p:stCondLst>
                                  <p:childTnLst>
                                    <p:set>
                                      <p:cBhvr>
                                        <p:cTn id="218" dur="1" fill="hold">
                                          <p:stCondLst>
                                            <p:cond delay="0"/>
                                          </p:stCondLst>
                                        </p:cTn>
                                        <p:tgtEl>
                                          <p:spTgt spid="239"/>
                                        </p:tgtEl>
                                        <p:attrNameLst>
                                          <p:attrName>style.visibility</p:attrName>
                                        </p:attrNameLst>
                                      </p:cBhvr>
                                      <p:to>
                                        <p:strVal val="visible"/>
                                      </p:to>
                                    </p:set>
                                    <p:animEffect filter="blinds(vertical)" transition="in">
                                      <p:cBhvr additive="repl">
                                        <p:cTn id="219" dur="500"/>
                                        <p:tgtEl>
                                          <p:spTgt spid="239"/>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 presetSubtype="5">
                                  <p:stCondLst>
                                    <p:cond delay="0"/>
                                  </p:stCondLst>
                                  <p:childTnLst>
                                    <p:set>
                                      <p:cBhvr>
                                        <p:cTn id="223" dur="1" fill="hold">
                                          <p:stCondLst>
                                            <p:cond delay="0"/>
                                          </p:stCondLst>
                                        </p:cTn>
                                        <p:tgtEl>
                                          <p:spTgt spid="242"/>
                                        </p:tgtEl>
                                        <p:attrNameLst>
                                          <p:attrName>style.visibility</p:attrName>
                                        </p:attrNameLst>
                                      </p:cBhvr>
                                      <p:to>
                                        <p:strVal val="visible"/>
                                      </p:to>
                                    </p:set>
                                    <p:animEffect filter="blinds(vertical)" transition="in">
                                      <p:cBhvr additive="repl">
                                        <p:cTn id="224"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nierung</a:t>
            </a:r>
            <a:endParaRPr b="0" lang="en-US" sz="2400" spc="-1" strike="noStrike">
              <a:solidFill>
                <a:srgbClr val="000000"/>
              </a:solidFill>
              <a:latin typeface="Times New Roman"/>
            </a:endParaRPr>
          </a:p>
        </p:txBody>
      </p:sp>
      <p:sp>
        <p:nvSpPr>
          <p:cNvPr id="24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45" name=""/>
          <p:cNvSpPr/>
          <p:nvPr/>
        </p:nvSpPr>
        <p:spPr>
          <a:xfrm>
            <a:off x="1452600" y="858960"/>
            <a:ext cx="643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Nicht jeder MRSA-positive Bewohner ist sanierungsfähig.</a:t>
            </a:r>
            <a:endParaRPr b="0" lang="en-US" sz="1800" spc="-1" strike="noStrike">
              <a:solidFill>
                <a:srgbClr val="000000"/>
              </a:solidFill>
              <a:latin typeface="Times New Roman"/>
            </a:endParaRPr>
          </a:p>
        </p:txBody>
      </p:sp>
      <p:grpSp>
        <p:nvGrpSpPr>
          <p:cNvPr id="246" name=""/>
          <p:cNvGrpSpPr/>
          <p:nvPr/>
        </p:nvGrpSpPr>
        <p:grpSpPr>
          <a:xfrm>
            <a:off x="0" y="1371600"/>
            <a:ext cx="9144000" cy="2867400"/>
            <a:chOff x="0" y="1371600"/>
            <a:chExt cx="9144000" cy="2867400"/>
          </a:xfrm>
        </p:grpSpPr>
        <p:sp>
          <p:nvSpPr>
            <p:cNvPr id="247" name=""/>
            <p:cNvSpPr/>
            <p:nvPr/>
          </p:nvSpPr>
          <p:spPr>
            <a:xfrm>
              <a:off x="457560" y="1982520"/>
              <a:ext cx="2818440" cy="1616040"/>
            </a:xfrm>
            <a:prstGeom prst="rect">
              <a:avLst/>
            </a:prstGeom>
            <a:noFill/>
            <a:ln w="0">
              <a:noFill/>
            </a:ln>
          </p:spPr>
          <p:style>
            <a:lnRef idx="0"/>
            <a:fillRef idx="0"/>
            <a:effectRef idx="0"/>
            <a:fontRef idx="minor"/>
          </p:style>
          <p:txBody>
            <a:bodyPr wrap="none" lIns="90000" rIns="90000" tIns="46800" bIns="46800" anchor="ctr">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uter A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invasiven Zugäng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chronischen Wun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eine Verschluck-Gefahr</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 Zt. keine Antibiose</a:t>
              </a:r>
              <a:endParaRPr b="0" lang="en-US" sz="1600" spc="-1" strike="noStrike">
                <a:solidFill>
                  <a:srgbClr val="000000"/>
                </a:solidFill>
                <a:latin typeface="Times New Roman"/>
              </a:endParaRPr>
            </a:p>
          </p:txBody>
        </p:sp>
        <p:sp>
          <p:nvSpPr>
            <p:cNvPr id="248" name=""/>
            <p:cNvSpPr/>
            <p:nvPr/>
          </p:nvSpPr>
          <p:spPr>
            <a:xfrm>
              <a:off x="5108400" y="1983600"/>
              <a:ext cx="3772440" cy="225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chlechter AZ</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wusstseinsstörun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lonisiertes Tracheostoma oder PEG</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lonisierte chronische Wund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erkrankungen  (z.B. Psoriasis)</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anierungsversager</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Zt. bestehende Antibiosetherapie</a:t>
              </a:r>
              <a:endParaRPr b="0" lang="en-US" sz="1600" spc="-1" strike="noStrike">
                <a:solidFill>
                  <a:srgbClr val="000000"/>
                </a:solidFill>
                <a:latin typeface="Times New Roman"/>
              </a:endParaRPr>
            </a:p>
          </p:txBody>
        </p:sp>
        <p:sp>
          <p:nvSpPr>
            <p:cNvPr id="249" name=""/>
            <p:cNvSpPr/>
            <p:nvPr/>
          </p:nvSpPr>
          <p:spPr>
            <a:xfrm>
              <a:off x="0" y="182880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648320" y="1371600"/>
              <a:ext cx="0" cy="2819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42080" y="1407960"/>
              <a:ext cx="386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anierung meist unproblematisch</a:t>
              </a:r>
              <a:endParaRPr b="0" lang="en-US" sz="1800" spc="-1" strike="noStrike">
                <a:solidFill>
                  <a:srgbClr val="000000"/>
                </a:solidFill>
                <a:latin typeface="Times New Roman"/>
              </a:endParaRPr>
            </a:p>
          </p:txBody>
        </p:sp>
        <p:sp>
          <p:nvSpPr>
            <p:cNvPr id="252" name=""/>
            <p:cNvSpPr/>
            <p:nvPr/>
          </p:nvSpPr>
          <p:spPr>
            <a:xfrm>
              <a:off x="5106600" y="1424160"/>
              <a:ext cx="358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anierung meist problematisch</a:t>
              </a:r>
              <a:endParaRPr b="0" lang="en-US" sz="1800" spc="-1" strike="noStrike">
                <a:solidFill>
                  <a:srgbClr val="000000"/>
                </a:solidFill>
                <a:latin typeface="Times New Roman"/>
              </a:endParaRPr>
            </a:p>
          </p:txBody>
        </p:sp>
      </p:grpSp>
      <p:sp>
        <p:nvSpPr>
          <p:cNvPr id="253" name=""/>
          <p:cNvSpPr/>
          <p:nvPr/>
        </p:nvSpPr>
        <p:spPr>
          <a:xfrm>
            <a:off x="475560" y="4191120"/>
            <a:ext cx="7221240" cy="13273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Mögliche Probleme</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RSA-Besiedelung trotz erfolgter Sanierung bzw. „Scheinsanier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spiration von anitseptischen Substanzen bei Anwendung in der Mundhöhl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reizungen und allergische Reaktionen</a:t>
            </a:r>
            <a:endParaRPr b="0" lang="en-US" sz="1600" spc="-1" strike="noStrike">
              <a:solidFill>
                <a:srgbClr val="000000"/>
              </a:solidFill>
              <a:latin typeface="Times New Roman"/>
            </a:endParaRPr>
          </a:p>
        </p:txBody>
      </p:sp>
      <p:sp>
        <p:nvSpPr>
          <p:cNvPr id="254" name=""/>
          <p:cNvSpPr/>
          <p:nvPr/>
        </p:nvSpPr>
        <p:spPr>
          <a:xfrm>
            <a:off x="451440" y="5877000"/>
            <a:ext cx="8660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Im Krankenhaus begonnene Sanierungen sollen im Heim beendet werde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cc0000"/>
                </a:solidFill>
                <a:latin typeface="Arial"/>
              </a:rPr>
              <a:t>Darüber hinaus ist die Sinnhaftigkeit einer Sanierung im Einzelfall abzuklären.</a:t>
            </a:r>
            <a:endParaRPr b="0" lang="en-US" sz="1800" spc="-1" strike="noStrike">
              <a:solidFill>
                <a:srgbClr val="000000"/>
              </a:solidFill>
              <a:latin typeface="Times New Roman"/>
            </a:endParaRPr>
          </a:p>
        </p:txBody>
      </p:sp>
    </p:spTree>
  </p:cSld>
  <p:transition>
    <p:zoom dir="out"/>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3" presetSubtype="5">
                                  <p:stCondLst>
                                    <p:cond delay="0"/>
                                  </p:stCondLst>
                                  <p:childTnLst>
                                    <p:set>
                                      <p:cBhvr>
                                        <p:cTn id="230" dur="1" fill="hold">
                                          <p:stCondLst>
                                            <p:cond delay="0"/>
                                          </p:stCondLst>
                                        </p:cTn>
                                        <p:tgtEl>
                                          <p:spTgt spid="246"/>
                                        </p:tgtEl>
                                        <p:attrNameLst>
                                          <p:attrName>style.visibility</p:attrName>
                                        </p:attrNameLst>
                                      </p:cBhvr>
                                      <p:to>
                                        <p:strVal val="visible"/>
                                      </p:to>
                                    </p:set>
                                    <p:animEffect filter="blinds(vertical)" transition="in">
                                      <p:cBhvr additive="repl">
                                        <p:cTn id="231" dur="500"/>
                                        <p:tgtEl>
                                          <p:spTgt spid="246"/>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5">
                                  <p:stCondLst>
                                    <p:cond delay="0"/>
                                  </p:stCondLst>
                                  <p:childTnLst>
                                    <p:set>
                                      <p:cBhvr>
                                        <p:cTn id="235" dur="1" fill="hold">
                                          <p:stCondLst>
                                            <p:cond delay="0"/>
                                          </p:stCondLst>
                                        </p:cTn>
                                        <p:tgtEl>
                                          <p:spTgt spid="253"/>
                                        </p:tgtEl>
                                        <p:attrNameLst>
                                          <p:attrName>style.visibility</p:attrName>
                                        </p:attrNameLst>
                                      </p:cBhvr>
                                      <p:to>
                                        <p:strVal val="visible"/>
                                      </p:to>
                                    </p:set>
                                    <p:animEffect filter="blinds(vertical)" transition="in">
                                      <p:cBhvr additive="repl">
                                        <p:cTn id="236" dur="500"/>
                                        <p:tgtEl>
                                          <p:spTgt spid="253"/>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5">
                                  <p:stCondLst>
                                    <p:cond delay="0"/>
                                  </p:stCondLst>
                                  <p:childTnLst>
                                    <p:set>
                                      <p:cBhvr>
                                        <p:cTn id="240" dur="1" fill="hold">
                                          <p:stCondLst>
                                            <p:cond delay="0"/>
                                          </p:stCondLst>
                                        </p:cTn>
                                        <p:tgtEl>
                                          <p:spTgt spid="254"/>
                                        </p:tgtEl>
                                        <p:attrNameLst>
                                          <p:attrName>style.visibility</p:attrName>
                                        </p:attrNameLst>
                                      </p:cBhvr>
                                      <p:to>
                                        <p:strVal val="visible"/>
                                      </p:to>
                                    </p:set>
                                    <p:animEffect filter="blinds(vertical)" transition="in">
                                      <p:cBhvr additive="repl">
                                        <p:cTn id="241"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äufige Irrtümer zu MRSA</a:t>
            </a:r>
            <a:endParaRPr b="0" lang="en-US" sz="2400" spc="-1" strike="noStrike">
              <a:solidFill>
                <a:srgbClr val="000000"/>
              </a:solidFill>
              <a:latin typeface="Times New Roman"/>
            </a:endParaRPr>
          </a:p>
        </p:txBody>
      </p:sp>
      <p:sp>
        <p:nvSpPr>
          <p:cNvPr id="256"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pic>
        <p:nvPicPr>
          <p:cNvPr id="257" name="" descr=""/>
          <p:cNvPicPr/>
          <p:nvPr/>
        </p:nvPicPr>
        <p:blipFill>
          <a:blip r:embed="rId1"/>
          <a:stretch/>
        </p:blipFill>
        <p:spPr>
          <a:xfrm>
            <a:off x="4230720" y="1447920"/>
            <a:ext cx="4913280" cy="5105160"/>
          </a:xfrm>
          <a:prstGeom prst="rect">
            <a:avLst/>
          </a:prstGeom>
          <a:ln w="0">
            <a:noFill/>
          </a:ln>
        </p:spPr>
      </p:pic>
      <p:pic>
        <p:nvPicPr>
          <p:cNvPr id="258" name="" descr=""/>
          <p:cNvPicPr/>
          <p:nvPr/>
        </p:nvPicPr>
        <p:blipFill>
          <a:blip r:embed="rId2"/>
          <a:stretch/>
        </p:blipFill>
        <p:spPr>
          <a:xfrm>
            <a:off x="0" y="1752480"/>
            <a:ext cx="4281480" cy="4875480"/>
          </a:xfrm>
          <a:prstGeom prst="rect">
            <a:avLst/>
          </a:prstGeom>
          <a:ln w="0">
            <a:noFill/>
          </a:ln>
        </p:spPr>
      </p:pic>
      <p:sp>
        <p:nvSpPr>
          <p:cNvPr id="259" name=""/>
          <p:cNvSpPr/>
          <p:nvPr/>
        </p:nvSpPr>
        <p:spPr>
          <a:xfrm>
            <a:off x="287640" y="1171440"/>
            <a:ext cx="3551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Heutzutage haben mehr als 20% der</a:t>
            </a:r>
            <a:br>
              <a:rPr sz="1600"/>
            </a:br>
            <a:r>
              <a:rPr b="0" lang="en-US" sz="1600" spc="-1" strike="noStrike">
                <a:solidFill>
                  <a:srgbClr val="336600"/>
                </a:solidFill>
                <a:latin typeface="Arial"/>
              </a:rPr>
              <a:t>Allgemeinbevölkerung MRSA“</a:t>
            </a:r>
            <a:endParaRPr b="0" lang="en-US" sz="1600" spc="-1" strike="noStrike">
              <a:solidFill>
                <a:srgbClr val="000000"/>
              </a:solidFill>
              <a:latin typeface="Times New Roman"/>
            </a:endParaRPr>
          </a:p>
        </p:txBody>
      </p:sp>
      <p:sp>
        <p:nvSpPr>
          <p:cNvPr id="260" name=""/>
          <p:cNvSpPr/>
          <p:nvPr/>
        </p:nvSpPr>
        <p:spPr>
          <a:xfrm>
            <a:off x="282600" y="2009880"/>
            <a:ext cx="3755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MRSA-Träger sollten im Heim nicht am Gemeinschaftsleben teilnehmen.“</a:t>
            </a:r>
            <a:endParaRPr b="0" lang="en-US" sz="1600" spc="-1" strike="noStrike">
              <a:solidFill>
                <a:srgbClr val="000000"/>
              </a:solidFill>
              <a:latin typeface="Times New Roman"/>
            </a:endParaRPr>
          </a:p>
        </p:txBody>
      </p:sp>
      <p:sp>
        <p:nvSpPr>
          <p:cNvPr id="261" name=""/>
          <p:cNvSpPr/>
          <p:nvPr/>
        </p:nvSpPr>
        <p:spPr>
          <a:xfrm>
            <a:off x="282600" y="3137040"/>
            <a:ext cx="4060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Bei MRSA-Trägern sollten regelmäßig Kontrollabstriche durchgeführt werden.“</a:t>
            </a:r>
            <a:endParaRPr b="0" lang="en-US" sz="1600" spc="-1" strike="noStrike">
              <a:solidFill>
                <a:srgbClr val="000000"/>
              </a:solidFill>
              <a:latin typeface="Times New Roman"/>
            </a:endParaRPr>
          </a:p>
        </p:txBody>
      </p:sp>
      <p:sp>
        <p:nvSpPr>
          <p:cNvPr id="262" name=""/>
          <p:cNvSpPr/>
          <p:nvPr/>
        </p:nvSpPr>
        <p:spPr>
          <a:xfrm>
            <a:off x="282600" y="4191120"/>
            <a:ext cx="383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Jede Pflegekraft ist im hohen Maße gefährdet selbst MRSA-Träger zu werden.“</a:t>
            </a:r>
            <a:endParaRPr b="0" lang="en-US" sz="1600" spc="-1" strike="noStrike">
              <a:solidFill>
                <a:srgbClr val="000000"/>
              </a:solidFill>
              <a:latin typeface="Times New Roman"/>
            </a:endParaRPr>
          </a:p>
        </p:txBody>
      </p:sp>
      <p:sp>
        <p:nvSpPr>
          <p:cNvPr id="263" name=""/>
          <p:cNvSpPr/>
          <p:nvPr/>
        </p:nvSpPr>
        <p:spPr>
          <a:xfrm>
            <a:off x="4626000" y="1143000"/>
            <a:ext cx="4213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990033"/>
                </a:solidFill>
                <a:latin typeface="Arial"/>
              </a:rPr>
              <a:t>„</a:t>
            </a:r>
            <a:r>
              <a:rPr b="0" lang="de-DE" sz="1600" spc="-1" strike="noStrike">
                <a:solidFill>
                  <a:srgbClr val="990033"/>
                </a:solidFill>
                <a:latin typeface="Arial"/>
              </a:rPr>
              <a:t>Es stimmt, dass ca. 20% Staphylococcus aureus-Träger sind, was aber nicht gleichbedeutend mit MRSA ist.“</a:t>
            </a:r>
            <a:endParaRPr b="0" lang="en-US" sz="1600" spc="-1" strike="noStrike">
              <a:solidFill>
                <a:srgbClr val="000000"/>
              </a:solidFill>
              <a:latin typeface="Times New Roman"/>
            </a:endParaRPr>
          </a:p>
        </p:txBody>
      </p:sp>
      <p:sp>
        <p:nvSpPr>
          <p:cNvPr id="264" name=""/>
          <p:cNvSpPr/>
          <p:nvPr/>
        </p:nvSpPr>
        <p:spPr>
          <a:xfrm>
            <a:off x="4626000" y="1981080"/>
            <a:ext cx="444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Schon auf Grund des Heimvertrages kann die Teilnahme nicht einfach versagt werden. Über-tragen wird vor allem durch pflegerische und weniger durch gesellschaftliche Kontakte.</a:t>
            </a:r>
            <a:endParaRPr b="0" lang="en-US" sz="1600" spc="-1" strike="noStrike">
              <a:solidFill>
                <a:srgbClr val="000000"/>
              </a:solidFill>
              <a:latin typeface="Times New Roman"/>
            </a:endParaRPr>
          </a:p>
        </p:txBody>
      </p:sp>
      <p:sp>
        <p:nvSpPr>
          <p:cNvPr id="265" name=""/>
          <p:cNvSpPr/>
          <p:nvPr/>
        </p:nvSpPr>
        <p:spPr>
          <a:xfrm>
            <a:off x="4626000" y="3092400"/>
            <a:ext cx="4365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Bringt keinen Informationsgewinn. Wenn sich ein Bewohner als MRSA-Träger erwiesen hat ist nicht anzunehmen, dass er diesen Status ohne eine Sanierung verliert“.</a:t>
            </a:r>
            <a:endParaRPr b="0" lang="en-US" sz="1600" spc="-1" strike="noStrike">
              <a:solidFill>
                <a:srgbClr val="000000"/>
              </a:solidFill>
              <a:latin typeface="Times New Roman"/>
            </a:endParaRPr>
          </a:p>
        </p:txBody>
      </p:sp>
      <p:sp>
        <p:nvSpPr>
          <p:cNvPr id="266" name=""/>
          <p:cNvSpPr/>
          <p:nvPr/>
        </p:nvSpPr>
        <p:spPr>
          <a:xfrm>
            <a:off x="4626000" y="4191120"/>
            <a:ext cx="451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Ein Unterschied zur Allgemeinbevölkerung ist vorhanden aber gering. Maßgeblich ist der indikationsgerechte Gebrauch von PSA.“</a:t>
            </a:r>
            <a:endParaRPr b="0" lang="en-US" sz="1600" spc="-1" strike="noStrike">
              <a:solidFill>
                <a:srgbClr val="000000"/>
              </a:solidFill>
              <a:latin typeface="Times New Roman"/>
            </a:endParaRPr>
          </a:p>
        </p:txBody>
      </p:sp>
      <p:sp>
        <p:nvSpPr>
          <p:cNvPr id="267" name=""/>
          <p:cNvSpPr/>
          <p:nvPr/>
        </p:nvSpPr>
        <p:spPr>
          <a:xfrm>
            <a:off x="282600" y="5105520"/>
            <a:ext cx="3832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00"/>
                </a:solidFill>
                <a:latin typeface="Arial"/>
              </a:rPr>
              <a:t>„</a:t>
            </a:r>
            <a:r>
              <a:rPr b="0" lang="en-US" sz="1600" spc="-1" strike="noStrike">
                <a:solidFill>
                  <a:srgbClr val="336600"/>
                </a:solidFill>
                <a:latin typeface="Arial"/>
              </a:rPr>
              <a:t>Durch meinen Umgang mit MRSA-positiven Bewohnern gefährde ich meine Kinder und weitere Angehörige.“</a:t>
            </a:r>
            <a:endParaRPr b="0" lang="en-US" sz="1600" spc="-1" strike="noStrike">
              <a:solidFill>
                <a:srgbClr val="000000"/>
              </a:solidFill>
              <a:latin typeface="Times New Roman"/>
            </a:endParaRPr>
          </a:p>
        </p:txBody>
      </p:sp>
      <p:sp>
        <p:nvSpPr>
          <p:cNvPr id="268" name=""/>
          <p:cNvSpPr/>
          <p:nvPr/>
        </p:nvSpPr>
        <p:spPr>
          <a:xfrm>
            <a:off x="4626000" y="5029200"/>
            <a:ext cx="4670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33"/>
                </a:solidFill>
                <a:latin typeface="Arial"/>
              </a:rPr>
              <a:t>„</a:t>
            </a:r>
            <a:r>
              <a:rPr b="0" lang="en-US" sz="1600" spc="-1" strike="noStrike">
                <a:solidFill>
                  <a:srgbClr val="990033"/>
                </a:solidFill>
                <a:latin typeface="Arial"/>
              </a:rPr>
              <a:t>Normalerweise nicht. Eine Gefährdung wäre denkbar, wenn man selbst MRSA-Träger ist und risikobehaftete Angehörige betreut. Kinder gehören normalerweise nicht dazu.“</a:t>
            </a:r>
            <a:endParaRPr b="0" lang="en-US" sz="1600" spc="-1" strike="noStrike">
              <a:solidFill>
                <a:srgbClr val="000000"/>
              </a:solidFill>
              <a:latin typeface="Times New Roman"/>
            </a:endParaRPr>
          </a:p>
        </p:txBody>
      </p:sp>
    </p:spTree>
  </p:cSld>
  <p:transition>
    <p:zoom dir="out"/>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259"/>
                                        </p:tgtEl>
                                        <p:attrNameLst>
                                          <p:attrName>style.visibility</p:attrName>
                                        </p:attrNameLst>
                                      </p:cBhvr>
                                      <p:to>
                                        <p:strVal val="visible"/>
                                      </p:to>
                                    </p:set>
                                    <p:anim calcmode="lin" valueType="num">
                                      <p:cBhvr additive="base">
                                        <p:cTn id="248" dur="500" fill="hold"/>
                                        <p:tgtEl>
                                          <p:spTgt spid="259"/>
                                        </p:tgtEl>
                                        <p:attrNameLst>
                                          <p:attrName>ppt_x</p:attrName>
                                        </p:attrNameLst>
                                      </p:cBhvr>
                                      <p:tavLst>
                                        <p:tav tm="0">
                                          <p:val>
                                            <p:strVal val="0-#ppt_w/2"/>
                                          </p:val>
                                        </p:tav>
                                        <p:tav tm="100000">
                                          <p:val>
                                            <p:strVal val="#ppt_x"/>
                                          </p:val>
                                        </p:tav>
                                      </p:tavLst>
                                    </p:anim>
                                    <p:anim calcmode="lin" valueType="num">
                                      <p:cBhvr additive="base">
                                        <p:cTn id="249"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2">
                                  <p:stCondLst>
                                    <p:cond delay="0"/>
                                  </p:stCondLst>
                                  <p:childTnLst>
                                    <p:set>
                                      <p:cBhvr>
                                        <p:cTn id="253" dur="1" fill="hold">
                                          <p:stCondLst>
                                            <p:cond delay="0"/>
                                          </p:stCondLst>
                                        </p:cTn>
                                        <p:tgtEl>
                                          <p:spTgt spid="263"/>
                                        </p:tgtEl>
                                        <p:attrNameLst>
                                          <p:attrName>style.visibility</p:attrName>
                                        </p:attrNameLst>
                                      </p:cBhvr>
                                      <p:to>
                                        <p:strVal val="visible"/>
                                      </p:to>
                                    </p:set>
                                    <p:anim calcmode="lin" valueType="num">
                                      <p:cBhvr additive="base">
                                        <p:cTn id="254" dur="500" fill="hold"/>
                                        <p:tgtEl>
                                          <p:spTgt spid="263"/>
                                        </p:tgtEl>
                                        <p:attrNameLst>
                                          <p:attrName>ppt_x</p:attrName>
                                        </p:attrNameLst>
                                      </p:cBhvr>
                                      <p:tavLst>
                                        <p:tav tm="0">
                                          <p:val>
                                            <p:strVal val="1+#ppt_w/2"/>
                                          </p:val>
                                        </p:tav>
                                        <p:tav tm="100000">
                                          <p:val>
                                            <p:strVal val="#ppt_x"/>
                                          </p:val>
                                        </p:tav>
                                      </p:tavLst>
                                    </p:anim>
                                    <p:anim calcmode="lin" valueType="num">
                                      <p:cBhvr additive="base">
                                        <p:cTn id="255"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260"/>
                                        </p:tgtEl>
                                        <p:attrNameLst>
                                          <p:attrName>style.visibility</p:attrName>
                                        </p:attrNameLst>
                                      </p:cBhvr>
                                      <p:to>
                                        <p:strVal val="visible"/>
                                      </p:to>
                                    </p:set>
                                    <p:anim calcmode="lin" valueType="num">
                                      <p:cBhvr additive="base">
                                        <p:cTn id="260" dur="500" fill="hold"/>
                                        <p:tgtEl>
                                          <p:spTgt spid="260"/>
                                        </p:tgtEl>
                                        <p:attrNameLst>
                                          <p:attrName>ppt_x</p:attrName>
                                        </p:attrNameLst>
                                      </p:cBhvr>
                                      <p:tavLst>
                                        <p:tav tm="0">
                                          <p:val>
                                            <p:strVal val="0-#ppt_w/2"/>
                                          </p:val>
                                        </p:tav>
                                        <p:tav tm="100000">
                                          <p:val>
                                            <p:strVal val="#ppt_x"/>
                                          </p:val>
                                        </p:tav>
                                      </p:tavLst>
                                    </p:anim>
                                    <p:anim calcmode="lin" valueType="num">
                                      <p:cBhvr additive="base">
                                        <p:cTn id="261"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2">
                                  <p:stCondLst>
                                    <p:cond delay="0"/>
                                  </p:stCondLst>
                                  <p:childTnLst>
                                    <p:set>
                                      <p:cBhvr>
                                        <p:cTn id="265" dur="1" fill="hold">
                                          <p:stCondLst>
                                            <p:cond delay="0"/>
                                          </p:stCondLst>
                                        </p:cTn>
                                        <p:tgtEl>
                                          <p:spTgt spid="264"/>
                                        </p:tgtEl>
                                        <p:attrNameLst>
                                          <p:attrName>style.visibility</p:attrName>
                                        </p:attrNameLst>
                                      </p:cBhvr>
                                      <p:to>
                                        <p:strVal val="visible"/>
                                      </p:to>
                                    </p:set>
                                    <p:anim calcmode="lin" valueType="num">
                                      <p:cBhvr additive="base">
                                        <p:cTn id="266" dur="500" fill="hold"/>
                                        <p:tgtEl>
                                          <p:spTgt spid="264"/>
                                        </p:tgtEl>
                                        <p:attrNameLst>
                                          <p:attrName>ppt_x</p:attrName>
                                        </p:attrNameLst>
                                      </p:cBhvr>
                                      <p:tavLst>
                                        <p:tav tm="0">
                                          <p:val>
                                            <p:strVal val="1+#ppt_w/2"/>
                                          </p:val>
                                        </p:tav>
                                        <p:tav tm="100000">
                                          <p:val>
                                            <p:strVal val="#ppt_x"/>
                                          </p:val>
                                        </p:tav>
                                      </p:tavLst>
                                    </p:anim>
                                    <p:anim calcmode="lin" valueType="num">
                                      <p:cBhvr additive="base">
                                        <p:cTn id="26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261"/>
                                        </p:tgtEl>
                                        <p:attrNameLst>
                                          <p:attrName>style.visibility</p:attrName>
                                        </p:attrNameLst>
                                      </p:cBhvr>
                                      <p:to>
                                        <p:strVal val="visible"/>
                                      </p:to>
                                    </p:set>
                                    <p:anim calcmode="lin" valueType="num">
                                      <p:cBhvr additive="base">
                                        <p:cTn id="272" dur="500" fill="hold"/>
                                        <p:tgtEl>
                                          <p:spTgt spid="261"/>
                                        </p:tgtEl>
                                        <p:attrNameLst>
                                          <p:attrName>ppt_x</p:attrName>
                                        </p:attrNameLst>
                                      </p:cBhvr>
                                      <p:tavLst>
                                        <p:tav tm="0">
                                          <p:val>
                                            <p:strVal val="0-#ppt_w/2"/>
                                          </p:val>
                                        </p:tav>
                                        <p:tav tm="100000">
                                          <p:val>
                                            <p:strVal val="#ppt_x"/>
                                          </p:val>
                                        </p:tav>
                                      </p:tavLst>
                                    </p:anim>
                                    <p:anim calcmode="lin" valueType="num">
                                      <p:cBhvr additive="base">
                                        <p:cTn id="273"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2">
                                  <p:stCondLst>
                                    <p:cond delay="0"/>
                                  </p:stCondLst>
                                  <p:childTnLst>
                                    <p:set>
                                      <p:cBhvr>
                                        <p:cTn id="277" dur="1" fill="hold">
                                          <p:stCondLst>
                                            <p:cond delay="0"/>
                                          </p:stCondLst>
                                        </p:cTn>
                                        <p:tgtEl>
                                          <p:spTgt spid="265"/>
                                        </p:tgtEl>
                                        <p:attrNameLst>
                                          <p:attrName>style.visibility</p:attrName>
                                        </p:attrNameLst>
                                      </p:cBhvr>
                                      <p:to>
                                        <p:strVal val="visible"/>
                                      </p:to>
                                    </p:set>
                                    <p:anim calcmode="lin" valueType="num">
                                      <p:cBhvr additive="base">
                                        <p:cTn id="278" dur="500" fill="hold"/>
                                        <p:tgtEl>
                                          <p:spTgt spid="265"/>
                                        </p:tgtEl>
                                        <p:attrNameLst>
                                          <p:attrName>ppt_x</p:attrName>
                                        </p:attrNameLst>
                                      </p:cBhvr>
                                      <p:tavLst>
                                        <p:tav tm="0">
                                          <p:val>
                                            <p:strVal val="1+#ppt_w/2"/>
                                          </p:val>
                                        </p:tav>
                                        <p:tav tm="100000">
                                          <p:val>
                                            <p:strVal val="#ppt_x"/>
                                          </p:val>
                                        </p:tav>
                                      </p:tavLst>
                                    </p:anim>
                                    <p:anim calcmode="lin" valueType="num">
                                      <p:cBhvr additive="base">
                                        <p:cTn id="279"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262"/>
                                        </p:tgtEl>
                                        <p:attrNameLst>
                                          <p:attrName>style.visibility</p:attrName>
                                        </p:attrNameLst>
                                      </p:cBhvr>
                                      <p:to>
                                        <p:strVal val="visible"/>
                                      </p:to>
                                    </p:set>
                                    <p:anim calcmode="lin" valueType="num">
                                      <p:cBhvr additive="base">
                                        <p:cTn id="284" dur="500" fill="hold"/>
                                        <p:tgtEl>
                                          <p:spTgt spid="262"/>
                                        </p:tgtEl>
                                        <p:attrNameLst>
                                          <p:attrName>ppt_x</p:attrName>
                                        </p:attrNameLst>
                                      </p:cBhvr>
                                      <p:tavLst>
                                        <p:tav tm="0">
                                          <p:val>
                                            <p:strVal val="0-#ppt_w/2"/>
                                          </p:val>
                                        </p:tav>
                                        <p:tav tm="100000">
                                          <p:val>
                                            <p:strVal val="#ppt_x"/>
                                          </p:val>
                                        </p:tav>
                                      </p:tavLst>
                                    </p:anim>
                                    <p:anim calcmode="lin" valueType="num">
                                      <p:cBhvr additive="base">
                                        <p:cTn id="285"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2">
                                  <p:stCondLst>
                                    <p:cond delay="0"/>
                                  </p:stCondLst>
                                  <p:childTnLst>
                                    <p:set>
                                      <p:cBhvr>
                                        <p:cTn id="289" dur="1" fill="hold">
                                          <p:stCondLst>
                                            <p:cond delay="0"/>
                                          </p:stCondLst>
                                        </p:cTn>
                                        <p:tgtEl>
                                          <p:spTgt spid="266"/>
                                        </p:tgtEl>
                                        <p:attrNameLst>
                                          <p:attrName>style.visibility</p:attrName>
                                        </p:attrNameLst>
                                      </p:cBhvr>
                                      <p:to>
                                        <p:strVal val="visible"/>
                                      </p:to>
                                    </p:set>
                                    <p:anim calcmode="lin" valueType="num">
                                      <p:cBhvr additive="base">
                                        <p:cTn id="290" dur="500" fill="hold"/>
                                        <p:tgtEl>
                                          <p:spTgt spid="266"/>
                                        </p:tgtEl>
                                        <p:attrNameLst>
                                          <p:attrName>ppt_x</p:attrName>
                                        </p:attrNameLst>
                                      </p:cBhvr>
                                      <p:tavLst>
                                        <p:tav tm="0">
                                          <p:val>
                                            <p:strVal val="1+#ppt_w/2"/>
                                          </p:val>
                                        </p:tav>
                                        <p:tav tm="100000">
                                          <p:val>
                                            <p:strVal val="#ppt_x"/>
                                          </p:val>
                                        </p:tav>
                                      </p:tavLst>
                                    </p:anim>
                                    <p:anim calcmode="lin" valueType="num">
                                      <p:cBhvr additive="base">
                                        <p:cTn id="291"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267"/>
                                        </p:tgtEl>
                                        <p:attrNameLst>
                                          <p:attrName>style.visibility</p:attrName>
                                        </p:attrNameLst>
                                      </p:cBhvr>
                                      <p:to>
                                        <p:strVal val="visible"/>
                                      </p:to>
                                    </p:set>
                                    <p:anim calcmode="lin" valueType="num">
                                      <p:cBhvr additive="base">
                                        <p:cTn id="296" dur="500" fill="hold"/>
                                        <p:tgtEl>
                                          <p:spTgt spid="267"/>
                                        </p:tgtEl>
                                        <p:attrNameLst>
                                          <p:attrName>ppt_x</p:attrName>
                                        </p:attrNameLst>
                                      </p:cBhvr>
                                      <p:tavLst>
                                        <p:tav tm="0">
                                          <p:val>
                                            <p:strVal val="0-#ppt_w/2"/>
                                          </p:val>
                                        </p:tav>
                                        <p:tav tm="100000">
                                          <p:val>
                                            <p:strVal val="#ppt_x"/>
                                          </p:val>
                                        </p:tav>
                                      </p:tavLst>
                                    </p:anim>
                                    <p:anim calcmode="lin" valueType="num">
                                      <p:cBhvr additive="base">
                                        <p:cTn id="297"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2">
                                  <p:stCondLst>
                                    <p:cond delay="0"/>
                                  </p:stCondLst>
                                  <p:childTnLst>
                                    <p:set>
                                      <p:cBhvr>
                                        <p:cTn id="301" dur="1" fill="hold">
                                          <p:stCondLst>
                                            <p:cond delay="0"/>
                                          </p:stCondLst>
                                        </p:cTn>
                                        <p:tgtEl>
                                          <p:spTgt spid="268"/>
                                        </p:tgtEl>
                                        <p:attrNameLst>
                                          <p:attrName>style.visibility</p:attrName>
                                        </p:attrNameLst>
                                      </p:cBhvr>
                                      <p:to>
                                        <p:strVal val="visible"/>
                                      </p:to>
                                    </p:set>
                                    <p:anim calcmode="lin" valueType="num">
                                      <p:cBhvr additive="base">
                                        <p:cTn id="302" dur="500" fill="hold"/>
                                        <p:tgtEl>
                                          <p:spTgt spid="268"/>
                                        </p:tgtEl>
                                        <p:attrNameLst>
                                          <p:attrName>ppt_x</p:attrName>
                                        </p:attrNameLst>
                                      </p:cBhvr>
                                      <p:tavLst>
                                        <p:tav tm="0">
                                          <p:val>
                                            <p:strVal val="1+#ppt_w/2"/>
                                          </p:val>
                                        </p:tav>
                                        <p:tav tm="100000">
                                          <p:val>
                                            <p:strVal val="#ppt_x"/>
                                          </p:val>
                                        </p:tav>
                                      </p:tavLst>
                                    </p:anim>
                                    <p:anim calcmode="lin" valueType="num">
                                      <p:cBhvr additive="base">
                                        <p:cTn id="303"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deutung der Flora</a:t>
            </a:r>
            <a:endParaRPr b="0" lang="en-US" sz="2400" spc="-1" strike="noStrike">
              <a:solidFill>
                <a:srgbClr val="000000"/>
              </a:solidFill>
              <a:latin typeface="Times New Roman"/>
            </a:endParaRPr>
          </a:p>
        </p:txBody>
      </p:sp>
      <p:sp>
        <p:nvSpPr>
          <p:cNvPr id="53" name=""/>
          <p:cNvSpPr/>
          <p:nvPr/>
        </p:nvSpPr>
        <p:spPr>
          <a:xfrm>
            <a:off x="192960" y="3124080"/>
            <a:ext cx="5287320" cy="26204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Floraanteile können infizieren</a:t>
            </a:r>
            <a:endParaRPr b="0" lang="en-US" sz="18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sie an Orte verschleppt werden, wo sie nicht</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hingehören (z.B. Katheterisierung)</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sie sich in ihrer natürlichen Zusammensetzung</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verändern (z.B. auf Grund von Medikamenten)</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das Immunsystem der betreffenden Person nicht</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intakt ist (z.B. als Folge einer Krebstherapie)</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nn künstliche Eintrittspforten vorhanden sind</a:t>
            </a:r>
            <a:endParaRPr b="0" lang="en-US" sz="1600" spc="-1" strike="noStrike">
              <a:solidFill>
                <a:srgbClr val="000000"/>
              </a:solidFill>
              <a:latin typeface="Times New Roman"/>
            </a:endParaRPr>
          </a:p>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z.B. Tracheostoma)</a:t>
            </a:r>
            <a:endParaRPr b="0" lang="en-US" sz="1600" spc="-1" strike="noStrike">
              <a:solidFill>
                <a:srgbClr val="000000"/>
              </a:solidFill>
              <a:latin typeface="Times New Roman"/>
            </a:endParaRPr>
          </a:p>
        </p:txBody>
      </p:sp>
      <p:grpSp>
        <p:nvGrpSpPr>
          <p:cNvPr id="54" name=""/>
          <p:cNvGrpSpPr/>
          <p:nvPr/>
        </p:nvGrpSpPr>
        <p:grpSpPr>
          <a:xfrm>
            <a:off x="5257800" y="3505320"/>
            <a:ext cx="3582000" cy="2160360"/>
            <a:chOff x="5257800" y="3505320"/>
            <a:chExt cx="3582000" cy="2160360"/>
          </a:xfrm>
        </p:grpSpPr>
        <p:sp>
          <p:nvSpPr>
            <p:cNvPr id="55" name=""/>
            <p:cNvSpPr/>
            <p:nvPr/>
          </p:nvSpPr>
          <p:spPr>
            <a:xfrm>
              <a:off x="5257800" y="3505320"/>
              <a:ext cx="647640" cy="2160360"/>
            </a:xfrm>
            <a:custGeom>
              <a:avLst/>
              <a:gdLst>
                <a:gd name="textAreaLeft" fmla="*/ 0 w 647640"/>
                <a:gd name="textAreaRight" fmla="*/ 234000 w 647640"/>
                <a:gd name="textAreaTop" fmla="*/ 56160 h 2160360"/>
                <a:gd name="textAreaBottom" fmla="*/ 2104200 h 216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07320" y="3692160"/>
              <a:ext cx="2832480" cy="1797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äufige Sachverhal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i alten und pflegeab-</a:t>
              </a:r>
              <a:br>
                <a:rPr sz="1600"/>
              </a:br>
              <a:r>
                <a:rPr b="0" lang="en-US" sz="1600" spc="-1" strike="noStrike">
                  <a:solidFill>
                    <a:srgbClr val="000000"/>
                  </a:solidFill>
                  <a:latin typeface="Arial"/>
                </a:rPr>
                <a:t>hängigen Mensc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 Flora dieser Person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icht daher oft nicht</a:t>
              </a:r>
              <a:br>
                <a:rPr sz="1600"/>
              </a:br>
              <a:r>
                <a:rPr b="0" lang="en-US" sz="1600" spc="-1" strike="noStrike">
                  <a:solidFill>
                    <a:srgbClr val="000000"/>
                  </a:solidFill>
                  <a:latin typeface="Arial"/>
                </a:rPr>
                <a:t>der natürlichen Residentflora.</a:t>
              </a:r>
              <a:endParaRPr b="0" lang="en-US" sz="1600" spc="-1" strike="noStrike">
                <a:solidFill>
                  <a:srgbClr val="000000"/>
                </a:solidFill>
                <a:latin typeface="Times New Roman"/>
              </a:endParaRPr>
            </a:p>
          </p:txBody>
        </p:sp>
      </p:grpSp>
      <p:sp>
        <p:nvSpPr>
          <p:cNvPr id="57" name=""/>
          <p:cNvSpPr/>
          <p:nvPr/>
        </p:nvSpPr>
        <p:spPr>
          <a:xfrm>
            <a:off x="171360" y="1981080"/>
            <a:ext cx="8640360" cy="10076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Unterscheidung</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sidentflora = die natürlicherweise vorhandenen Mikroorganismen. </a:t>
            </a:r>
            <a:endParaRPr b="0" lang="en-US" sz="1600" spc="-1" strike="noStrike">
              <a:solidFill>
                <a:srgbClr val="000000"/>
              </a:solidFill>
              <a:latin typeface="Times New Roman"/>
            </a:endParaRPr>
          </a:p>
          <a:p>
            <a:pPr marL="187200" indent="-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ransientflora = eine in ihrer arten- &amp; mengenmäßigen Zusammensetzung veränderte Flora.</a:t>
            </a:r>
            <a:endParaRPr b="0" lang="en-US" sz="1600" spc="-1" strike="noStrike">
              <a:solidFill>
                <a:srgbClr val="000000"/>
              </a:solidFill>
              <a:latin typeface="Times New Roman"/>
            </a:endParaRPr>
          </a:p>
        </p:txBody>
      </p:sp>
      <p:sp>
        <p:nvSpPr>
          <p:cNvPr id="58" name=""/>
          <p:cNvSpPr/>
          <p:nvPr/>
        </p:nvSpPr>
        <p:spPr>
          <a:xfrm>
            <a:off x="159480" y="896760"/>
            <a:ext cx="8523000" cy="100764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Begriffsdeutung</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 Flora bezeichnet man die natürlicherweise vorhandene Keimbesiedelung des Körper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ne Flora ist auf der Haut, im Nasen-Rachenraum, im Darm und in der Vagina vorhanden.</a:t>
            </a:r>
            <a:endParaRPr b="0" lang="en-US" sz="1600" spc="-1" strike="noStrike">
              <a:solidFill>
                <a:srgbClr val="000000"/>
              </a:solidFill>
              <a:latin typeface="Times New Roman"/>
            </a:endParaRPr>
          </a:p>
        </p:txBody>
      </p:sp>
      <p:sp>
        <p:nvSpPr>
          <p:cNvPr id="59" name=""/>
          <p:cNvSpPr/>
          <p:nvPr/>
        </p:nvSpPr>
        <p:spPr>
          <a:xfrm>
            <a:off x="152280" y="5791320"/>
            <a:ext cx="9144000" cy="9003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fektionen können durch eigene und durch fremde Floraanteile verursacht 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ögliche Verursacher sind Bakterien wie Staphylococcus aureus, Pseudomonas aeruginosa</a:t>
            </a:r>
            <a:br>
              <a:rPr sz="1600"/>
            </a:br>
            <a:r>
              <a:rPr b="0" lang="de-DE" sz="1600" spc="-1" strike="noStrike">
                <a:solidFill>
                  <a:srgbClr val="000000"/>
                </a:solidFill>
                <a:latin typeface="Arial"/>
              </a:rPr>
              <a:t>oder Escherischia coli.</a:t>
            </a:r>
            <a:endParaRPr b="0" lang="en-US" sz="1600" spc="-1" strike="noStrike">
              <a:solidFill>
                <a:srgbClr val="000000"/>
              </a:solidFill>
              <a:latin typeface="Times New Roman"/>
            </a:endParaRPr>
          </a:p>
        </p:txBody>
      </p:sp>
      <p:sp>
        <p:nvSpPr>
          <p:cNvPr id="6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57"/>
                                        </p:tgtEl>
                                        <p:attrNameLst>
                                          <p:attrName>style.visibility</p:attrName>
                                        </p:attrNameLst>
                                      </p:cBhvr>
                                      <p:to>
                                        <p:strVal val="visible"/>
                                      </p:to>
                                    </p:set>
                                    <p:animEffect filter="blinds(vertical)" transition="in">
                                      <p:cBhvr additive="repl">
                                        <p:cTn id="7" dur="500"/>
                                        <p:tgtEl>
                                          <p:spTgt spid="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5">
                                  <p:stCondLst>
                                    <p:cond delay="0"/>
                                  </p:stCondLst>
                                  <p:childTnLst>
                                    <p:set>
                                      <p:cBhvr>
                                        <p:cTn id="11" dur="1" fill="hold">
                                          <p:stCondLst>
                                            <p:cond delay="0"/>
                                          </p:stCondLst>
                                        </p:cTn>
                                        <p:tgtEl>
                                          <p:spTgt spid="53"/>
                                        </p:tgtEl>
                                        <p:attrNameLst>
                                          <p:attrName>style.visibility</p:attrName>
                                        </p:attrNameLst>
                                      </p:cBhvr>
                                      <p:to>
                                        <p:strVal val="visible"/>
                                      </p:to>
                                    </p:set>
                                    <p:animEffect filter="blinds(vertical)" transition="in">
                                      <p:cBhvr additive="repl">
                                        <p:cTn id="12" dur="500"/>
                                        <p:tgtEl>
                                          <p:spTgt spid="5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4"/>
                                        </p:tgtEl>
                                        <p:attrNameLst>
                                          <p:attrName>style.visibility</p:attrName>
                                        </p:attrNameLst>
                                      </p:cBhvr>
                                      <p:to>
                                        <p:strVal val="visible"/>
                                      </p:to>
                                    </p:set>
                                    <p:anim calcmode="lin" valueType="num">
                                      <p:cBhvr additive="base">
                                        <p:cTn id="17" dur="500" fill="hold"/>
                                        <p:tgtEl>
                                          <p:spTgt spid="54"/>
                                        </p:tgtEl>
                                        <p:attrNameLst>
                                          <p:attrName>ppt_x</p:attrName>
                                        </p:attrNameLst>
                                      </p:cBhvr>
                                      <p:tavLst>
                                        <p:tav tm="0">
                                          <p:val>
                                            <p:strVal val="1+#ppt_w/2"/>
                                          </p:val>
                                        </p:tav>
                                        <p:tav tm="100000">
                                          <p:val>
                                            <p:strVal val="#ppt_x"/>
                                          </p:val>
                                        </p:tav>
                                      </p:tavLst>
                                    </p:anim>
                                    <p:anim calcmode="lin" valueType="num">
                                      <p:cBhvr additive="base">
                                        <p:cTn id="1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5">
                                  <p:stCondLst>
                                    <p:cond delay="0"/>
                                  </p:stCondLst>
                                  <p:childTnLst>
                                    <p:set>
                                      <p:cBhvr>
                                        <p:cTn id="22" dur="1" fill="hold">
                                          <p:stCondLst>
                                            <p:cond delay="0"/>
                                          </p:stCondLst>
                                        </p:cTn>
                                        <p:tgtEl>
                                          <p:spTgt spid="59"/>
                                        </p:tgtEl>
                                        <p:attrNameLst>
                                          <p:attrName>style.visibility</p:attrName>
                                        </p:attrNameLst>
                                      </p:cBhvr>
                                      <p:to>
                                        <p:strVal val="visible"/>
                                      </p:to>
                                    </p:set>
                                    <p:animEffect filter="blinds(vertical)" transition="in">
                                      <p:cBhvr additive="repl">
                                        <p:cTn id="23"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e multiresistente Infektionserreger</a:t>
            </a:r>
            <a:endParaRPr b="0" lang="en-US" sz="2400" spc="-1" strike="noStrike">
              <a:solidFill>
                <a:srgbClr val="000000"/>
              </a:solidFill>
              <a:latin typeface="Times New Roman"/>
            </a:endParaRPr>
          </a:p>
        </p:txBody>
      </p:sp>
      <p:sp>
        <p:nvSpPr>
          <p:cNvPr id="270"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71" name=""/>
          <p:cNvSpPr/>
          <p:nvPr/>
        </p:nvSpPr>
        <p:spPr>
          <a:xfrm>
            <a:off x="304920" y="685800"/>
            <a:ext cx="86104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SBL bildende Bakterien (ESBL-Bildner)</a:t>
            </a:r>
            <a:endParaRPr b="0" lang="en-US" sz="2400" spc="-1" strike="noStrike">
              <a:solidFill>
                <a:srgbClr val="000000"/>
              </a:solidFill>
              <a:latin typeface="Times New Roman"/>
            </a:endParaRPr>
          </a:p>
        </p:txBody>
      </p:sp>
      <p:sp>
        <p:nvSpPr>
          <p:cNvPr id="272" name=""/>
          <p:cNvSpPr/>
          <p:nvPr/>
        </p:nvSpPr>
        <p:spPr>
          <a:xfrm>
            <a:off x="4421880" y="1608120"/>
            <a:ext cx="1424160" cy="149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SBL </a:t>
            </a:r>
            <a:r>
              <a:rPr b="0" lang="de-DE"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a:t>
            </a:r>
            <a:r>
              <a:rPr b="0" lang="de-DE" sz="1800" spc="-1" strike="noStrike">
                <a:solidFill>
                  <a:srgbClr val="000000"/>
                </a:solidFill>
                <a:latin typeface="Arial"/>
              </a:rPr>
              <a:t>xtend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t>
            </a:r>
            <a:r>
              <a:rPr b="0" lang="de-DE" sz="1800" spc="-1" strike="noStrike">
                <a:solidFill>
                  <a:srgbClr val="000000"/>
                </a:solidFill>
                <a:latin typeface="Arial"/>
              </a:rPr>
              <a:t>pectru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a:t>
            </a:r>
            <a:r>
              <a:rPr b="0" lang="de-DE" sz="1800" spc="-1" strike="noStrike">
                <a:solidFill>
                  <a:srgbClr val="000000"/>
                </a:solidFill>
                <a:latin typeface="Arial"/>
              </a:rPr>
              <a:t>e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L</a:t>
            </a:r>
            <a:r>
              <a:rPr b="0" lang="de-DE" sz="1800" spc="-1" strike="noStrike">
                <a:solidFill>
                  <a:srgbClr val="000000"/>
                </a:solidFill>
                <a:latin typeface="Arial"/>
              </a:rPr>
              <a:t>actamases</a:t>
            </a:r>
            <a:endParaRPr b="0" lang="en-US" sz="1800" spc="-1" strike="noStrike">
              <a:solidFill>
                <a:srgbClr val="000000"/>
              </a:solidFill>
              <a:latin typeface="Times New Roman"/>
            </a:endParaRPr>
          </a:p>
        </p:txBody>
      </p:sp>
      <p:sp>
        <p:nvSpPr>
          <p:cNvPr id="273" name=""/>
          <p:cNvSpPr/>
          <p:nvPr/>
        </p:nvSpPr>
        <p:spPr>
          <a:xfrm>
            <a:off x="4419720" y="3276720"/>
            <a:ext cx="4647960" cy="31240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SBL bezeichnet die Eigenschaft von gramnegativen Bakterien, eine besondere Variante der Antibiotika-zerstörenden Substanz Beta-Lakta-mase bilden zu können.</a:t>
            </a:r>
            <a:endParaRPr b="0" lang="en-US" sz="1800" spc="-1" strike="noStrike">
              <a:solidFill>
                <a:srgbClr val="000000"/>
              </a:solidFill>
              <a:latin typeface="Times New Roman"/>
            </a:endParaRPr>
          </a:p>
          <a:p>
            <a:pPr marL="322200" indent="-322200">
              <a:lnSpc>
                <a:spcPct val="9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s handelt sich also jeweils um unter-schiedliche Erreger. Was sie verbindet ist die Eigenschaft, resistent gegen die normalerweise einsetzbaren Antibiotika zu sein.</a:t>
            </a:r>
            <a:endParaRPr b="0" lang="en-US" sz="1800" spc="-1" strike="noStrike">
              <a:solidFill>
                <a:srgbClr val="000000"/>
              </a:solidFill>
              <a:latin typeface="Times New Roman"/>
            </a:endParaRPr>
          </a:p>
          <a:p>
            <a:pPr marL="322200" indent="-322200">
              <a:lnSpc>
                <a:spcPct val="9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möglichen Schädigungen sind somit von Erreger zu Erreger unterschiedlich.</a:t>
            </a:r>
            <a:endParaRPr b="0" lang="en-US" sz="1800" spc="-1" strike="noStrike">
              <a:solidFill>
                <a:srgbClr val="000000"/>
              </a:solidFill>
              <a:latin typeface="Times New Roman"/>
            </a:endParaRPr>
          </a:p>
        </p:txBody>
      </p:sp>
      <p:pic>
        <p:nvPicPr>
          <p:cNvPr id="274" name="" descr=""/>
          <p:cNvPicPr/>
          <p:nvPr/>
        </p:nvPicPr>
        <p:blipFill>
          <a:blip r:embed="rId1"/>
          <a:stretch/>
        </p:blipFill>
        <p:spPr>
          <a:xfrm>
            <a:off x="2209680" y="1676520"/>
            <a:ext cx="1717920" cy="1633320"/>
          </a:xfrm>
          <a:prstGeom prst="rect">
            <a:avLst/>
          </a:prstGeom>
          <a:ln w="0">
            <a:noFill/>
          </a:ln>
        </p:spPr>
      </p:pic>
      <p:pic>
        <p:nvPicPr>
          <p:cNvPr id="275" name="" descr=""/>
          <p:cNvPicPr/>
          <p:nvPr/>
        </p:nvPicPr>
        <p:blipFill>
          <a:blip r:embed="rId2"/>
          <a:stretch/>
        </p:blipFill>
        <p:spPr>
          <a:xfrm>
            <a:off x="474840" y="3301920"/>
            <a:ext cx="1728720" cy="1650960"/>
          </a:xfrm>
          <a:prstGeom prst="rect">
            <a:avLst/>
          </a:prstGeom>
          <a:ln w="0">
            <a:noFill/>
          </a:ln>
        </p:spPr>
      </p:pic>
      <p:pic>
        <p:nvPicPr>
          <p:cNvPr id="276" name="" descr=""/>
          <p:cNvPicPr/>
          <p:nvPr/>
        </p:nvPicPr>
        <p:blipFill>
          <a:blip r:embed="rId3"/>
          <a:stretch/>
        </p:blipFill>
        <p:spPr>
          <a:xfrm>
            <a:off x="2201760" y="3298680"/>
            <a:ext cx="1717920" cy="1641600"/>
          </a:xfrm>
          <a:prstGeom prst="rect">
            <a:avLst/>
          </a:prstGeom>
          <a:ln w="0">
            <a:noFill/>
          </a:ln>
        </p:spPr>
      </p:pic>
      <p:pic>
        <p:nvPicPr>
          <p:cNvPr id="277" name="" descr=""/>
          <p:cNvPicPr/>
          <p:nvPr/>
        </p:nvPicPr>
        <p:blipFill>
          <a:blip r:embed="rId4"/>
          <a:stretch/>
        </p:blipFill>
        <p:spPr>
          <a:xfrm>
            <a:off x="457200" y="1668600"/>
            <a:ext cx="1752480" cy="1628640"/>
          </a:xfrm>
          <a:prstGeom prst="rect">
            <a:avLst/>
          </a:prstGeom>
          <a:ln w="0">
            <a:noFill/>
          </a:ln>
        </p:spPr>
      </p:pic>
    </p:spTree>
  </p:cSld>
  <p:transition>
    <p:zoom dir="out"/>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273">
                                            <p:txEl>
                                              <p:pRg st="0" end="0"/>
                                            </p:txEl>
                                          </p:spTgt>
                                        </p:tgtEl>
                                        <p:attrNameLst>
                                          <p:attrName>style.visibility</p:attrName>
                                        </p:attrNameLst>
                                      </p:cBhvr>
                                      <p:to>
                                        <p:strVal val="visible"/>
                                      </p:to>
                                    </p:set>
                                    <p:anim calcmode="lin" valueType="num">
                                      <p:cBhvr additive="base">
                                        <p:cTn id="310" dur="5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2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273">
                                            <p:txEl>
                                              <p:pRg st="1" end="1"/>
                                            </p:txEl>
                                          </p:spTgt>
                                        </p:tgtEl>
                                        <p:attrNameLst>
                                          <p:attrName>style.visibility</p:attrName>
                                        </p:attrNameLst>
                                      </p:cBhvr>
                                      <p:to>
                                        <p:strVal val="visible"/>
                                      </p:to>
                                    </p:set>
                                    <p:anim calcmode="lin" valueType="num">
                                      <p:cBhvr additive="base">
                                        <p:cTn id="316" dur="500" fill="hold"/>
                                        <p:tgtEl>
                                          <p:spTgt spid="273">
                                            <p:txEl>
                                              <p:pRg st="1" end="1"/>
                                            </p:txEl>
                                          </p:spTgt>
                                        </p:tgtEl>
                                        <p:attrNameLst>
                                          <p:attrName>ppt_x</p:attrName>
                                        </p:attrNameLst>
                                      </p:cBhvr>
                                      <p:tavLst>
                                        <p:tav tm="0">
                                          <p:val>
                                            <p:strVal val="#ppt_x"/>
                                          </p:val>
                                        </p:tav>
                                        <p:tav tm="100000">
                                          <p:val>
                                            <p:strVal val="#ppt_x"/>
                                          </p:val>
                                        </p:tav>
                                      </p:tavLst>
                                    </p:anim>
                                    <p:anim calcmode="lin" valueType="num">
                                      <p:cBhvr additive="base">
                                        <p:cTn id="317" dur="500" fill="hold"/>
                                        <p:tgtEl>
                                          <p:spTgt spid="2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273">
                                            <p:txEl>
                                              <p:pRg st="2" end="2"/>
                                            </p:txEl>
                                          </p:spTgt>
                                        </p:tgtEl>
                                        <p:attrNameLst>
                                          <p:attrName>style.visibility</p:attrName>
                                        </p:attrNameLst>
                                      </p:cBhvr>
                                      <p:to>
                                        <p:strVal val="visible"/>
                                      </p:to>
                                    </p:set>
                                    <p:anim calcmode="lin" valueType="num">
                                      <p:cBhvr additive="base">
                                        <p:cTn id="322" dur="500" fill="hold"/>
                                        <p:tgtEl>
                                          <p:spTgt spid="273">
                                            <p:txEl>
                                              <p:pRg st="2" end="2"/>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27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e multiresistente Infektionserreger</a:t>
            </a:r>
            <a:endParaRPr b="0" lang="en-US" sz="2400" spc="-1" strike="noStrike">
              <a:solidFill>
                <a:srgbClr val="000000"/>
              </a:solidFill>
              <a:latin typeface="Times New Roman"/>
            </a:endParaRPr>
          </a:p>
        </p:txBody>
      </p:sp>
      <p:sp>
        <p:nvSpPr>
          <p:cNvPr id="27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80" name=""/>
          <p:cNvSpPr/>
          <p:nvPr/>
        </p:nvSpPr>
        <p:spPr>
          <a:xfrm>
            <a:off x="304920" y="685800"/>
            <a:ext cx="86104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BL                  im Vergleich zu                 MRSA</a:t>
            </a:r>
            <a:endParaRPr b="0" lang="en-US" sz="2400" spc="-1" strike="noStrike">
              <a:solidFill>
                <a:srgbClr val="000000"/>
              </a:solidFill>
              <a:latin typeface="Times New Roman"/>
            </a:endParaRPr>
          </a:p>
        </p:txBody>
      </p:sp>
      <p:sp>
        <p:nvSpPr>
          <p:cNvPr id="281" name=""/>
          <p:cNvSpPr/>
          <p:nvPr/>
        </p:nvSpPr>
        <p:spPr>
          <a:xfrm>
            <a:off x="228600" y="4572000"/>
            <a:ext cx="426708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rifft verschiedene Erreger; diese sind gramnegativ</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vorzugte Ansiedelung: </a:t>
            </a:r>
            <a:r>
              <a:rPr b="1" lang="en-US" sz="1800" spc="-1" strike="noStrike">
                <a:solidFill>
                  <a:srgbClr val="000000"/>
                </a:solidFill>
                <a:latin typeface="Arial"/>
              </a:rPr>
              <a:t>Urin, Fäkalien</a:t>
            </a:r>
            <a:r>
              <a:rPr b="0" lang="en-US" sz="1800" spc="-1" strike="noStrike">
                <a:solidFill>
                  <a:srgbClr val="000000"/>
                </a:solidFill>
                <a:latin typeface="Arial"/>
              </a:rPr>
              <a:t>, Wunden, Atemwege</a:t>
            </a:r>
            <a:br>
              <a:rPr sz="1800"/>
            </a:br>
            <a:r>
              <a:rPr b="0" lang="en-US" sz="1800" spc="-1" strike="noStrike">
                <a:solidFill>
                  <a:srgbClr val="000000"/>
                </a:solidFill>
                <a:latin typeface="Arial"/>
              </a:rPr>
              <a:t>(eigene Toilette vorteilhaft)</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ierung nicht möglich</a:t>
            </a:r>
            <a:endParaRPr b="0" lang="en-US" sz="1800" spc="-1" strike="noStrike">
              <a:solidFill>
                <a:srgbClr val="000000"/>
              </a:solidFill>
              <a:latin typeface="Times New Roman"/>
            </a:endParaRPr>
          </a:p>
        </p:txBody>
      </p:sp>
      <p:sp>
        <p:nvSpPr>
          <p:cNvPr id="282" name=""/>
          <p:cNvSpPr/>
          <p:nvPr/>
        </p:nvSpPr>
        <p:spPr>
          <a:xfrm>
            <a:off x="4800600" y="4572000"/>
            <a:ext cx="403848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trifft nur einen Erreger; dieser ist grampositiv</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Bevorzugte Ansiedelung: </a:t>
            </a:r>
            <a:r>
              <a:rPr b="1" lang="de-DE" sz="1800" spc="-1" strike="noStrike">
                <a:solidFill>
                  <a:srgbClr val="000000"/>
                </a:solidFill>
                <a:latin typeface="Arial"/>
              </a:rPr>
              <a:t>Nase, Wunden</a:t>
            </a:r>
            <a:r>
              <a:rPr b="0" lang="de-DE" sz="1800" spc="-1" strike="noStrike">
                <a:solidFill>
                  <a:srgbClr val="000000"/>
                </a:solidFill>
                <a:latin typeface="Arial"/>
              </a:rPr>
              <a:t>, Devices, Haut, Atemwege</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anierung u.U. möglich</a:t>
            </a:r>
            <a:endParaRPr b="0" lang="en-US" sz="1800" spc="-1" strike="noStrike">
              <a:solidFill>
                <a:srgbClr val="000000"/>
              </a:solidFill>
              <a:latin typeface="Times New Roman"/>
            </a:endParaRPr>
          </a:p>
        </p:txBody>
      </p:sp>
      <p:sp>
        <p:nvSpPr>
          <p:cNvPr id="283" name=""/>
          <p:cNvSpPr/>
          <p:nvPr/>
        </p:nvSpPr>
        <p:spPr>
          <a:xfrm>
            <a:off x="3280320" y="1335240"/>
            <a:ext cx="263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Gemeinsamkeiten</a:t>
            </a:r>
            <a:endParaRPr b="0" lang="en-US" sz="2400" spc="-1" strike="noStrike">
              <a:solidFill>
                <a:srgbClr val="000000"/>
              </a:solidFill>
              <a:latin typeface="Times New Roman"/>
            </a:endParaRPr>
          </a:p>
        </p:txBody>
      </p:sp>
      <p:sp>
        <p:nvSpPr>
          <p:cNvPr id="284" name=""/>
          <p:cNvSpPr/>
          <p:nvPr/>
        </p:nvSpPr>
        <p:spPr>
          <a:xfrm>
            <a:off x="4572000" y="4648320"/>
            <a:ext cx="0" cy="19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583800" y="403848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Unterschiede</a:t>
            </a:r>
            <a:endParaRPr b="0" lang="en-US" sz="2400" spc="-1" strike="noStrike">
              <a:solidFill>
                <a:srgbClr val="000000"/>
              </a:solidFill>
              <a:latin typeface="Times New Roman"/>
            </a:endParaRPr>
          </a:p>
        </p:txBody>
      </p:sp>
      <p:sp>
        <p:nvSpPr>
          <p:cNvPr id="286" name=""/>
          <p:cNvSpPr/>
          <p:nvPr/>
        </p:nvSpPr>
        <p:spPr>
          <a:xfrm>
            <a:off x="228600" y="1905120"/>
            <a:ext cx="8763120" cy="19047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ultiresistente Varianten von Floraanteile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olonisation wahrscheinlicher als Infektio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m Falle einer Infektion können nur noch Reserveantibiotika appliziert werde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ielfältige Übertragungswege, wobei Kontakte deutlich im Vordergrund stehen.</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oblemlose Desinfizierbarkeit.</a:t>
            </a:r>
            <a:endParaRPr b="0" lang="en-US" sz="1800" spc="-1" strike="noStrike">
              <a:solidFill>
                <a:srgbClr val="000000"/>
              </a:solidFill>
              <a:latin typeface="Times New Roman"/>
            </a:endParaRPr>
          </a:p>
          <a:p>
            <a:pPr marL="335880" indent="-335880">
              <a:lnSpc>
                <a:spcPct val="100000"/>
              </a:lnSpc>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leiches Hygienekonzept.</a:t>
            </a:r>
            <a:endParaRPr b="0" lang="en-US" sz="1800" spc="-1" strike="noStrike">
              <a:solidFill>
                <a:srgbClr val="000000"/>
              </a:solidFill>
              <a:latin typeface="Times New Roman"/>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itere multiresistente Infektionserreger</a:t>
            </a:r>
            <a:endParaRPr b="0" lang="en-US" sz="2400" spc="-1" strike="noStrike">
              <a:solidFill>
                <a:srgbClr val="000000"/>
              </a:solidFill>
              <a:latin typeface="Times New Roman"/>
            </a:endParaRPr>
          </a:p>
        </p:txBody>
      </p:sp>
      <p:sp>
        <p:nvSpPr>
          <p:cNvPr id="28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289" name=""/>
          <p:cNvSpPr/>
          <p:nvPr/>
        </p:nvSpPr>
        <p:spPr>
          <a:xfrm>
            <a:off x="304920" y="685800"/>
            <a:ext cx="86104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RE</a:t>
            </a:r>
            <a:endParaRPr b="0" lang="en-US" sz="2400" spc="-1" strike="noStrike">
              <a:solidFill>
                <a:srgbClr val="000000"/>
              </a:solidFill>
              <a:latin typeface="Times New Roman"/>
            </a:endParaRPr>
          </a:p>
        </p:txBody>
      </p:sp>
      <p:pic>
        <p:nvPicPr>
          <p:cNvPr id="290" name="" descr=""/>
          <p:cNvPicPr/>
          <p:nvPr/>
        </p:nvPicPr>
        <p:blipFill>
          <a:blip r:embed="rId1"/>
          <a:stretch/>
        </p:blipFill>
        <p:spPr>
          <a:xfrm>
            <a:off x="228600" y="1725480"/>
            <a:ext cx="3962520" cy="2670480"/>
          </a:xfrm>
          <a:prstGeom prst="rect">
            <a:avLst/>
          </a:prstGeom>
          <a:ln w="0">
            <a:noFill/>
          </a:ln>
        </p:spPr>
      </p:pic>
      <p:sp>
        <p:nvSpPr>
          <p:cNvPr id="291" name=""/>
          <p:cNvSpPr/>
          <p:nvPr/>
        </p:nvSpPr>
        <p:spPr>
          <a:xfrm>
            <a:off x="4343400" y="1600200"/>
            <a:ext cx="4419720" cy="377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nterokokken wie E. faecium oder E. faecalis sind ein Bestandteil der Darmflora, können aber auch den Mund, den Rachen, die Vagina  auch der Mund-Rachen-, Vaginal- oder die Genitalregion besiedeln.</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urch direkte und indirekte Kontakte übertragbar.</a:t>
            </a:r>
            <a:endParaRPr b="0" lang="en-US" sz="1800" spc="-1" strike="noStrike">
              <a:solidFill>
                <a:srgbClr val="000000"/>
              </a:solidFill>
              <a:latin typeface="Times New Roman"/>
            </a:endParaRPr>
          </a:p>
          <a:p>
            <a:pPr marL="343080" indent="-343080">
              <a:lnSpc>
                <a:spcPct val="100000"/>
              </a:lnSpc>
              <a:spcBef>
                <a:spcPts val="451"/>
              </a:spcBef>
              <a:spcAft>
                <a:spcPts val="601"/>
              </a:spcAft>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ögliche Folge: nosokomiale Infektionen (z.B. Sepsis, Endokarditis, HWI) vor allem bei stark abwehrge-schwächten Patienten.</a:t>
            </a:r>
            <a:endParaRPr b="0" lang="en-US" sz="1800" spc="-1" strike="noStrike">
              <a:solidFill>
                <a:srgbClr val="000000"/>
              </a:solidFill>
              <a:latin typeface="Times New Roman"/>
            </a:endParaRPr>
          </a:p>
          <a:p>
            <a:pPr lvl="1" marL="743040" indent="-285840">
              <a:lnSpc>
                <a:spcPct val="100000"/>
              </a:lnSpc>
              <a:spcBef>
                <a:spcPts val="451"/>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2" name=""/>
          <p:cNvSpPr/>
          <p:nvPr/>
        </p:nvSpPr>
        <p:spPr>
          <a:xfrm>
            <a:off x="0" y="6021360"/>
            <a:ext cx="91440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i VRE sind außer einer konsequent eingehaltenen Basishygiene in</a:t>
            </a:r>
            <a:br>
              <a:rPr sz="2000"/>
            </a:br>
            <a:r>
              <a:rPr b="0" lang="en-US" sz="2000" spc="-1" strike="noStrike">
                <a:solidFill>
                  <a:srgbClr val="cc0000"/>
                </a:solidFill>
                <a:latin typeface="Arial"/>
              </a:rPr>
              <a:t>der ambulanten Pflege weitergehende Hygienemaßnahmen nicht notwendig.</a:t>
            </a:r>
            <a:endParaRPr b="0" lang="en-US" sz="2000" spc="-1" strike="noStrike">
              <a:solidFill>
                <a:srgbClr val="000000"/>
              </a:solidFill>
              <a:latin typeface="Times New Roman"/>
            </a:endParaRPr>
          </a:p>
        </p:txBody>
      </p:sp>
    </p:spTree>
  </p:cSld>
  <p:transition>
    <p:zoom dir="out"/>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292"/>
                                        </p:tgtEl>
                                        <p:attrNameLst>
                                          <p:attrName>style.visibility</p:attrName>
                                        </p:attrNameLst>
                                      </p:cBhvr>
                                      <p:to>
                                        <p:strVal val="visible"/>
                                      </p:to>
                                    </p:set>
                                    <p:anim calcmode="lin" valueType="num">
                                      <p:cBhvr additive="base">
                                        <p:cTn id="330" dur="500" fill="hold"/>
                                        <p:tgtEl>
                                          <p:spTgt spid="292"/>
                                        </p:tgtEl>
                                        <p:attrNameLst>
                                          <p:attrName>ppt_x</p:attrName>
                                        </p:attrNameLst>
                                      </p:cBhvr>
                                      <p:tavLst>
                                        <p:tav tm="0">
                                          <p:val>
                                            <p:strVal val="#ppt_x"/>
                                          </p:val>
                                        </p:tav>
                                        <p:tav tm="100000">
                                          <p:val>
                                            <p:strVal val="#ppt_x"/>
                                          </p:val>
                                        </p:tav>
                                      </p:tavLst>
                                    </p:anim>
                                    <p:anim calcmode="lin" valueType="num">
                                      <p:cBhvr additive="base">
                                        <p:cTn id="331"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432440" y="1415880"/>
            <a:ext cx="64094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Vielen Dank für</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Ihre Aufmerksamkeit!</a:t>
            </a:r>
            <a:endParaRPr b="0" lang="en-US" sz="4800" spc="-1" strike="noStrike">
              <a:solidFill>
                <a:srgbClr val="000000"/>
              </a:solidFill>
              <a:latin typeface="Times New Roman"/>
            </a:endParaRPr>
          </a:p>
        </p:txBody>
      </p:sp>
      <p:sp>
        <p:nvSpPr>
          <p:cNvPr id="296" name=""/>
          <p:cNvSpPr/>
          <p:nvPr/>
        </p:nvSpPr>
        <p:spPr>
          <a:xfrm>
            <a:off x="2286000" y="3398760"/>
            <a:ext cx="4545360" cy="186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gen</a:t>
            </a:r>
            <a:endParaRPr b="0" lang="en-US" sz="3200" spc="-1" strike="noStrike">
              <a:solidFill>
                <a:srgbClr val="000000"/>
              </a:solidFill>
              <a:latin typeface="Times New Roman"/>
            </a:endParaRPr>
          </a:p>
          <a:p>
            <a:pPr lvl="2" marL="914400">
              <a:lnSpc>
                <a:spcPct val="100000"/>
              </a:lnSpc>
              <a:spcAft>
                <a:spcPts val="1199"/>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kussionen</a:t>
            </a:r>
            <a:endParaRPr b="0" lang="en-US" sz="3200" spc="-1" strike="noStrike">
              <a:solidFill>
                <a:srgbClr val="000000"/>
              </a:solidFill>
              <a:latin typeface="Times New Roman"/>
            </a:endParaRPr>
          </a:p>
          <a:p>
            <a:pPr lvl="4" marL="1828800">
              <a:lnSpc>
                <a:spcPct val="100000"/>
              </a:lnSpc>
              <a:spcAft>
                <a:spcPts val="1199"/>
              </a:spcAft>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regungen</a:t>
            </a:r>
            <a:endParaRPr b="0" lang="en-US" sz="3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1167840" y="1203480"/>
            <a:ext cx="6928920" cy="265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inwei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se Schulungsdatei wird Ihnen als teilnehmende Einrichtung 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EurSafety Health-net Qualitäts- und Transparenzsiegel</a:t>
            </a:r>
            <a:r>
              <a:rPr b="0" lang="de-DE" sz="1600" spc="-1" strike="noStrike">
                <a:solidFill>
                  <a:srgbClr val="000000"/>
                </a:solidFill>
                <a:latin typeface="Arial"/>
              </a:rPr>
              <a:t> für betriebsinterne</a:t>
            </a:r>
            <a:br>
              <a:rPr sz="1600"/>
            </a:br>
            <a:r>
              <a:rPr b="0" lang="de-DE" sz="1600" spc="-1" strike="noStrike">
                <a:solidFill>
                  <a:srgbClr val="000000"/>
                </a:solidFill>
                <a:latin typeface="Arial"/>
              </a:rPr>
              <a:t>Schulungen zur Erreichung des QZ 10 zur Verfügung</a:t>
            </a:r>
            <a:r>
              <a:rPr b="0" i="1" lang="de-DE" sz="1600" spc="-1" strike="noStrike">
                <a:solidFill>
                  <a:srgbClr val="000000"/>
                </a:solidFill>
                <a:latin typeface="Arial"/>
              </a:rPr>
              <a:t> </a:t>
            </a:r>
            <a:r>
              <a:rPr b="0" lang="de-DE" sz="1600" spc="-1" strike="noStrike">
                <a:solidFill>
                  <a:srgbClr val="000000"/>
                </a:solidFill>
                <a:latin typeface="Arial"/>
              </a:rPr>
              <a:t>gestellt.</a:t>
            </a:r>
            <a:br>
              <a:rPr sz="1600"/>
            </a:br>
            <a:r>
              <a:rPr b="0" lang="de-DE" sz="1600" spc="-1" strike="noStrike">
                <a:solidFill>
                  <a:srgbClr val="000000"/>
                </a:solidFill>
                <a:latin typeface="Arial"/>
              </a:rPr>
              <a:t>Die Aussagen beziehen sich auf die Richtlinie „MRSA“ (QZ 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br>
              <a:rPr sz="1600"/>
            </a:br>
            <a:r>
              <a:rPr b="0" lang="de-DE" sz="1600" spc="-1" strike="noStrike">
                <a:solidFill>
                  <a:srgbClr val="000000"/>
                </a:solidFill>
                <a:latin typeface="Arial"/>
              </a:rPr>
              <a:t>Die zu dieser Datei gehörenden Textpassagen und Abbildungen dürfen Sie</a:t>
            </a:r>
            <a:br>
              <a:rPr sz="1600"/>
            </a:br>
            <a:r>
              <a:rPr b="0" lang="de-DE" sz="1600" spc="-1" strike="noStrike">
                <a:solidFill>
                  <a:srgbClr val="000000"/>
                </a:solidFill>
                <a:latin typeface="Arial"/>
              </a:rPr>
              <a:t>im Rahmen des </a:t>
            </a:r>
            <a:r>
              <a:rPr b="0" i="1" lang="de-DE" sz="1600" spc="-1" strike="noStrike">
                <a:solidFill>
                  <a:srgbClr val="000000"/>
                </a:solidFill>
                <a:latin typeface="Arial"/>
              </a:rPr>
              <a:t>EurSafety Health-net Qualitäts- und Transparenzsiegels</a:t>
            </a:r>
            <a:r>
              <a:rPr b="0" lang="de-DE" sz="1600" spc="-1" strike="noStrike">
                <a:solidFill>
                  <a:srgbClr val="000000"/>
                </a:solidFill>
                <a:latin typeface="Arial"/>
              </a:rPr>
              <a:t> </a:t>
            </a:r>
            <a:br>
              <a:rPr sz="1600"/>
            </a:br>
            <a:r>
              <a:rPr b="0" lang="de-DE" sz="1600" spc="-1" strike="noStrike">
                <a:solidFill>
                  <a:srgbClr val="000000"/>
                </a:solidFill>
                <a:latin typeface="Arial"/>
              </a:rPr>
              <a:t>sen frei editieren, ergänzen und in Ihre Schulungsunterlagen übernehmen.</a:t>
            </a:r>
            <a:endParaRPr b="0" lang="en-US" sz="1600" spc="-1" strike="noStrike">
              <a:solidFill>
                <a:srgbClr val="000000"/>
              </a:solidFill>
              <a:latin typeface="Times New Roman"/>
            </a:endParaRPr>
          </a:p>
        </p:txBody>
      </p:sp>
      <p:pic>
        <p:nvPicPr>
          <p:cNvPr id="300" name="" descr=""/>
          <p:cNvPicPr/>
          <p:nvPr/>
        </p:nvPicPr>
        <p:blipFill>
          <a:blip r:embed="rId1"/>
          <a:stretch/>
        </p:blipFill>
        <p:spPr>
          <a:xfrm>
            <a:off x="826920" y="4653000"/>
            <a:ext cx="7629840" cy="161928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igenschaften von Staphylococcus aureus</a:t>
            </a:r>
            <a:endParaRPr b="0" lang="en-US" sz="2400" spc="-1" strike="noStrike">
              <a:solidFill>
                <a:srgbClr val="000000"/>
              </a:solidFill>
              <a:latin typeface="Times New Roman"/>
            </a:endParaRPr>
          </a:p>
        </p:txBody>
      </p:sp>
      <p:pic>
        <p:nvPicPr>
          <p:cNvPr id="62" name="" descr=""/>
          <p:cNvPicPr/>
          <p:nvPr/>
        </p:nvPicPr>
        <p:blipFill>
          <a:blip r:embed="rId1"/>
          <a:stretch/>
        </p:blipFill>
        <p:spPr>
          <a:xfrm>
            <a:off x="228600" y="838080"/>
            <a:ext cx="3809880" cy="2686320"/>
          </a:xfrm>
          <a:prstGeom prst="rect">
            <a:avLst/>
          </a:prstGeom>
          <a:ln w="0">
            <a:noFill/>
          </a:ln>
        </p:spPr>
      </p:pic>
      <p:sp>
        <p:nvSpPr>
          <p:cNvPr id="63" name=""/>
          <p:cNvSpPr/>
          <p:nvPr/>
        </p:nvSpPr>
        <p:spPr>
          <a:xfrm>
            <a:off x="4114800" y="838080"/>
            <a:ext cx="5105520" cy="19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Staphylokokken</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sich in Haufen anlagernde, kugelförmige Bakterien.</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 den wichtigsten Arten gehör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Staphylococcus aureus</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Staphylococcus epidermidis</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Staphylococcus saprophyticus</a:t>
            </a:r>
            <a:endParaRPr b="0" lang="en-US" sz="1600" spc="-1" strike="noStrike">
              <a:solidFill>
                <a:srgbClr val="000000"/>
              </a:solidFill>
              <a:latin typeface="Times New Roman"/>
            </a:endParaRPr>
          </a:p>
        </p:txBody>
      </p:sp>
      <p:sp>
        <p:nvSpPr>
          <p:cNvPr id="6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65" name=""/>
          <p:cNvSpPr/>
          <p:nvPr/>
        </p:nvSpPr>
        <p:spPr>
          <a:xfrm>
            <a:off x="152280" y="3805200"/>
            <a:ext cx="8991720" cy="25297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Staphylococcus aureus</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rkunft: Transientflora von Mensch &amp; Tier aber auch kontaminierte Materiali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obust gegen Austrocknung, auf Flächen lange lebensfähig aber gut zu desinfizier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Übertragung durch Kontakte, Lebensmittel, Atemtröpfchen etc.</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Kolonisationen, Lebensmittelvergiftungen und unterschiedliche Infektionen verursach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 gibt viele unterschiedliche Stämme, die durch verschiedene Gifte eine unterschiedliche</a:t>
            </a:r>
            <a:br>
              <a:rPr sz="1600"/>
            </a:br>
            <a:r>
              <a:rPr b="0" lang="de-DE" sz="1600" spc="-1" strike="noStrike">
                <a:solidFill>
                  <a:srgbClr val="000000"/>
                </a:solidFill>
                <a:latin typeface="Arial"/>
              </a:rPr>
              <a:t>Gefährlichkeit hab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er dieser Stämme ist MRSA.</a:t>
            </a:r>
            <a:endParaRPr b="0" lang="en-US" sz="1600" spc="-1" strike="noStrike">
              <a:solidFill>
                <a:srgbClr val="000000"/>
              </a:solidFill>
              <a:latin typeface="Times New Roman"/>
            </a:endParaRPr>
          </a:p>
        </p:txBody>
      </p:sp>
    </p:spTree>
  </p:cSld>
  <p:transition>
    <p:zoom dir="out"/>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5">
                                  <p:stCondLst>
                                    <p:cond delay="0"/>
                                  </p:stCondLst>
                                  <p:childTnLst>
                                    <p:set>
                                      <p:cBhvr>
                                        <p:cTn id="29" dur="1" fill="hold">
                                          <p:stCondLst>
                                            <p:cond delay="0"/>
                                          </p:stCondLst>
                                        </p:cTn>
                                        <p:tgtEl>
                                          <p:spTgt spid="65"/>
                                        </p:tgtEl>
                                        <p:attrNameLst>
                                          <p:attrName>style.visibility</p:attrName>
                                        </p:attrNameLst>
                                      </p:cBhvr>
                                      <p:to>
                                        <p:strVal val="visible"/>
                                      </p:to>
                                    </p:set>
                                    <p:animEffect filter="blinds(vertical)" transition="in">
                                      <p:cBhvr additive="repl">
                                        <p:cTn id="30"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genschaften von MRSA</a:t>
            </a:r>
            <a:endParaRPr b="0" lang="en-US" sz="2400" spc="-1" strike="noStrike">
              <a:solidFill>
                <a:srgbClr val="000000"/>
              </a:solidFill>
              <a:latin typeface="Times New Roman"/>
            </a:endParaRPr>
          </a:p>
        </p:txBody>
      </p:sp>
      <p:pic>
        <p:nvPicPr>
          <p:cNvPr id="67" name="" descr=""/>
          <p:cNvPicPr/>
          <p:nvPr/>
        </p:nvPicPr>
        <p:blipFill>
          <a:blip r:embed="rId1"/>
          <a:stretch/>
        </p:blipFill>
        <p:spPr>
          <a:xfrm>
            <a:off x="228600" y="838080"/>
            <a:ext cx="3809880" cy="2686320"/>
          </a:xfrm>
          <a:prstGeom prst="rect">
            <a:avLst/>
          </a:prstGeom>
          <a:ln w="0">
            <a:noFill/>
          </a:ln>
        </p:spPr>
      </p:pic>
      <p:sp>
        <p:nvSpPr>
          <p:cNvPr id="68"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69" name=""/>
          <p:cNvSpPr/>
          <p:nvPr/>
        </p:nvSpPr>
        <p:spPr>
          <a:xfrm>
            <a:off x="4287960" y="1001880"/>
            <a:ext cx="1777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RSA</a:t>
            </a:r>
            <a:r>
              <a:rPr b="0" lang="de-DE"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a:t>
            </a:r>
            <a:r>
              <a:rPr b="0" lang="de-DE" sz="1800" spc="-1" strike="noStrike">
                <a:solidFill>
                  <a:srgbClr val="000000"/>
                </a:solidFill>
                <a:latin typeface="Arial"/>
              </a:rPr>
              <a:t>ethicill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a:t>
            </a:r>
            <a:r>
              <a:rPr b="0" lang="de-DE" sz="1800" spc="-1" strike="noStrike">
                <a:solidFill>
                  <a:srgbClr val="000000"/>
                </a:solidFill>
                <a:latin typeface="Arial"/>
              </a:rPr>
              <a:t>esisten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t>
            </a:r>
            <a:r>
              <a:rPr b="0" lang="de-DE" sz="1800" spc="-1" strike="noStrike">
                <a:solidFill>
                  <a:srgbClr val="000000"/>
                </a:solidFill>
                <a:latin typeface="Arial"/>
              </a:rPr>
              <a:t>taphylococc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a:t>
            </a:r>
            <a:r>
              <a:rPr b="0" lang="de-DE" sz="1800" spc="-1" strike="noStrike">
                <a:solidFill>
                  <a:srgbClr val="000000"/>
                </a:solidFill>
                <a:latin typeface="Arial"/>
              </a:rPr>
              <a:t>ureus</a:t>
            </a:r>
            <a:endParaRPr b="0" lang="en-US" sz="1800" spc="-1" strike="noStrike">
              <a:solidFill>
                <a:srgbClr val="000000"/>
              </a:solidFill>
              <a:latin typeface="Times New Roman"/>
            </a:endParaRPr>
          </a:p>
        </p:txBody>
      </p:sp>
      <p:sp>
        <p:nvSpPr>
          <p:cNvPr id="70" name=""/>
          <p:cNvSpPr/>
          <p:nvPr/>
        </p:nvSpPr>
        <p:spPr>
          <a:xfrm>
            <a:off x="6319800" y="1027080"/>
            <a:ext cx="1777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RSA</a:t>
            </a:r>
            <a:r>
              <a:rPr b="0" lang="de-DE"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a:t>
            </a:r>
            <a:r>
              <a:rPr b="0" lang="de-DE" sz="1800" spc="-1" strike="noStrike">
                <a:solidFill>
                  <a:srgbClr val="000000"/>
                </a:solidFill>
                <a:latin typeface="Arial"/>
              </a:rPr>
              <a:t>xacill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a:t>
            </a:r>
            <a:r>
              <a:rPr b="0" lang="de-DE" sz="1800" spc="-1" strike="noStrike">
                <a:solidFill>
                  <a:srgbClr val="000000"/>
                </a:solidFill>
                <a:latin typeface="Arial"/>
              </a:rPr>
              <a:t>esisten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t>
            </a:r>
            <a:r>
              <a:rPr b="0" lang="de-DE" sz="1800" spc="-1" strike="noStrike">
                <a:solidFill>
                  <a:srgbClr val="000000"/>
                </a:solidFill>
                <a:latin typeface="Arial"/>
              </a:rPr>
              <a:t>taphylococc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a:t>
            </a:r>
            <a:r>
              <a:rPr b="0" lang="de-DE" sz="1800" spc="-1" strike="noStrike">
                <a:solidFill>
                  <a:srgbClr val="000000"/>
                </a:solidFill>
                <a:latin typeface="Arial"/>
              </a:rPr>
              <a:t>ureus</a:t>
            </a:r>
            <a:endParaRPr b="0" lang="en-US" sz="1800" spc="-1" strike="noStrike">
              <a:solidFill>
                <a:srgbClr val="000000"/>
              </a:solidFill>
              <a:latin typeface="Times New Roman"/>
            </a:endParaRPr>
          </a:p>
        </p:txBody>
      </p:sp>
      <p:sp>
        <p:nvSpPr>
          <p:cNvPr id="71" name=""/>
          <p:cNvSpPr/>
          <p:nvPr/>
        </p:nvSpPr>
        <p:spPr>
          <a:xfrm>
            <a:off x="4929840" y="2684520"/>
            <a:ext cx="230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RSA = ORSA</a:t>
            </a:r>
            <a:endParaRPr b="0" lang="en-US" sz="2400" spc="-1" strike="noStrike">
              <a:solidFill>
                <a:srgbClr val="000000"/>
              </a:solidFill>
              <a:latin typeface="Times New Roman"/>
            </a:endParaRPr>
          </a:p>
        </p:txBody>
      </p:sp>
      <p:sp>
        <p:nvSpPr>
          <p:cNvPr id="72" name=""/>
          <p:cNvSpPr/>
          <p:nvPr/>
        </p:nvSpPr>
        <p:spPr>
          <a:xfrm>
            <a:off x="228600" y="3878280"/>
            <a:ext cx="8915400" cy="25894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RSA und ORSA sind Stämme von </a:t>
            </a:r>
            <a:r>
              <a:rPr b="0" i="1" lang="de-DE" sz="1600" spc="-1" strike="noStrike">
                <a:solidFill>
                  <a:srgbClr val="000000"/>
                </a:solidFill>
                <a:latin typeface="Arial"/>
              </a:rPr>
              <a:t>Staphylococcus aureus</a:t>
            </a:r>
            <a:r>
              <a:rPr b="0" lang="de-DE" sz="1600" spc="-1" strike="noStrike">
                <a:solidFill>
                  <a:srgbClr val="000000"/>
                </a:solidFill>
                <a:latin typeface="Arial"/>
              </a:rPr>
              <a:t>.</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rkunft, Robustheit, Übertragung, Desinfektionsfähigkeit, Giftbildung und Auswirkungen wie</a:t>
            </a:r>
            <a:br>
              <a:rPr sz="1600"/>
            </a:br>
            <a:r>
              <a:rPr b="0" lang="de-DE" sz="1600" spc="-1" strike="noStrike">
                <a:solidFill>
                  <a:srgbClr val="000000"/>
                </a:solidFill>
                <a:latin typeface="Arial"/>
              </a:rPr>
              <a:t>bei anderen </a:t>
            </a:r>
            <a:r>
              <a:rPr b="0" i="1" lang="de-DE" sz="1600" spc="-1" strike="noStrike">
                <a:solidFill>
                  <a:srgbClr val="000000"/>
                </a:solidFill>
                <a:latin typeface="Arial"/>
              </a:rPr>
              <a:t>Staphylococcus-aureus</a:t>
            </a:r>
            <a:r>
              <a:rPr b="0" lang="de-DE" sz="1600" spc="-1" strike="noStrike">
                <a:solidFill>
                  <a:srgbClr val="000000"/>
                </a:solidFill>
                <a:latin typeface="Arial"/>
              </a:rPr>
              <a:t>-Stäm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normalerweise gegen </a:t>
            </a:r>
            <a:r>
              <a:rPr b="0" i="1" lang="de-DE" sz="1600" spc="-1" strike="noStrike">
                <a:solidFill>
                  <a:srgbClr val="000000"/>
                </a:solidFill>
                <a:latin typeface="Arial"/>
              </a:rPr>
              <a:t>Staphylococcus aureus</a:t>
            </a:r>
            <a:r>
              <a:rPr b="0" lang="de-DE" sz="1600" spc="-1" strike="noStrike">
                <a:solidFill>
                  <a:srgbClr val="000000"/>
                </a:solidFill>
                <a:latin typeface="Arial"/>
              </a:rPr>
              <a:t> einsetzbaren Medikamente (Antibiotika)</a:t>
            </a:r>
            <a:br>
              <a:rPr sz="1600"/>
            </a:br>
            <a:r>
              <a:rPr b="0" lang="de-DE" sz="1600" spc="-1" strike="noStrike">
                <a:solidFill>
                  <a:srgbClr val="000000"/>
                </a:solidFill>
                <a:latin typeface="Arial"/>
              </a:rPr>
              <a:t>wirken nicht bei MRSA. Man spricht von „Multiresistenz“.</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Infektionsfall müssen also besondere Medikamente (Reserveantibiotika) eingesetzt</a:t>
            </a:r>
            <a:br>
              <a:rPr sz="1600"/>
            </a:br>
            <a:r>
              <a:rPr b="0" lang="de-DE" sz="1600" spc="-1" strike="noStrike">
                <a:solidFill>
                  <a:srgbClr val="000000"/>
                </a:solidFill>
                <a:latin typeface="Arial"/>
              </a:rPr>
              <a:t>werd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n befürchtet, dass es zu weiteren Resistenzbildungen kommt, so dass selbst diese</a:t>
            </a:r>
            <a:br>
              <a:rPr sz="1600"/>
            </a:br>
            <a:r>
              <a:rPr b="0" lang="de-DE" sz="1600" spc="-1" strike="noStrike">
                <a:solidFill>
                  <a:srgbClr val="000000"/>
                </a:solidFill>
                <a:latin typeface="Arial"/>
              </a:rPr>
              <a:t>Reserveantibiotika nicht mehr wirken.</a:t>
            </a:r>
            <a:endParaRPr b="0" lang="en-US" sz="1600" spc="-1" strike="noStrike">
              <a:solidFill>
                <a:srgbClr val="000000"/>
              </a:solidFill>
              <a:latin typeface="Times New Roman"/>
            </a:endParaRPr>
          </a:p>
        </p:txBody>
      </p:sp>
    </p:spTree>
  </p:cSld>
  <p:transition>
    <p:zoom dir="ou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5">
                                  <p:stCondLst>
                                    <p:cond delay="0"/>
                                  </p:stCondLst>
                                  <p:childTnLst>
                                    <p:set>
                                      <p:cBhvr>
                                        <p:cTn id="36" dur="1" fill="hold">
                                          <p:stCondLst>
                                            <p:cond delay="0"/>
                                          </p:stCondLst>
                                        </p:cTn>
                                        <p:tgtEl>
                                          <p:spTgt spid="72"/>
                                        </p:tgtEl>
                                        <p:attrNameLst>
                                          <p:attrName>style.visibility</p:attrName>
                                        </p:attrNameLst>
                                      </p:cBhvr>
                                      <p:to>
                                        <p:strVal val="visible"/>
                                      </p:to>
                                    </p:set>
                                    <p:animEffect filter="blinds(vertical)" transition="in">
                                      <p:cBhvr additive="repl">
                                        <p:cTn id="37"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967680" y="5516640"/>
            <a:ext cx="7192800" cy="10850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0000"/>
                </a:solidFill>
                <a:latin typeface="Arial"/>
              </a:rPr>
              <a:t>MRSA in Altenpflegeeinrichtungen = hMRSA</a:t>
            </a:r>
            <a:endParaRPr b="0" lang="en-US" sz="20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cc0000"/>
                </a:solidFill>
                <a:latin typeface="Arial"/>
              </a:rPr>
              <a:t>Das Vorhandensein von hMRSA ist nicht gleichbedeutend</a:t>
            </a:r>
            <a:br>
              <a:rPr sz="2000"/>
            </a:br>
            <a:r>
              <a:rPr b="1" lang="de-DE" sz="2000" spc="-1" strike="noStrike">
                <a:solidFill>
                  <a:srgbClr val="cc0000"/>
                </a:solidFill>
                <a:latin typeface="Arial"/>
              </a:rPr>
              <a:t>mit einem Krankheitszustand.</a:t>
            </a:r>
            <a:endParaRPr b="0" lang="en-US" sz="2000" spc="-1" strike="noStrike">
              <a:solidFill>
                <a:srgbClr val="000000"/>
              </a:solidFill>
              <a:latin typeface="Times New Roman"/>
            </a:endParaRPr>
          </a:p>
        </p:txBody>
      </p:sp>
      <p:sp>
        <p:nvSpPr>
          <p:cNvPr id="74"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terscheidung von MRSA</a:t>
            </a:r>
            <a:endParaRPr b="0" lang="en-US" sz="2400" spc="-1" strike="noStrike">
              <a:solidFill>
                <a:srgbClr val="000000"/>
              </a:solidFill>
              <a:latin typeface="Times New Roman"/>
            </a:endParaRPr>
          </a:p>
        </p:txBody>
      </p:sp>
      <p:sp>
        <p:nvSpPr>
          <p:cNvPr id="75"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76" name=""/>
          <p:cNvSpPr/>
          <p:nvPr/>
        </p:nvSpPr>
        <p:spPr>
          <a:xfrm>
            <a:off x="457200" y="836640"/>
            <a:ext cx="8229600" cy="1512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7200" y="836640"/>
            <a:ext cx="830592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cc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MRSA bzw. haMRSA (Hospital acquired)</a:t>
            </a:r>
            <a:endParaRPr b="0" lang="en-US" sz="1800" spc="-1" strike="noStrike">
              <a:solidFill>
                <a:srgbClr val="000000"/>
              </a:solidFill>
              <a:latin typeface="Times New Roman"/>
            </a:endParaRPr>
          </a:p>
          <a:p>
            <a:pPr lvl="1" marL="743040" indent="-285840">
              <a:lnSpc>
                <a:spcPct val="100000"/>
              </a:lnSpc>
              <a:spcBef>
                <a:spcPts val="400"/>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treten in Krankenhäusern &amp; Pflegeeinrichtungen, dort weit verbreitet</a:t>
            </a:r>
            <a:endParaRPr b="0" lang="en-US" sz="1600" spc="-1" strike="noStrike">
              <a:solidFill>
                <a:srgbClr val="000000"/>
              </a:solidFill>
              <a:latin typeface="Times New Roman"/>
            </a:endParaRPr>
          </a:p>
          <a:p>
            <a:pPr lvl="1" marL="743040" indent="-285840">
              <a:lnSpc>
                <a:spcPct val="100000"/>
              </a:lnSpc>
              <a:spcBef>
                <a:spcPts val="400"/>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ffinität zu chronischen Wunden, invasiven Zugängen, pflegebedürftigen, behinderten &amp; hinfälligen Personen</a:t>
            </a:r>
            <a:endParaRPr b="0" lang="en-US" sz="1600" spc="-1" strike="noStrike">
              <a:solidFill>
                <a:srgbClr val="000000"/>
              </a:solidFill>
              <a:latin typeface="Times New Roman"/>
            </a:endParaRPr>
          </a:p>
          <a:p>
            <a:pPr lvl="1" marL="743040" indent="-285840">
              <a:lnSpc>
                <a:spcPct val="100000"/>
              </a:lnSpc>
              <a:spcBef>
                <a:spcPts val="400"/>
              </a:spcBef>
              <a:buClr>
                <a:srgbClr val="cc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ursacht eher Kolonisationen als Infektionen</a:t>
            </a:r>
            <a:endParaRPr b="0" lang="en-US" sz="1600" spc="-1" strike="noStrike">
              <a:solidFill>
                <a:srgbClr val="000000"/>
              </a:solidFill>
              <a:latin typeface="Times New Roman"/>
            </a:endParaRPr>
          </a:p>
        </p:txBody>
      </p:sp>
      <p:sp>
        <p:nvSpPr>
          <p:cNvPr id="78" name=""/>
          <p:cNvSpPr/>
          <p:nvPr/>
        </p:nvSpPr>
        <p:spPr>
          <a:xfrm>
            <a:off x="457200" y="2421000"/>
            <a:ext cx="8686800" cy="178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e600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cMRSA bzw. caMRSA bzw. PVL-MRSA (Community acquired)</a:t>
            </a:r>
            <a:endParaRPr b="0" lang="en-US" sz="18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treten unabhängig von Kliniken innerhalb der Allgemeinbevölkerung mit Tendenz zum epidemischen Auftreten</a:t>
            </a:r>
            <a:endParaRPr b="0" lang="en-US" sz="16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Zusätzlicher Pathogenitätsfaktor: Panton-Valentine-Leukozidin = PVL</a:t>
            </a:r>
            <a:endParaRPr b="0" lang="en-US" sz="16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ann schwere Pneumonien und Abszesse verursachen</a:t>
            </a:r>
            <a:endParaRPr b="0" lang="en-US" sz="1600" spc="-1" strike="noStrike">
              <a:solidFill>
                <a:srgbClr val="000000"/>
              </a:solidFill>
              <a:latin typeface="Times New Roman"/>
            </a:endParaRPr>
          </a:p>
          <a:p>
            <a:pPr lvl="1" marL="765000" indent="-307800">
              <a:lnSpc>
                <a:spcPct val="100000"/>
              </a:lnSpc>
              <a:spcBef>
                <a:spcPts val="400"/>
              </a:spcBef>
              <a:spcAft>
                <a:spcPts val="601"/>
              </a:spcAft>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slang wenige Fälle in Deutschland</a:t>
            </a:r>
            <a:endParaRPr b="0" lang="en-US" sz="1600" spc="-1" strike="noStrike">
              <a:solidFill>
                <a:srgbClr val="000000"/>
              </a:solidFill>
              <a:latin typeface="Times New Roman"/>
            </a:endParaRPr>
          </a:p>
        </p:txBody>
      </p:sp>
      <p:sp>
        <p:nvSpPr>
          <p:cNvPr id="79" name=""/>
          <p:cNvSpPr/>
          <p:nvPr/>
        </p:nvSpPr>
        <p:spPr>
          <a:xfrm>
            <a:off x="468360" y="4292640"/>
            <a:ext cx="8686800" cy="98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e6002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1" lang="de-DE" sz="1800" spc="-1" strike="noStrike">
                <a:solidFill>
                  <a:srgbClr val="000000"/>
                </a:solidFill>
                <a:latin typeface="Arial"/>
              </a:rPr>
              <a:t>lMRSA bzw. lMRSA (livestock associated)</a:t>
            </a:r>
            <a:endParaRPr b="0" lang="en-US" sz="18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treten im Zusammenhang mit der Nutrztierhaltung (Schweine)</a:t>
            </a:r>
            <a:endParaRPr b="0" lang="en-US" sz="1600" spc="-1" strike="noStrike">
              <a:solidFill>
                <a:srgbClr val="000000"/>
              </a:solidFill>
              <a:latin typeface="Times New Roman"/>
            </a:endParaRPr>
          </a:p>
          <a:p>
            <a:pPr lvl="1" marL="765000" indent="-307800">
              <a:lnSpc>
                <a:spcPct val="100000"/>
              </a:lnSpc>
              <a:spcBef>
                <a:spcPts val="400"/>
              </a:spcBef>
              <a:buClr>
                <a:srgbClr val="e600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genschaften ähnlich wie hMRSA</a:t>
            </a:r>
            <a:endParaRPr b="0" lang="en-US" sz="1600" spc="-1" strike="noStrike">
              <a:solidFill>
                <a:srgbClr val="000000"/>
              </a:solidFill>
              <a:latin typeface="Times New Roman"/>
            </a:endParaRPr>
          </a:p>
        </p:txBody>
      </p:sp>
    </p:spTree>
  </p:cSld>
  <p:transition>
    <p:zoom dir="out"/>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78"/>
                                        </p:tgtEl>
                                        <p:attrNameLst>
                                          <p:attrName>style.visibility</p:attrName>
                                        </p:attrNameLst>
                                      </p:cBhvr>
                                      <p:to>
                                        <p:strVal val="visible"/>
                                      </p:to>
                                    </p:set>
                                    <p:anim calcmode="lin" valueType="num">
                                      <p:cBhvr additive="base">
                                        <p:cTn id="44" dur="500" fill="hold"/>
                                        <p:tgtEl>
                                          <p:spTgt spid="78"/>
                                        </p:tgtEl>
                                        <p:attrNameLst>
                                          <p:attrName>ppt_x</p:attrName>
                                        </p:attrNameLst>
                                      </p:cBhvr>
                                      <p:tavLst>
                                        <p:tav tm="0">
                                          <p:val>
                                            <p:strVal val="#ppt_x"/>
                                          </p:val>
                                        </p:tav>
                                        <p:tav tm="100000">
                                          <p:val>
                                            <p:strVal val="#ppt_x"/>
                                          </p:val>
                                        </p:tav>
                                      </p:tavLst>
                                    </p:anim>
                                    <p:anim calcmode="lin" valueType="num">
                                      <p:cBhvr additive="base">
                                        <p:cTn id="45"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79"/>
                                        </p:tgtEl>
                                        <p:attrNameLst>
                                          <p:attrName>style.visibility</p:attrName>
                                        </p:attrNameLst>
                                      </p:cBhvr>
                                      <p:to>
                                        <p:strVal val="visible"/>
                                      </p:to>
                                    </p:set>
                                    <p:anim calcmode="lin" valueType="num">
                                      <p:cBhvr additive="base">
                                        <p:cTn id="50" dur="500" fill="hold"/>
                                        <p:tgtEl>
                                          <p:spTgt spid="79"/>
                                        </p:tgtEl>
                                        <p:attrNameLst>
                                          <p:attrName>ppt_x</p:attrName>
                                        </p:attrNameLst>
                                      </p:cBhvr>
                                      <p:tavLst>
                                        <p:tav tm="0">
                                          <p:val>
                                            <p:strVal val="#ppt_x"/>
                                          </p:val>
                                        </p:tav>
                                        <p:tav tm="100000">
                                          <p:val>
                                            <p:strVal val="#ppt_x"/>
                                          </p:val>
                                        </p:tav>
                                      </p:tavLst>
                                    </p:anim>
                                    <p:anim calcmode="lin" valueType="num">
                                      <p:cBhvr additive="base">
                                        <p:cTn id="51"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76"/>
                                        </p:tgtEl>
                                        <p:attrNameLst>
                                          <p:attrName>style.visibility</p:attrName>
                                        </p:attrNameLst>
                                      </p:cBhvr>
                                      <p:to>
                                        <p:strVal val="visible"/>
                                      </p:to>
                                    </p:set>
                                    <p:animEffect filter="dissolve" transition="in">
                                      <p:cBhvr additive="repl">
                                        <p:cTn id="56" dur="500"/>
                                        <p:tgtEl>
                                          <p:spTgt spid="7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5">
                                  <p:stCondLst>
                                    <p:cond delay="0"/>
                                  </p:stCondLst>
                                  <p:childTnLst>
                                    <p:set>
                                      <p:cBhvr>
                                        <p:cTn id="60" dur="1" fill="hold">
                                          <p:stCondLst>
                                            <p:cond delay="0"/>
                                          </p:stCondLst>
                                        </p:cTn>
                                        <p:tgtEl>
                                          <p:spTgt spid="73"/>
                                        </p:tgtEl>
                                        <p:attrNameLst>
                                          <p:attrName>style.visibility</p:attrName>
                                        </p:attrNameLst>
                                      </p:cBhvr>
                                      <p:to>
                                        <p:strVal val="visible"/>
                                      </p:to>
                                    </p:set>
                                    <p:animEffect filter="blinds(vertical)" transition="in">
                                      <p:cBhvr additive="repl">
                                        <p:cTn id="61"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breitung von MRSA</a:t>
            </a:r>
            <a:endParaRPr b="0" lang="en-US" sz="2400" spc="-1" strike="noStrike">
              <a:solidFill>
                <a:srgbClr val="000000"/>
              </a:solidFill>
              <a:latin typeface="Times New Roman"/>
            </a:endParaRPr>
          </a:p>
        </p:txBody>
      </p:sp>
      <p:sp>
        <p:nvSpPr>
          <p:cNvPr id="81"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82" name=""/>
          <p:cNvSpPr/>
          <p:nvPr/>
        </p:nvSpPr>
        <p:spPr>
          <a:xfrm>
            <a:off x="2438280" y="1828800"/>
            <a:ext cx="4191120" cy="3505320"/>
          </a:xfrm>
          <a:prstGeom prst="triangle">
            <a:avLst>
              <a:gd name="adj" fmla="val 50000"/>
            </a:avLst>
          </a:prstGeom>
          <a:solidFill>
            <a:srgbClr val="ffff66"/>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041360" y="3962520"/>
            <a:ext cx="10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RSA</a:t>
            </a:r>
            <a:endParaRPr b="0" lang="en-US" sz="2400" spc="-1" strike="noStrike">
              <a:solidFill>
                <a:srgbClr val="000000"/>
              </a:solidFill>
              <a:latin typeface="Times New Roman"/>
            </a:endParaRPr>
          </a:p>
        </p:txBody>
      </p:sp>
      <p:grpSp>
        <p:nvGrpSpPr>
          <p:cNvPr id="84" name=""/>
          <p:cNvGrpSpPr/>
          <p:nvPr/>
        </p:nvGrpSpPr>
        <p:grpSpPr>
          <a:xfrm>
            <a:off x="3276720" y="762120"/>
            <a:ext cx="2590560" cy="2819160"/>
            <a:chOff x="3276720" y="762120"/>
            <a:chExt cx="2590560" cy="2819160"/>
          </a:xfrm>
        </p:grpSpPr>
        <p:sp>
          <p:nvSpPr>
            <p:cNvPr id="85" name=""/>
            <p:cNvSpPr/>
            <p:nvPr/>
          </p:nvSpPr>
          <p:spPr>
            <a:xfrm>
              <a:off x="3276720" y="990720"/>
              <a:ext cx="2590560" cy="25905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rankenhäuser</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ha-Klinik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enpflegeeinrichtung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hinderteneinrichtung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rztpraxen</a:t>
              </a:r>
              <a:endParaRPr b="0" lang="en-US" sz="1600" spc="-1" strike="noStrike">
                <a:solidFill>
                  <a:srgbClr val="000000"/>
                </a:solidFill>
                <a:latin typeface="Times New Roman"/>
              </a:endParaRPr>
            </a:p>
          </p:txBody>
        </p:sp>
        <p:sp>
          <p:nvSpPr>
            <p:cNvPr id="86" name=""/>
            <p:cNvSpPr/>
            <p:nvPr/>
          </p:nvSpPr>
          <p:spPr>
            <a:xfrm>
              <a:off x="3504960" y="762120"/>
              <a:ext cx="21333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Drehscheiben“</a:t>
              </a:r>
              <a:endParaRPr b="0" lang="en-US" sz="1800" spc="-1" strike="noStrike">
                <a:solidFill>
                  <a:srgbClr val="000000"/>
                </a:solidFill>
                <a:latin typeface="Times New Roman"/>
              </a:endParaRPr>
            </a:p>
          </p:txBody>
        </p:sp>
      </p:grpSp>
      <p:grpSp>
        <p:nvGrpSpPr>
          <p:cNvPr id="87" name=""/>
          <p:cNvGrpSpPr/>
          <p:nvPr/>
        </p:nvGrpSpPr>
        <p:grpSpPr>
          <a:xfrm>
            <a:off x="1447920" y="3886200"/>
            <a:ext cx="2590560" cy="2819520"/>
            <a:chOff x="1447920" y="3886200"/>
            <a:chExt cx="2590560" cy="2819520"/>
          </a:xfrm>
        </p:grpSpPr>
        <p:sp>
          <p:nvSpPr>
            <p:cNvPr id="88" name=""/>
            <p:cNvSpPr/>
            <p:nvPr/>
          </p:nvSpPr>
          <p:spPr>
            <a:xfrm>
              <a:off x="1447920" y="3886200"/>
              <a:ext cx="2590560" cy="25909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ohes Alter</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munschwäche</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offwechselerkrg.</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derholte Antibiose</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vasive Zugänge</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hronische Wund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auterkrg.</a:t>
              </a:r>
              <a:endParaRPr b="0" lang="en-US" sz="1600" spc="-1" strike="noStrike">
                <a:solidFill>
                  <a:srgbClr val="000000"/>
                </a:solidFill>
                <a:latin typeface="Times New Roman"/>
              </a:endParaRPr>
            </a:p>
          </p:txBody>
        </p:sp>
        <p:sp>
          <p:nvSpPr>
            <p:cNvPr id="89" name=""/>
            <p:cNvSpPr/>
            <p:nvPr/>
          </p:nvSpPr>
          <p:spPr>
            <a:xfrm>
              <a:off x="1676160" y="6324480"/>
              <a:ext cx="2133360" cy="3812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siken</a:t>
              </a:r>
              <a:endParaRPr b="0" lang="en-US" sz="1800" spc="-1" strike="noStrike">
                <a:solidFill>
                  <a:srgbClr val="000000"/>
                </a:solidFill>
                <a:latin typeface="Times New Roman"/>
              </a:endParaRPr>
            </a:p>
          </p:txBody>
        </p:sp>
      </p:grpSp>
      <p:grpSp>
        <p:nvGrpSpPr>
          <p:cNvPr id="90" name=""/>
          <p:cNvGrpSpPr/>
          <p:nvPr/>
        </p:nvGrpSpPr>
        <p:grpSpPr>
          <a:xfrm>
            <a:off x="5105520" y="3886200"/>
            <a:ext cx="2590560" cy="2819520"/>
            <a:chOff x="5105520" y="3886200"/>
            <a:chExt cx="2590560" cy="2819520"/>
          </a:xfrm>
        </p:grpSpPr>
        <p:sp>
          <p:nvSpPr>
            <p:cNvPr id="91" name=""/>
            <p:cNvSpPr/>
            <p:nvPr/>
          </p:nvSpPr>
          <p:spPr>
            <a:xfrm>
              <a:off x="5105520" y="3886200"/>
              <a:ext cx="2590560" cy="25909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chführung invasiver</a:t>
              </a:r>
              <a:br>
                <a:rPr sz="1600"/>
              </a:br>
              <a:r>
                <a:rPr b="0" lang="de-DE" sz="1600" spc="-1" strike="noStrike">
                  <a:solidFill>
                    <a:srgbClr val="000000"/>
                  </a:solidFill>
                  <a:latin typeface="Arial"/>
                </a:rPr>
                <a:t>Maßnahmen</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e zu Personen</a:t>
              </a:r>
              <a:br>
                <a:rPr sz="1600"/>
              </a:br>
              <a:r>
                <a:rPr b="0" lang="de-DE" sz="1600" spc="-1" strike="noStrike">
                  <a:solidFill>
                    <a:srgbClr val="000000"/>
                  </a:solidFill>
                  <a:latin typeface="Arial"/>
                </a:rPr>
                <a:t>mit MRSA</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ntakte mit kontami-</a:t>
              </a:r>
              <a:br>
                <a:rPr sz="1600"/>
              </a:br>
              <a:r>
                <a:rPr b="0" lang="de-DE" sz="1600" spc="-1" strike="noStrike">
                  <a:solidFill>
                    <a:srgbClr val="000000"/>
                  </a:solidFill>
                  <a:latin typeface="Arial"/>
                </a:rPr>
                <a:t>nierten Materialien</a:t>
              </a:r>
              <a:endParaRPr b="0" lang="en-US" sz="1600" spc="-1" strike="noStrike">
                <a:solidFill>
                  <a:srgbClr val="000000"/>
                </a:solidFill>
                <a:latin typeface="Times New Roman"/>
              </a:endParaRPr>
            </a:p>
          </p:txBody>
        </p:sp>
        <p:sp>
          <p:nvSpPr>
            <p:cNvPr id="92" name=""/>
            <p:cNvSpPr/>
            <p:nvPr/>
          </p:nvSpPr>
          <p:spPr>
            <a:xfrm>
              <a:off x="5333760" y="6324480"/>
              <a:ext cx="2133360" cy="3812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Übertragungen</a:t>
              </a:r>
              <a:endParaRPr b="0" lang="en-US" sz="1800" spc="-1" strike="noStrike">
                <a:solidFill>
                  <a:srgbClr val="000000"/>
                </a:solidFill>
                <a:latin typeface="Times New Roman"/>
              </a:endParaRPr>
            </a:p>
          </p:txBody>
        </p:sp>
      </p:grpSp>
    </p:spTree>
  </p:cSld>
  <p:transition>
    <p:zoom dir="out"/>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 presetSubtype="5">
                                  <p:stCondLst>
                                    <p:cond delay="0"/>
                                  </p:stCondLst>
                                  <p:childTnLst>
                                    <p:set>
                                      <p:cBhvr>
                                        <p:cTn id="67" dur="1" fill="hold">
                                          <p:stCondLst>
                                            <p:cond delay="0"/>
                                          </p:stCondLst>
                                        </p:cTn>
                                        <p:tgtEl>
                                          <p:spTgt spid="87"/>
                                        </p:tgtEl>
                                        <p:attrNameLst>
                                          <p:attrName>style.visibility</p:attrName>
                                        </p:attrNameLst>
                                      </p:cBhvr>
                                      <p:to>
                                        <p:strVal val="visible"/>
                                      </p:to>
                                    </p:set>
                                    <p:animEffect filter="blinds(vertical)" transition="in">
                                      <p:cBhvr additive="repl">
                                        <p:cTn id="68" dur="500"/>
                                        <p:tgtEl>
                                          <p:spTgt spid="87"/>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5">
                                  <p:stCondLst>
                                    <p:cond delay="0"/>
                                  </p:stCondLst>
                                  <p:childTnLst>
                                    <p:set>
                                      <p:cBhvr>
                                        <p:cTn id="72" dur="1" fill="hold">
                                          <p:stCondLst>
                                            <p:cond delay="0"/>
                                          </p:stCondLst>
                                        </p:cTn>
                                        <p:tgtEl>
                                          <p:spTgt spid="90"/>
                                        </p:tgtEl>
                                        <p:attrNameLst>
                                          <p:attrName>style.visibility</p:attrName>
                                        </p:attrNameLst>
                                      </p:cBhvr>
                                      <p:to>
                                        <p:strVal val="visible"/>
                                      </p:to>
                                    </p:set>
                                    <p:animEffect filter="blinds(vertical)" transition="in">
                                      <p:cBhvr additive="repl">
                                        <p:cTn id="73" dur="500"/>
                                        <p:tgtEl>
                                          <p:spTgt spid="90"/>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84"/>
                                        </p:tgtEl>
                                        <p:attrNameLst>
                                          <p:attrName>style.visibility</p:attrName>
                                        </p:attrNameLst>
                                      </p:cBhvr>
                                      <p:to>
                                        <p:strVal val="visible"/>
                                      </p:to>
                                    </p:set>
                                    <p:animEffect filter="blinds(vertical)" transition="in">
                                      <p:cBhvr additive="repl">
                                        <p:cTn id="78"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RSA im Pflegeheim</a:t>
            </a:r>
            <a:endParaRPr b="0" lang="en-US" sz="2400" spc="-1" strike="noStrike">
              <a:solidFill>
                <a:srgbClr val="000000"/>
              </a:solidFill>
              <a:latin typeface="Times New Roman"/>
            </a:endParaRPr>
          </a:p>
        </p:txBody>
      </p:sp>
      <p:sp>
        <p:nvSpPr>
          <p:cNvPr id="94"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95" name=""/>
          <p:cNvSpPr/>
          <p:nvPr/>
        </p:nvSpPr>
        <p:spPr>
          <a:xfrm>
            <a:off x="253440" y="914400"/>
            <a:ext cx="7455960" cy="196668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usgangssituation:</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ke Zunahme von MRSA und anderen multiresistenten Infektionserreger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leimhäute (Nase) und Haut können unerkannt kolonisiert sei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Übertragung sind im Zuge medizinisch-pflegerischer Kontakte leicht möglich.</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ist lediglich Kolonisation, d.h. keine Erkrankung, sondern nur Besiedelung.</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ringes Problem im privaten Rahmen, großes Problem im klinischen Bereich.</a:t>
            </a:r>
            <a:endParaRPr b="0" lang="en-US" sz="1600" spc="-1" strike="noStrike">
              <a:solidFill>
                <a:srgbClr val="000000"/>
              </a:solidFill>
              <a:latin typeface="Times New Roman"/>
            </a:endParaRPr>
          </a:p>
        </p:txBody>
      </p:sp>
      <p:sp>
        <p:nvSpPr>
          <p:cNvPr id="96" name=""/>
          <p:cNvSpPr/>
          <p:nvPr/>
        </p:nvSpPr>
        <p:spPr>
          <a:xfrm>
            <a:off x="265680" y="2967120"/>
            <a:ext cx="8266680" cy="22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cc"/>
                </a:solidFill>
                <a:latin typeface="Arial"/>
              </a:rPr>
              <a:t>Unterschiede Krankenhaus / Alten- und Pflegeheim:</a:t>
            </a:r>
            <a:endParaRPr b="0" lang="en-US" sz="18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imvertrag statt Behandlungsvertrag.</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angzeitiges pflegerisch betreutes Wohnen statt kurzfristige medizinische Interventio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Erleben von Gemeinschaft, das Pflegen sozialer Kontakte und die körperliche Nähe</a:t>
            </a:r>
            <a:br>
              <a:rPr sz="1600"/>
            </a:br>
            <a:r>
              <a:rPr b="0" lang="de-DE" sz="1600" spc="-1" strike="noStrike">
                <a:solidFill>
                  <a:srgbClr val="000000"/>
                </a:solidFill>
                <a:latin typeface="Arial"/>
              </a:rPr>
              <a:t>   gehört zum konzeptionellen Selbstverständnis von Behinderteneinrichtun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dere Abrechenbarkeit medizinischer Leistungen.</a:t>
            </a:r>
            <a:endParaRPr b="0" lang="en-US" sz="1600" spc="-1" strike="noStrike">
              <a:solidFill>
                <a:srgbClr val="000000"/>
              </a:solidFill>
              <a:latin typeface="Times New Roman"/>
            </a:endParaRPr>
          </a:p>
          <a:p>
            <a:pPr>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t ärztliches Behandlungsteam verschiedene Hausärzte.</a:t>
            </a:r>
            <a:endParaRPr b="0" lang="en-US" sz="1600" spc="-1" strike="noStrike">
              <a:solidFill>
                <a:srgbClr val="000000"/>
              </a:solidFill>
              <a:latin typeface="Times New Roman"/>
            </a:endParaRPr>
          </a:p>
        </p:txBody>
      </p:sp>
      <p:sp>
        <p:nvSpPr>
          <p:cNvPr id="97" name=""/>
          <p:cNvSpPr/>
          <p:nvPr/>
        </p:nvSpPr>
        <p:spPr>
          <a:xfrm>
            <a:off x="848880" y="5751360"/>
            <a:ext cx="75430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ei MRSA sind in Pflegeheimen andere Hygienemaßnahme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ls im Krankenhaus angemessen und notwendig .</a:t>
            </a:r>
            <a:endParaRPr b="0" lang="en-US" sz="2000" spc="-1" strike="noStrike">
              <a:solidFill>
                <a:srgbClr val="000000"/>
              </a:solidFill>
              <a:latin typeface="Times New Roman"/>
            </a:endParaRPr>
          </a:p>
        </p:txBody>
      </p:sp>
    </p:spTree>
  </p:cSld>
  <p:transition>
    <p:zoom dir="out"/>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3" presetSubtype="5">
                                  <p:stCondLst>
                                    <p:cond delay="0"/>
                                  </p:stCondLst>
                                  <p:childTnLst>
                                    <p:set>
                                      <p:cBhvr>
                                        <p:cTn id="84" dur="1" fill="hold">
                                          <p:stCondLst>
                                            <p:cond delay="0"/>
                                          </p:stCondLst>
                                        </p:cTn>
                                        <p:tgtEl>
                                          <p:spTgt spid="96"/>
                                        </p:tgtEl>
                                        <p:attrNameLst>
                                          <p:attrName>style.visibility</p:attrName>
                                        </p:attrNameLst>
                                      </p:cBhvr>
                                      <p:to>
                                        <p:strVal val="visible"/>
                                      </p:to>
                                    </p:set>
                                    <p:animEffect filter="blinds(vertical)" transition="in">
                                      <p:cBhvr additive="repl">
                                        <p:cTn id="85" dur="500"/>
                                        <p:tgtEl>
                                          <p:spTgt spid="9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5">
                                  <p:stCondLst>
                                    <p:cond delay="0"/>
                                  </p:stCondLst>
                                  <p:childTnLst>
                                    <p:set>
                                      <p:cBhvr>
                                        <p:cTn id="89" dur="1" fill="hold">
                                          <p:stCondLst>
                                            <p:cond delay="0"/>
                                          </p:stCondLst>
                                        </p:cTn>
                                        <p:tgtEl>
                                          <p:spTgt spid="97"/>
                                        </p:tgtEl>
                                        <p:attrNameLst>
                                          <p:attrName>style.visibility</p:attrName>
                                        </p:attrNameLst>
                                      </p:cBhvr>
                                      <p:to>
                                        <p:strVal val="visible"/>
                                      </p:to>
                                    </p:set>
                                    <p:animEffect filter="blinds(vertical)" transition="in">
                                      <p:cBhvr additive="repl">
                                        <p:cTn id="90"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elwerke zu MRSA im Pflegeheim</a:t>
            </a:r>
            <a:endParaRPr b="0" lang="en-US" sz="2400" spc="-1" strike="noStrike">
              <a:solidFill>
                <a:srgbClr val="000000"/>
              </a:solidFill>
              <a:latin typeface="Times New Roman"/>
            </a:endParaRPr>
          </a:p>
        </p:txBody>
      </p:sp>
      <p:sp>
        <p:nvSpPr>
          <p:cNvPr id="99"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00" name=""/>
          <p:cNvSpPr/>
          <p:nvPr/>
        </p:nvSpPr>
        <p:spPr>
          <a:xfrm>
            <a:off x="3348000" y="2459160"/>
            <a:ext cx="5545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mpfehlung zur Prävention und Kontrolle von MRSA in Krankenhäusern und anderen medizinischen Einrichtung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nfektionsprävention in Heimen“</a:t>
            </a:r>
            <a:endParaRPr b="0" lang="en-US" sz="2000" spc="-1" strike="noStrike">
              <a:solidFill>
                <a:srgbClr val="000000"/>
              </a:solidFill>
              <a:latin typeface="Times New Roman"/>
            </a:endParaRPr>
          </a:p>
        </p:txBody>
      </p:sp>
      <p:pic>
        <p:nvPicPr>
          <p:cNvPr id="101" name="" descr=""/>
          <p:cNvPicPr/>
          <p:nvPr/>
        </p:nvPicPr>
        <p:blipFill>
          <a:blip r:embed="rId1"/>
          <a:stretch/>
        </p:blipFill>
        <p:spPr>
          <a:xfrm>
            <a:off x="304920" y="1457280"/>
            <a:ext cx="2595600" cy="312408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057400" y="0"/>
            <a:ext cx="7086600" cy="609480"/>
          </a:xfrm>
          <a:prstGeom prst="rect">
            <a:avLst/>
          </a:prstGeom>
          <a:solidFill>
            <a:srgbClr val="cccc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ßnahmen bei MRSA im Pflegeheim</a:t>
            </a:r>
            <a:endParaRPr b="0" lang="en-US" sz="2400" spc="-1" strike="noStrike">
              <a:solidFill>
                <a:srgbClr val="000000"/>
              </a:solidFill>
              <a:latin typeface="Times New Roman"/>
            </a:endParaRPr>
          </a:p>
        </p:txBody>
      </p:sp>
      <p:sp>
        <p:nvSpPr>
          <p:cNvPr id="103" name=""/>
          <p:cNvSpPr/>
          <p:nvPr/>
        </p:nvSpPr>
        <p:spPr>
          <a:xfrm>
            <a:off x="3240" y="0"/>
            <a:ext cx="2054160" cy="609480"/>
          </a:xfrm>
          <a:prstGeom prst="rect">
            <a:avLst/>
          </a:prstGeom>
          <a:solidFill>
            <a:srgbClr val="3333cc"/>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RSA</a:t>
            </a:r>
            <a:endParaRPr b="0" lang="en-US" sz="2000" spc="-1" strike="noStrike">
              <a:solidFill>
                <a:srgbClr val="000000"/>
              </a:solidFill>
              <a:latin typeface="Times New Roman"/>
            </a:endParaRPr>
          </a:p>
        </p:txBody>
      </p:sp>
      <p:sp>
        <p:nvSpPr>
          <p:cNvPr id="104" name=""/>
          <p:cNvSpPr/>
          <p:nvPr/>
        </p:nvSpPr>
        <p:spPr>
          <a:xfrm>
            <a:off x="964800" y="5319720"/>
            <a:ext cx="7461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ei verlässlicher Einhaltung der Basishygie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begrenzt sich die spezielle Hygiene auf wenige Maßnahmen.</a:t>
            </a:r>
            <a:endParaRPr b="0" lang="en-US" sz="2000" spc="-1" strike="noStrike">
              <a:solidFill>
                <a:srgbClr val="000000"/>
              </a:solidFill>
              <a:latin typeface="Times New Roman"/>
            </a:endParaRPr>
          </a:p>
        </p:txBody>
      </p:sp>
      <p:grpSp>
        <p:nvGrpSpPr>
          <p:cNvPr id="105" name=""/>
          <p:cNvGrpSpPr/>
          <p:nvPr/>
        </p:nvGrpSpPr>
        <p:grpSpPr>
          <a:xfrm>
            <a:off x="609480" y="969840"/>
            <a:ext cx="8405280" cy="1577880"/>
            <a:chOff x="609480" y="969840"/>
            <a:chExt cx="8405280" cy="1577880"/>
          </a:xfrm>
        </p:grpSpPr>
        <p:sp>
          <p:nvSpPr>
            <p:cNvPr id="106" name=""/>
            <p:cNvSpPr/>
            <p:nvPr/>
          </p:nvSpPr>
          <p:spPr>
            <a:xfrm>
              <a:off x="2226240" y="969840"/>
              <a:ext cx="6788520" cy="132732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llgemeine Maßnahmen (Basishygiene)</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lhygiene. </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mgebungshygien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ygienegerechte Durchführung medizinisch-pflegerischer Maßnahmen.</a:t>
              </a:r>
              <a:endParaRPr b="0" lang="en-US" sz="1600" spc="-1" strike="noStrike">
                <a:solidFill>
                  <a:srgbClr val="000000"/>
                </a:solidFill>
                <a:latin typeface="Times New Roman"/>
              </a:endParaRPr>
            </a:p>
          </p:txBody>
        </p:sp>
        <p:sp>
          <p:nvSpPr>
            <p:cNvPr id="107" name=""/>
            <p:cNvSpPr/>
            <p:nvPr/>
          </p:nvSpPr>
          <p:spPr>
            <a:xfrm>
              <a:off x="609480" y="990720"/>
              <a:ext cx="1143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cc"/>
                  </a:solidFill>
                  <a:latin typeface="Wingdings"/>
                  <a:ea typeface="Wingdings"/>
                </a:rPr>
                <a:t></a:t>
              </a:r>
              <a:r>
                <a:rPr b="0" lang="en-US" sz="9600" spc="-1" strike="noStrike">
                  <a:solidFill>
                    <a:srgbClr val="000000"/>
                  </a:solidFill>
                  <a:latin typeface="Arial"/>
                </a:rPr>
                <a:t> </a:t>
              </a:r>
              <a:endParaRPr b="0" lang="en-US" sz="9600" spc="-1" strike="noStrike">
                <a:solidFill>
                  <a:srgbClr val="000000"/>
                </a:solidFill>
                <a:latin typeface="Times New Roman"/>
              </a:endParaRPr>
            </a:p>
          </p:txBody>
        </p:sp>
      </p:grpSp>
      <p:grpSp>
        <p:nvGrpSpPr>
          <p:cNvPr id="108" name=""/>
          <p:cNvGrpSpPr/>
          <p:nvPr/>
        </p:nvGrpSpPr>
        <p:grpSpPr>
          <a:xfrm>
            <a:off x="687960" y="2406600"/>
            <a:ext cx="6669000" cy="2318040"/>
            <a:chOff x="687960" y="2406600"/>
            <a:chExt cx="6669000" cy="2318040"/>
          </a:xfrm>
        </p:grpSpPr>
        <p:sp>
          <p:nvSpPr>
            <p:cNvPr id="109" name=""/>
            <p:cNvSpPr/>
            <p:nvPr/>
          </p:nvSpPr>
          <p:spPr>
            <a:xfrm>
              <a:off x="2037960" y="2438280"/>
              <a:ext cx="5319000" cy="2286360"/>
            </a:xfrm>
            <a:prstGeom prst="rect">
              <a:avLst/>
            </a:prstGeom>
            <a:noFill/>
            <a:ln w="0">
              <a:noFill/>
            </a:ln>
          </p:spPr>
          <p:style>
            <a:lnRef idx="0"/>
            <a:fillRef idx="0"/>
            <a:effectRef idx="0"/>
            <a:fontRef idx="minor"/>
          </p:style>
          <p:txBody>
            <a:bodyPr wrap="none" lIns="90000" rIns="90000" tIns="46800" bIns="46800" anchor="t">
              <a:spAutoFit/>
            </a:bodyPr>
            <a:p>
              <a:pPr marL="187200" indent="-18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66"/>
                  </a:solidFill>
                  <a:latin typeface="Arial"/>
                </a:rPr>
                <a:t>Zusätzliche Maßnahmen (spezielle Hygiene)</a:t>
              </a:r>
              <a:endParaRPr b="0" lang="en-US" sz="18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cherung des Informationsflusses</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hgerechte Unterbringung von MRSA-Träger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sivierung der Personalhygiene</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nsivierung der Desinfektionsmaßnahmen</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mittlung und Kontrolle von MRSA</a:t>
              </a:r>
              <a:endParaRPr b="0" lang="en-US" sz="1600" spc="-1" strike="noStrike">
                <a:solidFill>
                  <a:srgbClr val="000000"/>
                </a:solidFill>
                <a:latin typeface="Times New Roman"/>
              </a:endParaRPr>
            </a:p>
            <a:p>
              <a:pPr marL="187200" indent="-18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nierung und Therapie von MRSA-Trägern</a:t>
              </a:r>
              <a:endParaRPr b="0" lang="en-US" sz="1600" spc="-1" strike="noStrike">
                <a:solidFill>
                  <a:srgbClr val="000000"/>
                </a:solidFill>
                <a:latin typeface="Times New Roman"/>
              </a:endParaRPr>
            </a:p>
          </p:txBody>
        </p:sp>
        <p:sp>
          <p:nvSpPr>
            <p:cNvPr id="110" name=""/>
            <p:cNvSpPr/>
            <p:nvPr/>
          </p:nvSpPr>
          <p:spPr>
            <a:xfrm>
              <a:off x="687960" y="2406600"/>
              <a:ext cx="8924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9966"/>
                  </a:solidFill>
                  <a:latin typeface="Arial"/>
                </a:rPr>
                <a:t>+</a:t>
              </a:r>
              <a:endParaRPr b="0" lang="en-US" sz="9600" spc="-1" strike="noStrike">
                <a:solidFill>
                  <a:srgbClr val="000000"/>
                </a:solidFill>
                <a:latin typeface="Times New Roman"/>
              </a:endParaRPr>
            </a:p>
          </p:txBody>
        </p:sp>
      </p:grpSp>
    </p:spTree>
  </p:cSld>
  <p:transition>
    <p:zoom dir="out"/>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08"/>
                                        </p:tgtEl>
                                        <p:attrNameLst>
                                          <p:attrName>style.visibility</p:attrName>
                                        </p:attrNameLst>
                                      </p:cBhvr>
                                      <p:to>
                                        <p:strVal val="visible"/>
                                      </p:to>
                                    </p:set>
                                    <p:animEffect filter="blinds(vertical)" transition="in">
                                      <p:cBhvr additive="repl">
                                        <p:cTn id="97" dur="500"/>
                                        <p:tgtEl>
                                          <p:spTgt spid="10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5">
                                  <p:stCondLst>
                                    <p:cond delay="0"/>
                                  </p:stCondLst>
                                  <p:childTnLst>
                                    <p:set>
                                      <p:cBhvr>
                                        <p:cTn id="101" dur="1" fill="hold">
                                          <p:stCondLst>
                                            <p:cond delay="0"/>
                                          </p:stCondLst>
                                        </p:cTn>
                                        <p:tgtEl>
                                          <p:spTgt spid="104"/>
                                        </p:tgtEl>
                                        <p:attrNameLst>
                                          <p:attrName>style.visibility</p:attrName>
                                        </p:attrNameLst>
                                      </p:cBhvr>
                                      <p:to>
                                        <p:strVal val="visible"/>
                                      </p:to>
                                    </p:set>
                                    <p:animEffect filter="blinds(vertical)" transition="in">
                                      <p:cBhvr additive="repl">
                                        <p:cTn id="10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1T08:41:23Z</dcterms:created>
  <dc:creator>Fam. Bergen</dc:creator>
  <dc:description/>
  <dc:language>en-US</dc:language>
  <cp:lastModifiedBy>peter.bergen</cp:lastModifiedBy>
  <dcterms:modified xsi:type="dcterms:W3CDTF">2012-02-16T15:31:46Z</dcterms:modified>
  <cp:revision>48</cp:revision>
  <dc:subject/>
  <dc:title>Kein Folientitel</dc:title>
</cp:coreProperties>
</file>