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DBD499-61D9-4998-94AB-2020E47C9764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20 – 30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eldeform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Noro-wirksames Hände- und Flächen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Eimer und Lap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atratz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2E5-6514-4280-9880-73D44D0C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A71-8EA9-4501-AE95-6F2C11B6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680-89E6-495F-B756-9FF9FDAA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8CE-F511-4187-9148-6D534763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3DE-7005-4B33-9DFC-89365428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193-BE1F-48E1-97FF-564BFAB8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E80-AAE8-4647-B949-21DCE352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3E2-A941-4F41-80F1-9DA5AEE8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65A-E7D0-4855-8ABF-1BAD7162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6B7-6AA3-4CA6-9251-25DB2C02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E5D-4464-43AA-AE81-473A663B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CF1-41E9-4DB4-8543-1160957D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262B-0792-4464-989D-1BE4B2602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9720" y="1112760"/>
            <a:ext cx="63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arnwegsinfektion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46520" y="2595600"/>
            <a:ext cx="691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legen transurethraler Kat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Ableitungs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12920"/>
            <a:ext cx="85075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KI-Empfe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en zur Prävention und Kontrolle Katheter-assoziierter Harnwegsinfektion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linie des Arbeitskreises „Krankenhaus- und Praxishygiene“ beim AW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Harndrainag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s Ärzteblatt Heft 4 /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drainage der Harnblase heut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 zugängliche Durchführungsstandards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90792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urin ist stets als kontaminiert anzusehen. Jede Manipulation an der Harnröhrenöffnung, dem Katheter oder dem Ableitungssystem birgt die Gefahr einer Keimübertragung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gienische Händedesinfe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dem Einlegen vo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Manipulationen am Katheter, Ableitungssystem oder Geni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jedem Kontakt mit Urin oder potentiell kontaminierten Gegenstä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dem Gebrauch von Schutzhandschu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möglichem Kontakt mit Urin, Genitale, Katheter und Ableitungssystem (Intimpflege, Entleeren des Beutels, Entfernen des Katheters, Urinentnahm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rile 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allen aseptisch durchzuführenden Maßnahmen (Einlegen oder Wechseln des Katheters, Verband an Insertionsstell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kittel bei Vorhandensein multiresistenter Err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847800"/>
            <a:ext cx="4267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messer gemäß Harnröhrenöffnung (Arz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texkatheter bei Verweildauer &lt; 5 Tage und Ausschluss von Latexallerg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ikonkatheter bei Verweildauer &gt; 5 Tage oder bei bestehender Latexall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ve Wirkung von beschichteten Kathetern ist nicht ausreichend b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terile, geschlossene Syste-me verwenden; bei Stundenurin mit Messvorrich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obilen Pat. Beinbeutel bzw. Tag- und Nachtbeutel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immobilen Bettbe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Beinbeutel Anschlussbeutel und Fixierung notwend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781360"/>
          <a:ext cx="4133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133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1773360"/>
          <a:ext cx="410508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4105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52000" y="1773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000" y="2781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" y="63244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© Fa. Asid Bonz   ** © Fa. Rü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387828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195640" y="3733920"/>
            <a:ext cx="2303280" cy="180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000" y="38908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2360" y="3878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ien zum Legen transurethraler 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12920"/>
            <a:ext cx="46479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ien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tientenunterlage (Bettschu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ntiseptik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bwurfbeu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Katheter / Ablei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2 Paar sterile Handsch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Sterile Unterlage (für sterile Fl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Abdecktuch (Sicherung der Asep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4 – 6 Rolltupfer (Dek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Gleitmittel (z.B. Tube mit Aufsa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1 Spritze mit Blockiermittel (steriles Wasser-Glycerin-Gemi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10 ml-Spritze zur Entblockung (bei Wech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lastiksc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inz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29200" y="1828800"/>
            <a:ext cx="1429560" cy="914400"/>
            <a:chOff x="5029200" y="1828800"/>
            <a:chExt cx="1429560" cy="914400"/>
          </a:xfrm>
        </p:grpSpPr>
        <p:sp>
          <p:nvSpPr>
            <p:cNvPr id="234" name=""/>
            <p:cNvSpPr/>
            <p:nvPr/>
          </p:nvSpPr>
          <p:spPr>
            <a:xfrm>
              <a:off x="5029200" y="18288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6520" y="2179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un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2743200"/>
            <a:ext cx="1151280" cy="3733920"/>
            <a:chOff x="5029200" y="2743200"/>
            <a:chExt cx="1151280" cy="3733920"/>
          </a:xfrm>
        </p:grpSpPr>
        <p:sp>
          <p:nvSpPr>
            <p:cNvPr id="237" name=""/>
            <p:cNvSpPr/>
            <p:nvPr/>
          </p:nvSpPr>
          <p:spPr>
            <a:xfrm>
              <a:off x="5029200" y="2743200"/>
              <a:ext cx="304920" cy="3733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61920" y="4390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0029"/>
                  </a:solidFill>
                  <a:latin typeface="Arial"/>
                </a:rPr>
                <a:t>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510160" y="2743200"/>
            <a:ext cx="363996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s bieten Handhab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, jed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Zusamm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rechnungs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gen transurethraler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312920"/>
            <a:ext cx="35053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önliche 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Pati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eckung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kontamination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kation des Gleitmitt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llen des Blockierungsball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s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459080"/>
            <a:ext cx="4495680" cy="28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urchführung sollte möglich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zweit erfol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stenz reicht Materialien 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betreut Patien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ender hat weniger Proble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Wahrung der Asep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Abfolge der 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bdingbar bei unkooperativ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onen (z.B. Demen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963720"/>
            <a:ext cx="84247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Harn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kale Entzündung des Meatus, Hautveränderungen, Sekretbildu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rrekte Position des Auffangbeutels, Abknick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Stuhlinkontinenz vorher Intimpflege. Danach Händedesinfektion, neue Schutzhandschuhe, neuer Lap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s Meatus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rustrationen möglichst mit Wasser und Waschlotion vorsichtig ablösen. Wasserstoffperoxid 3% besser meiden, kann schmerzhaft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assene Feuchtigkeit oder Salbenrückstände in Meatusnähe vermeiden, da Mazerationsgefah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chsel von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963720"/>
            <a:ext cx="8424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von transurethralen Kathetern möglichst nur auf Veranlassung (Materialschäden, Obstruktion etc.) unter gleichen Bedingungen wie beim Einle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jedem Wechsel die Notwendigkeit der Beibehaltung der Harndrainage kritisch hinterf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roblemlose Verweildauer von 2 – 4 Wochen kann erwarte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atheterwechsel sollte nicht obligat mit einer Steigerung des Katheterdurchmessers einherg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prapubische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1052640"/>
            <a:ext cx="835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gfältige Abwägung: Suprapubische Drainage vs. Inkontinenzsystem oder Kondomk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ng des Einlegens (aseptisch durchzuführender ärztlicher Eingrif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 wird mittels einer Hohlnadel durch die Bauchdecke in die gefüllte Harnblase ein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ausrutschen wird durch spezielle Konstruktion des Katheters verhind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eitung des Urins wie bei transurethrale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8108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Insertionsstelle und des Drainage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ichstelle gerötet, geschwollen, blutend, sekretier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Abknickungen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on des Auffangbeutels, Abknickung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 durchgeführter Verbandwechsel ärztlicherseits oder durch ausgebildetes Personal in den ersten 2 – 4 Tagen. Danach normalerweise kein Verband notwend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nur bei Störungen (ca. 2 Monate Liegezei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r Isertionsstelle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zip geschlossener Ableit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 Diskonnektionen als Hauptursache für exogene Übertragungen gelten sollen nur geschlossene Systeme verwen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Rücklaufsperre (F) verhindert ein Zurücklaufen des Uri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Ablassschlauch (H) erlaubt die Entleerung ohne Diskonne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Entnahmestelle (B) erlaubt die Urinentnahme ohne Diskonne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Idealfall bleibt der Katheter mit dem Ableitsystem so lange fest verbunden, bis der Katheter entfernt oder gewechsel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skonnektion unvermeidlich: vor und nach dem Zusammenstecken desinfiz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ionen zur Harn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240" y="1133640"/>
          <a:ext cx="886932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133640"/>
                    <a:ext cx="88693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gang mit geschlossenen Ableitungs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tauter bakterienhaltiger Urin wirkt infektionsfördernd. Daher soll bei liegendem Katheter Harnstau vermie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fangbeutel stets unter Blaseniveau ohne Bodenkontakt, Rückfluss von Urin verme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Abknickungen, kein Blasen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utel entleeren, bevor Harn mit Rückflusssperre (F) in Kontakt komm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Entleeren des Beut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handschuhe und  Spritzschutz (z.B. Zeitungsblatt) verw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ssschlauch (H) vor Zurückstecken abtropfen lassen und desinfizi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solete Maßnah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268280"/>
            <a:ext cx="842472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, „prophylaktische“ Instillationen und Spü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asentraining“ (zeitweises Abklemmen des Kath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blockung mit Luft, Kochsalzlösung oder Trinkwa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inuntersuchungen, Keimzahl- und Keimbestimmungen ohne Ind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ibiose bei Kolonis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r Gebrauch antiseptischer Substanzen im Rahmen der „Katheterpfleg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des Katheters oder des Ableitungssystems nach festen Interv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HWI-Prävention“ (QZ 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- und Nachteile von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816120"/>
          <a:ext cx="87854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16120"/>
                    <a:ext cx="87854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sokomiale Infektion = durch medizinische Maßnahme bedingte Infek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häufigsten noskomialen Infektionen zählen die nosokomialen Harnwegsinfektionen (HW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ursache der nosokomialen HWI ist die Harndrainage, speziell die transurethrale Langzeitkatheterisi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halb von ca. 14 Tagen kommt es bei einer transurethralen Langzeitdrainage zur Bakteriur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m Boden der Bakteriurie können sich verschiedene Harnwegsinfektionen entwick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isiko wird maßgeblich bestimmt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ositionen des Patient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handene Keimpotentia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smöglichk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1123920"/>
            <a:ext cx="3816360" cy="5184360"/>
            <a:chOff x="539640" y="1123920"/>
            <a:chExt cx="3816360" cy="5184360"/>
          </a:xfrm>
        </p:grpSpPr>
        <p:sp>
          <p:nvSpPr>
            <p:cNvPr id="66" name=""/>
            <p:cNvSpPr/>
            <p:nvPr/>
          </p:nvSpPr>
          <p:spPr>
            <a:xfrm>
              <a:off x="812880" y="113148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9880" y="284292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9440" y="295884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432800">
              <a:off x="1517400" y="164736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7200" y="112392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4760" y="210960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524800">
              <a:off x="1708200" y="348084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348588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3040" y="414000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1480" y="192204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1880" y="350640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6720" y="228744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39640" y="1861920"/>
              <a:ext cx="2198520" cy="4299840"/>
              <a:chOff x="539640" y="1861920"/>
              <a:chExt cx="2198520" cy="4299840"/>
            </a:xfrm>
          </p:grpSpPr>
          <p:sp>
            <p:nvSpPr>
              <p:cNvPr id="79" name=""/>
              <p:cNvSpPr/>
              <p:nvPr/>
            </p:nvSpPr>
            <p:spPr>
              <a:xfrm>
                <a:off x="793800" y="244404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9792200">
                <a:off x="2217600" y="212796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8680" y="186192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493600">
                <a:off x="2185920" y="191196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4320" y="592704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66880" y="599220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8440" y="533016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9640" y="585396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76480" y="248256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22400" y="1585800"/>
            <a:ext cx="5763960" cy="2795400"/>
            <a:chOff x="1022400" y="1585800"/>
            <a:chExt cx="5763960" cy="2795400"/>
          </a:xfrm>
        </p:grpSpPr>
        <p:sp>
          <p:nvSpPr>
            <p:cNvPr id="89" name=""/>
            <p:cNvSpPr/>
            <p:nvPr/>
          </p:nvSpPr>
          <p:spPr>
            <a:xfrm>
              <a:off x="5002560" y="2036520"/>
              <a:ext cx="17838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t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et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Zys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022400" y="1585800"/>
              <a:ext cx="1819080" cy="2795400"/>
              <a:chOff x="1022400" y="1585800"/>
              <a:chExt cx="1819080" cy="2795400"/>
            </a:xfrm>
          </p:grpSpPr>
          <p:sp>
            <p:nvSpPr>
              <p:cNvPr id="91" name=""/>
              <p:cNvSpPr/>
              <p:nvPr/>
            </p:nvSpPr>
            <p:spPr>
              <a:xfrm>
                <a:off x="1022400" y="2492280"/>
                <a:ext cx="1577880" cy="1863720"/>
              </a:xfrm>
              <a:custGeom>
                <a:avLst/>
                <a:gdLst/>
                <a:ahLst/>
                <a:rect l="l" t="t" r="r" b="b"/>
                <a:pathLst>
                  <a:path w="994" h="1174">
                    <a:moveTo>
                      <a:pt x="921" y="0"/>
                    </a:moveTo>
                    <a:cubicBezTo>
                      <a:pt x="947" y="54"/>
                      <a:pt x="974" y="108"/>
                      <a:pt x="984" y="158"/>
                    </a:cubicBezTo>
                    <a:cubicBezTo>
                      <a:pt x="994" y="208"/>
                      <a:pt x="991" y="267"/>
                      <a:pt x="984" y="302"/>
                    </a:cubicBezTo>
                    <a:cubicBezTo>
                      <a:pt x="977" y="337"/>
                      <a:pt x="966" y="356"/>
                      <a:pt x="944" y="370"/>
                    </a:cubicBezTo>
                    <a:cubicBezTo>
                      <a:pt x="922" y="384"/>
                      <a:pt x="894" y="385"/>
                      <a:pt x="853" y="384"/>
                    </a:cubicBezTo>
                    <a:cubicBezTo>
                      <a:pt x="812" y="383"/>
                      <a:pt x="748" y="376"/>
                      <a:pt x="696" y="362"/>
                    </a:cubicBezTo>
                    <a:cubicBezTo>
                      <a:pt x="644" y="348"/>
                      <a:pt x="584" y="316"/>
                      <a:pt x="540" y="298"/>
                    </a:cubicBezTo>
                    <a:cubicBezTo>
                      <a:pt x="496" y="280"/>
                      <a:pt x="471" y="263"/>
                      <a:pt x="432" y="254"/>
                    </a:cubicBezTo>
                    <a:cubicBezTo>
                      <a:pt x="393" y="245"/>
                      <a:pt x="339" y="245"/>
                      <a:pt x="308" y="246"/>
                    </a:cubicBezTo>
                    <a:cubicBezTo>
                      <a:pt x="277" y="247"/>
                      <a:pt x="265" y="251"/>
                      <a:pt x="244" y="258"/>
                    </a:cubicBezTo>
                    <a:cubicBezTo>
                      <a:pt x="223" y="265"/>
                      <a:pt x="202" y="270"/>
                      <a:pt x="181" y="291"/>
                    </a:cubicBezTo>
                    <a:cubicBezTo>
                      <a:pt x="160" y="312"/>
                      <a:pt x="129" y="358"/>
                      <a:pt x="116" y="386"/>
                    </a:cubicBezTo>
                    <a:cubicBezTo>
                      <a:pt x="103" y="414"/>
                      <a:pt x="102" y="424"/>
                      <a:pt x="100" y="462"/>
                    </a:cubicBezTo>
                    <a:cubicBezTo>
                      <a:pt x="98" y="500"/>
                      <a:pt x="105" y="559"/>
                      <a:pt x="104" y="614"/>
                    </a:cubicBezTo>
                    <a:cubicBezTo>
                      <a:pt x="103" y="669"/>
                      <a:pt x="113" y="697"/>
                      <a:pt x="96" y="790"/>
                    </a:cubicBezTo>
                    <a:cubicBezTo>
                      <a:pt x="79" y="883"/>
                      <a:pt x="39" y="1028"/>
                      <a:pt x="0" y="1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36520" y="2492280"/>
                <a:ext cx="1598760" cy="1888920"/>
              </a:xfrm>
              <a:custGeom>
                <a:avLst/>
                <a:gdLst/>
                <a:ahLst/>
                <a:rect l="l" t="t" r="r" b="b"/>
                <a:pathLst>
                  <a:path w="1007" h="1190">
                    <a:moveTo>
                      <a:pt x="939" y="0"/>
                    </a:moveTo>
                    <a:cubicBezTo>
                      <a:pt x="957" y="55"/>
                      <a:pt x="974" y="110"/>
                      <a:pt x="984" y="158"/>
                    </a:cubicBezTo>
                    <a:cubicBezTo>
                      <a:pt x="994" y="206"/>
                      <a:pt x="1007" y="246"/>
                      <a:pt x="1000" y="288"/>
                    </a:cubicBezTo>
                    <a:cubicBezTo>
                      <a:pt x="993" y="330"/>
                      <a:pt x="976" y="382"/>
                      <a:pt x="944" y="410"/>
                    </a:cubicBezTo>
                    <a:cubicBezTo>
                      <a:pt x="912" y="438"/>
                      <a:pt x="853" y="448"/>
                      <a:pt x="808" y="453"/>
                    </a:cubicBezTo>
                    <a:cubicBezTo>
                      <a:pt x="763" y="458"/>
                      <a:pt x="726" y="454"/>
                      <a:pt x="672" y="442"/>
                    </a:cubicBezTo>
                    <a:cubicBezTo>
                      <a:pt x="618" y="430"/>
                      <a:pt x="546" y="404"/>
                      <a:pt x="484" y="382"/>
                    </a:cubicBezTo>
                    <a:cubicBezTo>
                      <a:pt x="422" y="360"/>
                      <a:pt x="347" y="321"/>
                      <a:pt x="300" y="310"/>
                    </a:cubicBezTo>
                    <a:cubicBezTo>
                      <a:pt x="253" y="299"/>
                      <a:pt x="229" y="305"/>
                      <a:pt x="200" y="314"/>
                    </a:cubicBezTo>
                    <a:cubicBezTo>
                      <a:pt x="171" y="323"/>
                      <a:pt x="144" y="343"/>
                      <a:pt x="128" y="362"/>
                    </a:cubicBezTo>
                    <a:cubicBezTo>
                      <a:pt x="112" y="381"/>
                      <a:pt x="109" y="397"/>
                      <a:pt x="104" y="426"/>
                    </a:cubicBezTo>
                    <a:cubicBezTo>
                      <a:pt x="99" y="455"/>
                      <a:pt x="101" y="485"/>
                      <a:pt x="100" y="534"/>
                    </a:cubicBezTo>
                    <a:cubicBezTo>
                      <a:pt x="99" y="583"/>
                      <a:pt x="99" y="663"/>
                      <a:pt x="96" y="718"/>
                    </a:cubicBezTo>
                    <a:cubicBezTo>
                      <a:pt x="93" y="773"/>
                      <a:pt x="96" y="787"/>
                      <a:pt x="80" y="866"/>
                    </a:cubicBezTo>
                    <a:cubicBezTo>
                      <a:pt x="64" y="945"/>
                      <a:pt x="32" y="1067"/>
                      <a:pt x="0" y="119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4760" y="1585800"/>
                <a:ext cx="1296720" cy="947520"/>
              </a:xfrm>
              <a:custGeom>
                <a:avLst/>
                <a:gdLst/>
                <a:ahLst/>
                <a:rect l="l" t="t" r="r" b="b"/>
                <a:pathLst>
                  <a:path w="817" h="597">
                    <a:moveTo>
                      <a:pt x="587" y="585"/>
                    </a:moveTo>
                    <a:cubicBezTo>
                      <a:pt x="556" y="586"/>
                      <a:pt x="473" y="597"/>
                      <a:pt x="403" y="577"/>
                    </a:cubicBezTo>
                    <a:cubicBezTo>
                      <a:pt x="333" y="557"/>
                      <a:pt x="230" y="512"/>
                      <a:pt x="167" y="465"/>
                    </a:cubicBezTo>
                    <a:cubicBezTo>
                      <a:pt x="104" y="418"/>
                      <a:pt x="54" y="343"/>
                      <a:pt x="27" y="293"/>
                    </a:cubicBezTo>
                    <a:cubicBezTo>
                      <a:pt x="0" y="243"/>
                      <a:pt x="1" y="204"/>
                      <a:pt x="7" y="165"/>
                    </a:cubicBezTo>
                    <a:cubicBezTo>
                      <a:pt x="13" y="126"/>
                      <a:pt x="26" y="84"/>
                      <a:pt x="63" y="57"/>
                    </a:cubicBezTo>
                    <a:cubicBezTo>
                      <a:pt x="100" y="30"/>
                      <a:pt x="166" y="10"/>
                      <a:pt x="227" y="5"/>
                    </a:cubicBezTo>
                    <a:cubicBezTo>
                      <a:pt x="288" y="0"/>
                      <a:pt x="362" y="8"/>
                      <a:pt x="431" y="29"/>
                    </a:cubicBezTo>
                    <a:cubicBezTo>
                      <a:pt x="500" y="50"/>
                      <a:pt x="585" y="90"/>
                      <a:pt x="643" y="133"/>
                    </a:cubicBezTo>
                    <a:cubicBezTo>
                      <a:pt x="701" y="176"/>
                      <a:pt x="752" y="237"/>
                      <a:pt x="779" y="289"/>
                    </a:cubicBezTo>
                    <a:cubicBezTo>
                      <a:pt x="806" y="341"/>
                      <a:pt x="817" y="398"/>
                      <a:pt x="803" y="445"/>
                    </a:cubicBezTo>
                    <a:cubicBezTo>
                      <a:pt x="789" y="492"/>
                      <a:pt x="742" y="532"/>
                      <a:pt x="695" y="5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901880" y="2266920"/>
            <a:ext cx="6368400" cy="3254400"/>
            <a:chOff x="1901880" y="2266920"/>
            <a:chExt cx="6368400" cy="3254400"/>
          </a:xfrm>
        </p:grpSpPr>
        <p:sp>
          <p:nvSpPr>
            <p:cNvPr id="95" name=""/>
            <p:cNvSpPr/>
            <p:nvPr/>
          </p:nvSpPr>
          <p:spPr>
            <a:xfrm>
              <a:off x="4999320" y="4268880"/>
              <a:ext cx="327096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fektionen benachb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ruktu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Epididym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rosta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01880" y="2266920"/>
              <a:ext cx="1068480" cy="2078280"/>
              <a:chOff x="1901880" y="2266920"/>
              <a:chExt cx="1068480" cy="2078280"/>
            </a:xfrm>
          </p:grpSpPr>
          <p:sp>
            <p:nvSpPr>
              <p:cNvPr id="97" name=""/>
              <p:cNvSpPr/>
              <p:nvPr/>
            </p:nvSpPr>
            <p:spPr>
              <a:xfrm>
                <a:off x="2101680" y="2460600"/>
                <a:ext cx="511200" cy="538200"/>
              </a:xfrm>
              <a:custGeom>
                <a:avLst/>
                <a:gdLst/>
                <a:ahLst/>
                <a:rect l="l" t="t" r="r" b="b"/>
                <a:pathLst>
                  <a:path w="322" h="339">
                    <a:moveTo>
                      <a:pt x="14" y="20"/>
                    </a:moveTo>
                    <a:cubicBezTo>
                      <a:pt x="28" y="0"/>
                      <a:pt x="93" y="35"/>
                      <a:pt x="131" y="38"/>
                    </a:cubicBezTo>
                    <a:cubicBezTo>
                      <a:pt x="169" y="41"/>
                      <a:pt x="200" y="23"/>
                      <a:pt x="242" y="41"/>
                    </a:cubicBezTo>
                    <a:cubicBezTo>
                      <a:pt x="277" y="53"/>
                      <a:pt x="289" y="133"/>
                      <a:pt x="299" y="179"/>
                    </a:cubicBezTo>
                    <a:cubicBezTo>
                      <a:pt x="309" y="225"/>
                      <a:pt x="322" y="301"/>
                      <a:pt x="302" y="320"/>
                    </a:cubicBezTo>
                    <a:cubicBezTo>
                      <a:pt x="282" y="339"/>
                      <a:pt x="214" y="309"/>
                      <a:pt x="179" y="296"/>
                    </a:cubicBezTo>
                    <a:cubicBezTo>
                      <a:pt x="144" y="283"/>
                      <a:pt x="114" y="261"/>
                      <a:pt x="92" y="239"/>
                    </a:cubicBezTo>
                    <a:cubicBezTo>
                      <a:pt x="70" y="217"/>
                      <a:pt x="58" y="196"/>
                      <a:pt x="44" y="161"/>
                    </a:cubicBezTo>
                    <a:cubicBezTo>
                      <a:pt x="30" y="126"/>
                      <a:pt x="0" y="40"/>
                      <a:pt x="14" y="2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89120" y="2266920"/>
                <a:ext cx="335160" cy="696960"/>
              </a:xfrm>
              <a:custGeom>
                <a:avLst/>
                <a:gdLst/>
                <a:ahLst/>
                <a:rect l="l" t="t" r="r" b="b"/>
                <a:pathLst>
                  <a:path w="211" h="439">
                    <a:moveTo>
                      <a:pt x="160" y="6"/>
                    </a:moveTo>
                    <a:cubicBezTo>
                      <a:pt x="141" y="0"/>
                      <a:pt x="111" y="79"/>
                      <a:pt x="88" y="103"/>
                    </a:cubicBezTo>
                    <a:cubicBezTo>
                      <a:pt x="65" y="127"/>
                      <a:pt x="34" y="136"/>
                      <a:pt x="22" y="148"/>
                    </a:cubicBezTo>
                    <a:cubicBezTo>
                      <a:pt x="0" y="176"/>
                      <a:pt x="69" y="276"/>
                      <a:pt x="79" y="322"/>
                    </a:cubicBezTo>
                    <a:cubicBezTo>
                      <a:pt x="89" y="368"/>
                      <a:pt x="70" y="415"/>
                      <a:pt x="79" y="427"/>
                    </a:cubicBezTo>
                    <a:cubicBezTo>
                      <a:pt x="88" y="439"/>
                      <a:pt x="116" y="419"/>
                      <a:pt x="136" y="397"/>
                    </a:cubicBezTo>
                    <a:cubicBezTo>
                      <a:pt x="156" y="375"/>
                      <a:pt x="188" y="338"/>
                      <a:pt x="199" y="295"/>
                    </a:cubicBezTo>
                    <a:cubicBezTo>
                      <a:pt x="210" y="252"/>
                      <a:pt x="211" y="185"/>
                      <a:pt x="205" y="139"/>
                    </a:cubicBezTo>
                    <a:cubicBezTo>
                      <a:pt x="199" y="93"/>
                      <a:pt x="179" y="12"/>
                      <a:pt x="160" y="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1160" y="2492640"/>
                <a:ext cx="889200" cy="1806480"/>
              </a:xfrm>
              <a:custGeom>
                <a:avLst/>
                <a:gdLst/>
                <a:ahLst/>
                <a:rect l="l" t="t" r="r" b="b"/>
                <a:pathLst>
                  <a:path w="560" h="1138">
                    <a:moveTo>
                      <a:pt x="364" y="66"/>
                    </a:moveTo>
                    <a:cubicBezTo>
                      <a:pt x="374" y="55"/>
                      <a:pt x="409" y="25"/>
                      <a:pt x="436" y="17"/>
                    </a:cubicBezTo>
                    <a:cubicBezTo>
                      <a:pt x="462" y="8"/>
                      <a:pt x="503" y="0"/>
                      <a:pt x="523" y="9"/>
                    </a:cubicBezTo>
                    <a:cubicBezTo>
                      <a:pt x="544" y="18"/>
                      <a:pt x="555" y="27"/>
                      <a:pt x="557" y="70"/>
                    </a:cubicBezTo>
                    <a:cubicBezTo>
                      <a:pt x="560" y="113"/>
                      <a:pt x="560" y="206"/>
                      <a:pt x="538" y="272"/>
                    </a:cubicBezTo>
                    <a:cubicBezTo>
                      <a:pt x="517" y="338"/>
                      <a:pt x="478" y="419"/>
                      <a:pt x="428" y="470"/>
                    </a:cubicBezTo>
                    <a:cubicBezTo>
                      <a:pt x="379" y="521"/>
                      <a:pt x="299" y="561"/>
                      <a:pt x="242" y="577"/>
                    </a:cubicBezTo>
                    <a:cubicBezTo>
                      <a:pt x="185" y="594"/>
                      <a:pt x="122" y="567"/>
                      <a:pt x="86" y="569"/>
                    </a:cubicBezTo>
                    <a:cubicBezTo>
                      <a:pt x="51" y="572"/>
                      <a:pt x="38" y="581"/>
                      <a:pt x="29" y="592"/>
                    </a:cubicBezTo>
                    <a:cubicBezTo>
                      <a:pt x="20" y="604"/>
                      <a:pt x="16" y="613"/>
                      <a:pt x="29" y="642"/>
                    </a:cubicBezTo>
                    <a:cubicBezTo>
                      <a:pt x="42" y="671"/>
                      <a:pt x="82" y="732"/>
                      <a:pt x="101" y="768"/>
                    </a:cubicBezTo>
                    <a:cubicBezTo>
                      <a:pt x="120" y="803"/>
                      <a:pt x="137" y="820"/>
                      <a:pt x="147" y="855"/>
                    </a:cubicBezTo>
                    <a:cubicBezTo>
                      <a:pt x="157" y="891"/>
                      <a:pt x="162" y="943"/>
                      <a:pt x="162" y="985"/>
                    </a:cubicBezTo>
                    <a:cubicBezTo>
                      <a:pt x="162" y="1027"/>
                      <a:pt x="156" y="1087"/>
                      <a:pt x="143" y="1111"/>
                    </a:cubicBezTo>
                    <a:cubicBezTo>
                      <a:pt x="130" y="1135"/>
                      <a:pt x="94" y="1138"/>
                      <a:pt x="86" y="1130"/>
                    </a:cubicBezTo>
                    <a:cubicBezTo>
                      <a:pt x="66" y="1107"/>
                      <a:pt x="73" y="1116"/>
                      <a:pt x="79" y="1111"/>
                    </a:cubicBezTo>
                    <a:cubicBezTo>
                      <a:pt x="85" y="1106"/>
                      <a:pt x="110" y="1117"/>
                      <a:pt x="120" y="1099"/>
                    </a:cubicBezTo>
                    <a:cubicBezTo>
                      <a:pt x="130" y="1082"/>
                      <a:pt x="143" y="1045"/>
                      <a:pt x="143" y="1004"/>
                    </a:cubicBezTo>
                    <a:cubicBezTo>
                      <a:pt x="143" y="963"/>
                      <a:pt x="137" y="894"/>
                      <a:pt x="124" y="852"/>
                    </a:cubicBezTo>
                    <a:cubicBezTo>
                      <a:pt x="111" y="810"/>
                      <a:pt x="80" y="777"/>
                      <a:pt x="63" y="749"/>
                    </a:cubicBezTo>
                    <a:cubicBezTo>
                      <a:pt x="47" y="721"/>
                      <a:pt x="35" y="703"/>
                      <a:pt x="25" y="680"/>
                    </a:cubicBezTo>
                    <a:cubicBezTo>
                      <a:pt x="15" y="657"/>
                      <a:pt x="0" y="633"/>
                      <a:pt x="3" y="611"/>
                    </a:cubicBezTo>
                    <a:cubicBezTo>
                      <a:pt x="5" y="590"/>
                      <a:pt x="11" y="559"/>
                      <a:pt x="37" y="550"/>
                    </a:cubicBezTo>
                    <a:cubicBezTo>
                      <a:pt x="62" y="541"/>
                      <a:pt x="118" y="559"/>
                      <a:pt x="158" y="558"/>
                    </a:cubicBezTo>
                    <a:cubicBezTo>
                      <a:pt x="199" y="557"/>
                      <a:pt x="246" y="558"/>
                      <a:pt x="284" y="543"/>
                    </a:cubicBezTo>
                    <a:cubicBezTo>
                      <a:pt x="322" y="527"/>
                      <a:pt x="360" y="496"/>
                      <a:pt x="390" y="466"/>
                    </a:cubicBezTo>
                    <a:cubicBezTo>
                      <a:pt x="421" y="437"/>
                      <a:pt x="446" y="411"/>
                      <a:pt x="470" y="367"/>
                    </a:cubicBezTo>
                    <a:cubicBezTo>
                      <a:pt x="494" y="324"/>
                      <a:pt x="521" y="252"/>
                      <a:pt x="531" y="211"/>
                    </a:cubicBezTo>
                    <a:cubicBezTo>
                      <a:pt x="541" y="170"/>
                      <a:pt x="535" y="151"/>
                      <a:pt x="535" y="123"/>
                    </a:cubicBezTo>
                    <a:cubicBezTo>
                      <a:pt x="535" y="95"/>
                      <a:pt x="537" y="56"/>
                      <a:pt x="527" y="39"/>
                    </a:cubicBezTo>
                    <a:cubicBezTo>
                      <a:pt x="517" y="23"/>
                      <a:pt x="493" y="22"/>
                      <a:pt x="474" y="24"/>
                    </a:cubicBezTo>
                    <a:cubicBezTo>
                      <a:pt x="455" y="27"/>
                      <a:pt x="426" y="48"/>
                      <a:pt x="409" y="58"/>
                    </a:cubicBezTo>
                    <a:cubicBezTo>
                      <a:pt x="393" y="69"/>
                      <a:pt x="379" y="84"/>
                      <a:pt x="371" y="85"/>
                    </a:cubicBezTo>
                    <a:cubicBezTo>
                      <a:pt x="364" y="86"/>
                      <a:pt x="353" y="78"/>
                      <a:pt x="36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1880" y="3494160"/>
                <a:ext cx="401760" cy="851040"/>
              </a:xfrm>
              <a:custGeom>
                <a:avLst/>
                <a:gdLst/>
                <a:ahLst/>
                <a:rect l="l" t="t" r="r" b="b"/>
                <a:pathLst>
                  <a:path w="253" h="536">
                    <a:moveTo>
                      <a:pt x="4" y="4"/>
                    </a:moveTo>
                    <a:cubicBezTo>
                      <a:pt x="8" y="3"/>
                      <a:pt x="42" y="0"/>
                      <a:pt x="65" y="8"/>
                    </a:cubicBezTo>
                    <a:cubicBezTo>
                      <a:pt x="88" y="16"/>
                      <a:pt x="121" y="33"/>
                      <a:pt x="140" y="53"/>
                    </a:cubicBezTo>
                    <a:cubicBezTo>
                      <a:pt x="159" y="73"/>
                      <a:pt x="167" y="111"/>
                      <a:pt x="179" y="131"/>
                    </a:cubicBezTo>
                    <a:cubicBezTo>
                      <a:pt x="191" y="151"/>
                      <a:pt x="204" y="151"/>
                      <a:pt x="215" y="173"/>
                    </a:cubicBezTo>
                    <a:cubicBezTo>
                      <a:pt x="226" y="195"/>
                      <a:pt x="243" y="231"/>
                      <a:pt x="248" y="266"/>
                    </a:cubicBezTo>
                    <a:cubicBezTo>
                      <a:pt x="253" y="301"/>
                      <a:pt x="253" y="352"/>
                      <a:pt x="248" y="386"/>
                    </a:cubicBezTo>
                    <a:cubicBezTo>
                      <a:pt x="243" y="420"/>
                      <a:pt x="234" y="449"/>
                      <a:pt x="215" y="473"/>
                    </a:cubicBezTo>
                    <a:cubicBezTo>
                      <a:pt x="196" y="497"/>
                      <a:pt x="141" y="530"/>
                      <a:pt x="131" y="533"/>
                    </a:cubicBezTo>
                    <a:cubicBezTo>
                      <a:pt x="121" y="536"/>
                      <a:pt x="148" y="511"/>
                      <a:pt x="155" y="488"/>
                    </a:cubicBezTo>
                    <a:cubicBezTo>
                      <a:pt x="162" y="465"/>
                      <a:pt x="174" y="425"/>
                      <a:pt x="176" y="392"/>
                    </a:cubicBezTo>
                    <a:cubicBezTo>
                      <a:pt x="178" y="359"/>
                      <a:pt x="175" y="324"/>
                      <a:pt x="164" y="290"/>
                    </a:cubicBezTo>
                    <a:cubicBezTo>
                      <a:pt x="153" y="256"/>
                      <a:pt x="124" y="220"/>
                      <a:pt x="107" y="185"/>
                    </a:cubicBezTo>
                    <a:cubicBezTo>
                      <a:pt x="90" y="150"/>
                      <a:pt x="70" y="108"/>
                      <a:pt x="59" y="80"/>
                    </a:cubicBezTo>
                    <a:cubicBezTo>
                      <a:pt x="48" y="52"/>
                      <a:pt x="50" y="31"/>
                      <a:pt x="41" y="17"/>
                    </a:cubicBezTo>
                    <a:cubicBezTo>
                      <a:pt x="32" y="3"/>
                      <a:pt x="0" y="5"/>
                      <a:pt x="4" y="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798640" y="1130400"/>
            <a:ext cx="4215600" cy="2947680"/>
            <a:chOff x="2798640" y="1130400"/>
            <a:chExt cx="4215600" cy="2947680"/>
          </a:xfrm>
        </p:grpSpPr>
        <p:sp>
          <p:nvSpPr>
            <p:cNvPr id="102" name=""/>
            <p:cNvSpPr/>
            <p:nvPr/>
          </p:nvSpPr>
          <p:spPr>
            <a:xfrm>
              <a:off x="5006160" y="3130560"/>
              <a:ext cx="2008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b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yelonep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osep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798640" y="1130400"/>
              <a:ext cx="909720" cy="1147680"/>
              <a:chOff x="2798640" y="1130400"/>
              <a:chExt cx="909720" cy="114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2798640" y="1130400"/>
                <a:ext cx="459000" cy="1017720"/>
              </a:xfrm>
              <a:custGeom>
                <a:avLst/>
                <a:gdLst/>
                <a:ahLst/>
                <a:rect l="l" t="t" r="r" b="b"/>
                <a:pathLst>
                  <a:path w="231" h="503">
                    <a:moveTo>
                      <a:pt x="200" y="7"/>
                    </a:moveTo>
                    <a:cubicBezTo>
                      <a:pt x="190" y="14"/>
                      <a:pt x="184" y="44"/>
                      <a:pt x="170" y="58"/>
                    </a:cubicBezTo>
                    <a:cubicBezTo>
                      <a:pt x="156" y="72"/>
                      <a:pt x="134" y="79"/>
                      <a:pt x="116" y="91"/>
                    </a:cubicBezTo>
                    <a:cubicBezTo>
                      <a:pt x="98" y="103"/>
                      <a:pt x="70" y="115"/>
                      <a:pt x="59" y="130"/>
                    </a:cubicBezTo>
                    <a:cubicBezTo>
                      <a:pt x="48" y="145"/>
                      <a:pt x="50" y="163"/>
                      <a:pt x="47" y="184"/>
                    </a:cubicBezTo>
                    <a:cubicBezTo>
                      <a:pt x="44" y="205"/>
                      <a:pt x="42" y="231"/>
                      <a:pt x="41" y="259"/>
                    </a:cubicBezTo>
                    <a:cubicBezTo>
                      <a:pt x="40" y="287"/>
                      <a:pt x="44" y="325"/>
                      <a:pt x="41" y="355"/>
                    </a:cubicBezTo>
                    <a:cubicBezTo>
                      <a:pt x="38" y="385"/>
                      <a:pt x="27" y="422"/>
                      <a:pt x="20" y="442"/>
                    </a:cubicBezTo>
                    <a:cubicBezTo>
                      <a:pt x="13" y="462"/>
                      <a:pt x="4" y="466"/>
                      <a:pt x="2" y="475"/>
                    </a:cubicBezTo>
                    <a:cubicBezTo>
                      <a:pt x="0" y="484"/>
                      <a:pt x="1" y="503"/>
                      <a:pt x="8" y="499"/>
                    </a:cubicBezTo>
                    <a:cubicBezTo>
                      <a:pt x="15" y="495"/>
                      <a:pt x="36" y="467"/>
                      <a:pt x="44" y="451"/>
                    </a:cubicBezTo>
                    <a:cubicBezTo>
                      <a:pt x="52" y="435"/>
                      <a:pt x="53" y="418"/>
                      <a:pt x="56" y="400"/>
                    </a:cubicBezTo>
                    <a:cubicBezTo>
                      <a:pt x="59" y="382"/>
                      <a:pt x="63" y="367"/>
                      <a:pt x="65" y="340"/>
                    </a:cubicBezTo>
                    <a:cubicBezTo>
                      <a:pt x="67" y="313"/>
                      <a:pt x="64" y="266"/>
                      <a:pt x="65" y="238"/>
                    </a:cubicBezTo>
                    <a:cubicBezTo>
                      <a:pt x="66" y="210"/>
                      <a:pt x="66" y="188"/>
                      <a:pt x="71" y="169"/>
                    </a:cubicBezTo>
                    <a:cubicBezTo>
                      <a:pt x="76" y="150"/>
                      <a:pt x="83" y="135"/>
                      <a:pt x="95" y="124"/>
                    </a:cubicBezTo>
                    <a:cubicBezTo>
                      <a:pt x="107" y="113"/>
                      <a:pt x="128" y="115"/>
                      <a:pt x="146" y="103"/>
                    </a:cubicBezTo>
                    <a:cubicBezTo>
                      <a:pt x="164" y="91"/>
                      <a:pt x="189" y="70"/>
                      <a:pt x="203" y="55"/>
                    </a:cubicBezTo>
                    <a:cubicBezTo>
                      <a:pt x="217" y="40"/>
                      <a:pt x="231" y="21"/>
                      <a:pt x="230" y="13"/>
                    </a:cubicBezTo>
                    <a:cubicBezTo>
                      <a:pt x="229" y="5"/>
                      <a:pt x="210" y="0"/>
                      <a:pt x="20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2000" y="1197000"/>
                <a:ext cx="576360" cy="1081080"/>
              </a:xfrm>
              <a:prstGeom prst="upArrow">
                <a:avLst>
                  <a:gd name="adj1" fmla="val 50000"/>
                  <a:gd name="adj2" fmla="val 4689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20059800">
            <a:off x="2204640" y="191088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erreger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1143000"/>
            <a:ext cx="3816360" cy="5184360"/>
            <a:chOff x="539640" y="1143000"/>
            <a:chExt cx="3816360" cy="5184360"/>
          </a:xfrm>
        </p:grpSpPr>
        <p:sp>
          <p:nvSpPr>
            <p:cNvPr id="110" name=""/>
            <p:cNvSpPr/>
            <p:nvPr/>
          </p:nvSpPr>
          <p:spPr>
            <a:xfrm>
              <a:off x="812880" y="1150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9880" y="2862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9440" y="2977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432800">
              <a:off x="1517400" y="1666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7200" y="1143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2128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524800">
              <a:off x="1708200" y="3499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3504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159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81480" y="1941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1880" y="3525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6720" y="2306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881000"/>
              <a:ext cx="2198520" cy="4299840"/>
              <a:chOff x="539640" y="1881000"/>
              <a:chExt cx="2198520" cy="4299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93800" y="2463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92200">
                <a:off x="2217600" y="2147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28680" y="1881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93600">
                <a:off x="2185920" y="1931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4320" y="5946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6011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8440" y="5349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640" y="5873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076480" y="2501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9280" y="3328920"/>
            <a:ext cx="8748720" cy="3143160"/>
            <a:chOff x="179280" y="3328920"/>
            <a:chExt cx="8748720" cy="3143160"/>
          </a:xfrm>
        </p:grpSpPr>
        <p:sp>
          <p:nvSpPr>
            <p:cNvPr id="133" name=""/>
            <p:cNvSpPr/>
            <p:nvPr/>
          </p:nvSpPr>
          <p:spPr>
            <a:xfrm>
              <a:off x="4500720" y="3328920"/>
              <a:ext cx="4427280" cy="26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örperfremde (exogene) Ke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Händen des Perso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Spüllös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 der sozialen und unbelebten Umgeb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3951360"/>
              <a:ext cx="1513080" cy="252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08200" y="4416480"/>
              <a:ext cx="294300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20059800">
            <a:off x="2204640" y="19364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1287360"/>
            <a:ext cx="8459640" cy="3456000"/>
            <a:chOff x="468360" y="1287360"/>
            <a:chExt cx="8459640" cy="3456000"/>
          </a:xfrm>
        </p:grpSpPr>
        <p:sp>
          <p:nvSpPr>
            <p:cNvPr id="138" name=""/>
            <p:cNvSpPr/>
            <p:nvPr/>
          </p:nvSpPr>
          <p:spPr>
            <a:xfrm>
              <a:off x="468360" y="2511360"/>
              <a:ext cx="3311640" cy="22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1160" y="2079000"/>
              <a:ext cx="1143000" cy="9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1287360"/>
              <a:ext cx="442728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rpereigene (endogene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ime der Darm- und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nitalfl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erokok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seudomona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übertragung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8720" y="1197000"/>
            <a:ext cx="3816360" cy="5184360"/>
            <a:chOff x="558720" y="1197000"/>
            <a:chExt cx="3816360" cy="5184360"/>
          </a:xfrm>
        </p:grpSpPr>
        <p:sp>
          <p:nvSpPr>
            <p:cNvPr id="144" name=""/>
            <p:cNvSpPr/>
            <p:nvPr/>
          </p:nvSpPr>
          <p:spPr>
            <a:xfrm>
              <a:off x="831960" y="1204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98960" y="2916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8520" y="3031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32800">
              <a:off x="1536480" y="1720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6280" y="1197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2182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524800">
              <a:off x="1727280" y="3553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0440" y="3558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92120" y="4213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0560" y="1995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0960" y="3579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5800" y="2360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58720" y="1935000"/>
              <a:ext cx="2198520" cy="4299840"/>
              <a:chOff x="558720" y="1935000"/>
              <a:chExt cx="2198520" cy="4299840"/>
            </a:xfrm>
          </p:grpSpPr>
          <p:sp>
            <p:nvSpPr>
              <p:cNvPr id="157" name=""/>
              <p:cNvSpPr/>
              <p:nvPr/>
            </p:nvSpPr>
            <p:spPr>
              <a:xfrm>
                <a:off x="812880" y="2517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792200">
                <a:off x="2236680" y="2201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1935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93600">
                <a:off x="2205000" y="1985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400" y="6000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5960" y="6065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" y="5403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8720" y="5927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95560" y="2555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2080" y="1317600"/>
            <a:ext cx="8779320" cy="3676680"/>
            <a:chOff x="262080" y="1317600"/>
            <a:chExt cx="8779320" cy="3676680"/>
          </a:xfrm>
        </p:grpSpPr>
        <p:grpSp>
          <p:nvGrpSpPr>
            <p:cNvPr id="167" name=""/>
            <p:cNvGrpSpPr/>
            <p:nvPr/>
          </p:nvGrpSpPr>
          <p:grpSpPr>
            <a:xfrm>
              <a:off x="1042920" y="1317600"/>
              <a:ext cx="7998480" cy="3119400"/>
              <a:chOff x="1042920" y="1317600"/>
              <a:chExt cx="7998480" cy="3119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24240" y="1317600"/>
                <a:ext cx="4817160" cy="27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61800" indent="-3618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Extralumi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wischen Katheter und Ureth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bildet sich Schlei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Keime der Darm- und Genitalflo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gelangen entlang des Katheters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die Blas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Unausweichliches Geschehen,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welches bei DK innerhalb von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ca. 14 Tg. zur Bakteriurie führ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42920" y="2598480"/>
                <a:ext cx="1573200" cy="1814400"/>
              </a:xfrm>
              <a:custGeom>
                <a:avLst/>
                <a:gdLst/>
                <a:ahLst/>
                <a:rect l="l" t="t" r="r" b="b"/>
                <a:pathLst>
                  <a:path w="991" h="1143">
                    <a:moveTo>
                      <a:pt x="921" y="0"/>
                    </a:moveTo>
                    <a:cubicBezTo>
                      <a:pt x="931" y="21"/>
                      <a:pt x="966" y="81"/>
                      <a:pt x="977" y="127"/>
                    </a:cubicBezTo>
                    <a:cubicBezTo>
                      <a:pt x="988" y="173"/>
                      <a:pt x="991" y="239"/>
                      <a:pt x="987" y="276"/>
                    </a:cubicBezTo>
                    <a:cubicBezTo>
                      <a:pt x="983" y="313"/>
                      <a:pt x="975" y="333"/>
                      <a:pt x="951" y="348"/>
                    </a:cubicBezTo>
                    <a:cubicBezTo>
                      <a:pt x="927" y="363"/>
                      <a:pt x="889" y="366"/>
                      <a:pt x="845" y="363"/>
                    </a:cubicBezTo>
                    <a:cubicBezTo>
                      <a:pt x="801" y="360"/>
                      <a:pt x="736" y="346"/>
                      <a:pt x="684" y="330"/>
                    </a:cubicBezTo>
                    <a:cubicBezTo>
                      <a:pt x="632" y="314"/>
                      <a:pt x="576" y="284"/>
                      <a:pt x="533" y="267"/>
                    </a:cubicBezTo>
                    <a:cubicBezTo>
                      <a:pt x="490" y="250"/>
                      <a:pt x="465" y="237"/>
                      <a:pt x="426" y="228"/>
                    </a:cubicBezTo>
                    <a:cubicBezTo>
                      <a:pt x="387" y="219"/>
                      <a:pt x="332" y="215"/>
                      <a:pt x="301" y="215"/>
                    </a:cubicBezTo>
                    <a:cubicBezTo>
                      <a:pt x="270" y="215"/>
                      <a:pt x="262" y="222"/>
                      <a:pt x="240" y="231"/>
                    </a:cubicBezTo>
                    <a:cubicBezTo>
                      <a:pt x="218" y="240"/>
                      <a:pt x="193" y="249"/>
                      <a:pt x="171" y="270"/>
                    </a:cubicBezTo>
                    <a:cubicBezTo>
                      <a:pt x="149" y="291"/>
                      <a:pt x="122" y="328"/>
                      <a:pt x="109" y="355"/>
                    </a:cubicBezTo>
                    <a:cubicBezTo>
                      <a:pt x="96" y="382"/>
                      <a:pt x="95" y="393"/>
                      <a:pt x="93" y="431"/>
                    </a:cubicBezTo>
                    <a:cubicBezTo>
                      <a:pt x="91" y="469"/>
                      <a:pt x="98" y="528"/>
                      <a:pt x="97" y="583"/>
                    </a:cubicBezTo>
                    <a:cubicBezTo>
                      <a:pt x="96" y="638"/>
                      <a:pt x="105" y="666"/>
                      <a:pt x="89" y="759"/>
                    </a:cubicBezTo>
                    <a:cubicBezTo>
                      <a:pt x="73" y="852"/>
                      <a:pt x="19" y="1063"/>
                      <a:pt x="0" y="11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2549160"/>
                <a:ext cx="1586160" cy="1887840"/>
              </a:xfrm>
              <a:custGeom>
                <a:avLst/>
                <a:gdLst/>
                <a:ahLst/>
                <a:rect l="l" t="t" r="r" b="b"/>
                <a:pathLst>
                  <a:path w="999" h="1189">
                    <a:moveTo>
                      <a:pt x="926" y="0"/>
                    </a:moveTo>
                    <a:cubicBezTo>
                      <a:pt x="944" y="55"/>
                      <a:pt x="960" y="110"/>
                      <a:pt x="971" y="158"/>
                    </a:cubicBezTo>
                    <a:cubicBezTo>
                      <a:pt x="982" y="206"/>
                      <a:pt x="999" y="245"/>
                      <a:pt x="993" y="289"/>
                    </a:cubicBezTo>
                    <a:cubicBezTo>
                      <a:pt x="987" y="333"/>
                      <a:pt x="968" y="396"/>
                      <a:pt x="936" y="424"/>
                    </a:cubicBezTo>
                    <a:cubicBezTo>
                      <a:pt x="904" y="452"/>
                      <a:pt x="852" y="454"/>
                      <a:pt x="803" y="458"/>
                    </a:cubicBezTo>
                    <a:cubicBezTo>
                      <a:pt x="754" y="462"/>
                      <a:pt x="694" y="461"/>
                      <a:pt x="639" y="448"/>
                    </a:cubicBezTo>
                    <a:cubicBezTo>
                      <a:pt x="584" y="435"/>
                      <a:pt x="531" y="404"/>
                      <a:pt x="471" y="382"/>
                    </a:cubicBezTo>
                    <a:cubicBezTo>
                      <a:pt x="411" y="360"/>
                      <a:pt x="330" y="325"/>
                      <a:pt x="282" y="316"/>
                    </a:cubicBezTo>
                    <a:cubicBezTo>
                      <a:pt x="234" y="307"/>
                      <a:pt x="208" y="318"/>
                      <a:pt x="183" y="325"/>
                    </a:cubicBezTo>
                    <a:cubicBezTo>
                      <a:pt x="158" y="332"/>
                      <a:pt x="145" y="344"/>
                      <a:pt x="132" y="361"/>
                    </a:cubicBezTo>
                    <a:cubicBezTo>
                      <a:pt x="119" y="378"/>
                      <a:pt x="110" y="397"/>
                      <a:pt x="105" y="427"/>
                    </a:cubicBezTo>
                    <a:cubicBezTo>
                      <a:pt x="100" y="457"/>
                      <a:pt x="103" y="492"/>
                      <a:pt x="99" y="541"/>
                    </a:cubicBezTo>
                    <a:cubicBezTo>
                      <a:pt x="95" y="590"/>
                      <a:pt x="88" y="664"/>
                      <a:pt x="83" y="718"/>
                    </a:cubicBezTo>
                    <a:cubicBezTo>
                      <a:pt x="78" y="772"/>
                      <a:pt x="81" y="788"/>
                      <a:pt x="67" y="866"/>
                    </a:cubicBezTo>
                    <a:cubicBezTo>
                      <a:pt x="53" y="944"/>
                      <a:pt x="14" y="1122"/>
                      <a:pt x="0" y="118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4684800">
              <a:off x="1228680" y="4392000"/>
              <a:ext cx="431640" cy="64800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8000"/>
                <a:gd name="textAreaBottom" fmla="*/ 4698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721200">
              <a:off x="430560" y="4195440"/>
              <a:ext cx="431640" cy="647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7640"/>
                <a:gd name="textAreaBottom" fmla="*/ 4698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059800">
            <a:off x="2223720" y="19886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74720" y="1992240"/>
            <a:ext cx="8244000" cy="5162400"/>
            <a:chOff x="774720" y="1992240"/>
            <a:chExt cx="8244000" cy="5162400"/>
          </a:xfrm>
        </p:grpSpPr>
        <p:sp>
          <p:nvSpPr>
            <p:cNvPr id="175" name=""/>
            <p:cNvSpPr/>
            <p:nvPr/>
          </p:nvSpPr>
          <p:spPr>
            <a:xfrm>
              <a:off x="4591080" y="4464000"/>
              <a:ext cx="442764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ralu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nerhalb des Katheters dringe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Keime in die Blase vo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Übertragung im Zuge vo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Diskonnektionen, Spül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Durch Hygiene vermeidb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9480" y="58816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60832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5960" y="567828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720" y="54752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9480" y="5281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5960" y="5068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5840" y="4856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55800" y="46720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4478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9920" y="4262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3640" y="40593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8560" y="384156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3480" y="36432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0240" y="34401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6360" y="32083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0337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9574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5600" y="30020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2800" y="3093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8800" y="316692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33520" y="3201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21080" y="31608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2880" y="2995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10000" y="2782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570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70160" y="2166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240" y="19922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720" y="6335640"/>
              <a:ext cx="358920" cy="360360"/>
            </a:xfrm>
            <a:prstGeom prst="upArrow">
              <a:avLst>
                <a:gd name="adj1" fmla="val 50000"/>
                <a:gd name="adj2" fmla="val 251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onen und Risik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8507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 Gefährdung fü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äuglinge und alte 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munsuprimier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ung nimmt 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Dauer eines Klinikaufenthal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Liegedauer des Kath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fördernde Fak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s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zureichende Asepsis beim Legen und Wechs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onn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ll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nstau bei liegendem Kath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ipulationen am Ableitungs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äventionsstrategien bei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84120"/>
            <a:ext cx="8507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bzw. Limitierung der transurethralen 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geeignete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es 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 und Beibehaltung eines geschlossenen Ableitungs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Harnstau und Rückf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zierter Wechsel von Katheter und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Keimübertragungen bei Manipulationen am Katheter und am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auf obsolete Maß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42Z</dcterms:modified>
  <cp:revision>46</cp:revision>
  <dc:subject/>
  <dc:title>Kein Folientitel</dc:title>
</cp:coreProperties>
</file>