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de-DE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01520" y="728640"/>
            <a:ext cx="4856040" cy="364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2788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de-DE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22788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de-DE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44B6EA85-EB64-46E4-99F0-6573757FF169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: Rechnen Sie für diesen Vortrag ca. 30 – 45 Minuten + ca. 10 Min. Diskussionszei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: Ihr Vortrag wird sehr viel lebendiger, wenn Sie Anschauungsmaterial mitbringen und seine Anwendung demonstriere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gt; Händedesinfektionsmitt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gt; Schutzhandschuhe, Schutzschürze, Schutzkittel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 Mund-Nasenschut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gt; Behältnis zur Entsorgung von kontaminierten Abfä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: Meist besteht die Vorstellung, dass Mikroorganismen entweder krankmachen oder nicht (also „böse“ oder „gut“ sind) und dass krankmachende Keime von außen herangetragen werden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ür das Verständnis von MRSA muss aber klar werden, dass Floraanteile nur unter bestimmten Umständen krankmachen und dass es sich hierbei auch um die eigenen Florabestandteile handeln kann (= „endogene Infektion“)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: Meist besteht die Vorstellung, dass Mikroorganismen entweder krankmachen oder nicht (also „böse“ oder „gut“ sind) und dass krankmachende Keime von außen herangetragen werden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ür das Verständnis von MRSA muss aber klar werden, dass Floraanteile nur unter bestimmten Umständen krankmachen und dass es sich hierbei auch um die eigenen Florabestandteile handeln kann (= „endogene Infektion“)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: Aerogene Übertragungen (also Übertragungen durch den Luftweg) haben meist etwas mit Tröpfchen, selten etwas mit Staub und praktisch nie etwas mit Luft als solches zu tu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: Kontaktübertragungen kommen fast immer durch Hände zustande; entweder durch direkte Berührungen (z.B. Handkontakt mit Wunde) oder durch Berührung von Gegenständen, die bei ihrem Gebrauch Keime weitergeben (z.B. steril zu verwendende Instrumente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3: Die hier genannten Erkrankungen kommen natürlich unterschiedlich oft vor. Häufig sind die zuerst genannten Infektion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: Die Meldung an das GA ist aber nur notwendig, wenn 2 oder mehr Fälle im zeitlichen Zusammenhang offensichtlich im Heim entstanden sind, nicht etwa, wenn sich mehrere Fälle im Heim aufhalt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: Mit dem Bewohner sollte offen über die Handhabung der Informationsweitergabe gesprochen werden. Jede Information gegenüber Dritten setzt sein Einverständnis vorau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: Die oft zu beobachtende Overall-Vermummung von Rettungskräften ist nicht notwendig. Details stehen in den NLGA-Empfehlungen für den Rettungsdiens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: Die Meldung an das GA ist aber nur notwendig, wenn 2 oder mehr Fälle im zeitlichen Zusammenhang offensichtlich im Heim entstanden sind, nicht etwa, wenn sich mehrere Fälle im Heim aufhalt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: Mit dem Bewohner sollte offen über die Handhabung der Informationsweitergabe gesprochen werden. Jede Information gegenüber Dritten setzt sein Einverständnis vorau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: Die oft zu beobachtende Overall-Vermummung von Rettungskräften ist nicht notwendig. Details stehen in den NLGA-Empfehlungen für den Rettungsdiens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: Gemeint sind Erkrankungen wie Neurodermitis oder Schuppenflechte (Psoriasis)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wangere Mitarbeiterinnen sollen grundsätzlich keine kolonisierten bzw. infizierten Bewohner betreuen, da ist MRSA keine Ausnahm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: Hier bitte kurz erklären, welche Leistungen die Unterhalts- und welche die Grundreinigung umfasst. Wenn Sie zur Flächenreinigung eine 3-Eimer-Methode verwenden (was meist der Fall ist) bitte auch erläutern, welche Eimerfarbe mit welchen Bereichen (Möbel, Sanitär, WC) in Verbindung steh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: Hier bitte Mittel und Einwirkzeit nenn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: Hier bitte kurz erklären, welche Leistungen die Schlussdesinfektion umfas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: Wenn sich die Wäsche oder Kleidung nicht bei 60°C waschen lässt kann vorgeschlagen werden, sie mit dem sonst vorgesehenen Programmen separat von anderer Wäsche zu waschen (was bei 60°C nicht nötig wäre). Das ist insofern gut praktizierbar, weil die Wäsche von MRSA-Bewohnern ohnehin gesondert im Zimmer gesammelt wir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B457-8098-4707-99B5-4C949D28C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1EBF-BD22-4A7F-B7F7-11E6CECFF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AA93-8F96-4085-8D73-6100A0B18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9A51-1E61-4407-A441-1BE10840C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1848-B1E8-44EB-B903-9078A1AC2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FEBA-7B60-48D3-B0D5-E9A5B220D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8E16-87EB-4290-AA55-2BEA85848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D0B6-988E-4188-9F0D-4D804B5BA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5E80-333A-4F71-AA92-B576B6507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FF0E-2277-4FFF-851A-D150A3724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5AA3-EC24-41C5-ADFC-40B2F301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B714-7E5D-4264-B605-3CAEF57C6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7D4E7-9447-4067-8E12-4A4532871C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15440" y="1112760"/>
            <a:ext cx="281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nfluenz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97080" y="2351160"/>
            <a:ext cx="626400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gemeine Informatio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cherung des Informationsflu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elwer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terbringung / Gemeinschaftsleb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gienemaßnah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67840" y="1203480"/>
            <a:ext cx="6928920" cy="26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inweis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e Schulungsdatei wird Ihnen als teilnehmende Einrichtung 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EurSafety Health-net Qualitäts- und Transparenzsiege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für betriebsinterne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ulungen zur Verfügung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stellt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ussagen beziehen sich auf die Richtlinie „Influenza“ (QZ 7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zu dieser Datei gehörenden Textpassagen und Abbildungen dürfen Sie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Rahmen des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EurSafety Health-net Qualitäts- und Transparenzsiegel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n frei editieren, ergänzen und in Ihre Schulungsunterlagen übernehm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26920" y="4653000"/>
            <a:ext cx="7629840" cy="1619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gemeine Informationen zu Influe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3600" y="1052640"/>
            <a:ext cx="8411400" cy="56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fluenza („Grippe“) ist eine gefährliche Infektionserkrankung, die durch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schiedene Orthomyxoviren ausgelöst werden kan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kubationszeit: 1 – 3 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steckungsdauer: 3 – 5 Tage, schon 24 Std. vor den Symptomen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steckungsfäh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ymptome: plötzlich einsetzendes Fieber, Muskel-, Kopf- und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liederschmerzen, Atemwegssymptome und schweres Krankheitsgefüh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agnose anhand der klinischen Sympt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erapie: meist symptomatisch, bei gefährlichen Virusvarianten Viristatika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e Amantadin (Amanta®) oder Oseltamivir (Tamiflu®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ävention: Jährliche Impfungen (besonders wichtig für Kinder, alt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enschen und Pflegend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rkrankungshäufung in den Wintermonat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Übertragung vorwiegend aerogen durch Tröpfchen aber auch durch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ntak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fährdet sind vor allem alte Menschen, speziell in Alten- und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flegeheimen. Es besteht die Gefahr von Infektionsausbrüch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nflue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elwer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nflue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048040" y="990720"/>
            <a:ext cx="58831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fektionsschutzgeset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RINKO-Empfehlung „Infektionsprävention in Heimen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KI-Ärztemerkblätter über Influen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014720" y="3276720"/>
            <a:ext cx="2595600" cy="3124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56000" y="3854520"/>
            <a:ext cx="777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§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ßnahmen bei Influenza im Pflegehe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609480" y="944640"/>
            <a:ext cx="7793280" cy="1725120"/>
            <a:chOff x="609480" y="944640"/>
            <a:chExt cx="7793280" cy="1725120"/>
          </a:xfrm>
        </p:grpSpPr>
        <p:sp>
          <p:nvSpPr>
            <p:cNvPr id="62" name=""/>
            <p:cNvSpPr/>
            <p:nvPr/>
          </p:nvSpPr>
          <p:spPr>
            <a:xfrm>
              <a:off x="2233080" y="944640"/>
              <a:ext cx="6169680" cy="17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87200" indent="-187200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Allgemeine Maßnahmen (Basishygien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rsonalhygiene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mgebungshygiene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ygienegerechte Durchführung medizinisch-pflegerischer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ßnahmen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9480" y="990720"/>
              <a:ext cx="1143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</a:t>
              </a:r>
              <a:r>
                <a:rPr b="0" lang="en-US" sz="9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687960" y="2781360"/>
            <a:ext cx="7202520" cy="1807920"/>
            <a:chOff x="687960" y="2781360"/>
            <a:chExt cx="7202520" cy="1807920"/>
          </a:xfrm>
        </p:grpSpPr>
        <p:sp>
          <p:nvSpPr>
            <p:cNvPr id="65" name=""/>
            <p:cNvSpPr/>
            <p:nvPr/>
          </p:nvSpPr>
          <p:spPr>
            <a:xfrm>
              <a:off x="2031840" y="2787840"/>
              <a:ext cx="5858640" cy="180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87200" indent="-187200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9966"/>
                  </a:solidFill>
                  <a:latin typeface="Arial"/>
                </a:rPr>
                <a:t>Zusätzliche Maßnahmen (spezielle Hygien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icherung des Informationsfluss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parate Unterbringung erkrankter Bewohn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tensivierung der Personalhygie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tensivierung der Umgebungshygie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87960" y="2781360"/>
              <a:ext cx="8924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339966"/>
                  </a:solidFill>
                  <a:latin typeface="Arial"/>
                </a:rPr>
                <a:t>+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nflue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cherung des Informationsflusses /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1560" y="874800"/>
            <a:ext cx="76708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Meldepflic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nzelfälle von Influenza sind nicht meldepflicht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luenza-Ausbrüche müssen an das Gesundheitsamt gemeldet werd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4880" y="2154240"/>
            <a:ext cx="5008680" cy="14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Generell zu informieren sin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etreuende und behandelnde Person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itarbeiter des hauswirtschaftlichen Diens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esucher (wenn Bewohner einverstanden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19200" y="3822840"/>
            <a:ext cx="798480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Bei Verlegungen und Transport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ohnbereichsleitung informiert weiterbetreuende Institutionen frühzeiti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m Transportdienst ist die Infektion bei der Anmeldung mitzuteile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gleitende Personen sollen während des Transportes Schutzhandschuhe,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hutzkittel und Mund-Nasenschutz-Masken (FFP-1) trag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nflue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terbringung / Gemeinschaftsle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nflue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4840" y="1077840"/>
            <a:ext cx="7343280" cy="32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krankte Bewohner sind (in Absprache mit dem Gesundheitsamt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öglichst zu isoliere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 Zimmer erkrankter Bewohner sind als Isolierzimmer zu gestalt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krankte Bewohner sollen für die Zeit der Ansteckungsgefah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 Zimmer bleibe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e sollen innerhalb der Ansteckungszeit nicht in andere Zimm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legt werde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tbewohner sollen für die Dauer der Ansteckungszeit nicht mit dem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krankten in einem Zimmer wohne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ögl. keine Besuche während der Ansteckungszei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sonalhygi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1641600"/>
            <a:ext cx="5924520" cy="52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zicht auf Handschmuck bei Pflegenden und Betreuend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ituationsgerechte Durchführung der Händedesinfektion, d.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1792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zum Dienstbeginn und zum Diensten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1792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or aseptisch durchzuführenden Arbei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1792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or Kontakt mit infektionsgefährdeten Bewohn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1792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or und nach Kontakt mit Wunden, Tracheostoma, P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1792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ach Kontakt mit potentiell infektiösen Materiali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179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ach dem Toilettengang, Naseputzen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ituationsgerechte Nutzung von Persönlicher Schutzausrüstung, d.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1792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utzhandschuhe bei allen Tätigkeiten, bei denen ein Handkontakt mit infektiösen Substanzen möglich i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1792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rile Handschuhe bei aseptischen Arbeit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1792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lüssigkeitsdichte Schürzen bzw. langärmlige Schutzkittel bei Tätigkeiten mit Kontaminationsgefah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1792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und-Nasenschutzmasken bei pflegerischen Arbeiten mit Gefahr einer aerogenen Übertragu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647440" y="533520"/>
            <a:ext cx="102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33cc"/>
                </a:solidFill>
                <a:latin typeface="Wingdings"/>
                <a:ea typeface="Wingdings"/>
              </a:rPr>
              <a:t>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55592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248520" y="914400"/>
            <a:ext cx="0" cy="449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324480" y="1641600"/>
            <a:ext cx="2927520" cy="36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treuung von infizierten Bewohnern durch geimpftes Person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ändedesinfektion auch nach sonstigen Kontakten mit erkrankten Bewohnern oder kontaminierten M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endung von zimmer-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bundenen, täglich zu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chselnden, langärmli-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n Schutzkitteln und von Mund-Nasenschutzmasken (FFP-1) bei Betreten des Zimmer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241040" y="30492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9966"/>
                </a:solidFill>
                <a:latin typeface="Arial"/>
              </a:rPr>
              <a:t>+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nflue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mgebungshygi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R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47440" y="533520"/>
            <a:ext cx="102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33cc"/>
                </a:solidFill>
                <a:latin typeface="Wingdings"/>
                <a:ea typeface="Wingdings"/>
              </a:rPr>
              <a:t>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55592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248520" y="914400"/>
            <a:ext cx="0" cy="5257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241040" y="30492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9966"/>
                </a:solidFill>
                <a:latin typeface="Arial"/>
              </a:rPr>
              <a:t>+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1676520"/>
            <a:ext cx="5924520" cy="42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halts- und Grundreinigung mit gewohntem Leistungsumfang unter Anwendung der gewohnten Methoden und in den gewohnten Intervall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leiches gilt für die Aufbereitung von Steckbecken, Urinflaschen und Medizinprodukt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mutzwäsche und Abfälle werden nach den Vorgaben des Hygieneplanes entsorgt und aufbereite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flegeutensilien sollen möglichst bewohnerbezogen verwendet werd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Gemeinschaftlich benutzte Sanitäreinrichtungen (Wannen, Duschen etc.) werden nach Gebrauch gemäß den Vorgaben des Reinigungs- und Desinfektionsplanes wischdesinfizier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esinfektion auch nach Kontamination (Blut</a:t>
            </a:r>
            <a:r>
              <a:rPr b="0" lang="de-DE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,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Erbrochenes, Fäzes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chlussdesinfektion des Zimmers nach Bewohnerwechse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384960" y="1660680"/>
            <a:ext cx="2759040" cy="18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inigung von Isolier-zimmern zum Schlus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mutzwäsche und Abfälle werden im Zimmer gesammelt und sollen das Zimmer nur in geschlos-senen Säcken verlass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32440" y="1415880"/>
            <a:ext cx="640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Vielen Dank fü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hre Aufmerksamkeit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0" y="3398760"/>
            <a:ext cx="454536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kussio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regu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1T08:41:23Z</dcterms:created>
  <dc:creator>Fam. Bergen</dc:creator>
  <dc:description/>
  <dc:language>en-US</dc:language>
  <cp:lastModifiedBy>peter.bergen</cp:lastModifiedBy>
  <dcterms:modified xsi:type="dcterms:W3CDTF">2012-02-16T15:35:17Z</dcterms:modified>
  <cp:revision>50</cp:revision>
  <dc:subject/>
  <dc:title>Kein Folientitel</dc:title>
</cp:coreProperties>
</file>