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de-DE" sz="1300" spc="-1" strike="noStrike">
                <a:solidFill>
                  <a:srgbClr val="ffffff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de-DE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de-DE" sz="13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de-DE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de-DE" sz="13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de-DE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04EEFFA-AB6D-40C4-9C46-AD465CD04E9B}" type="slidenum">
              <a:rPr b="0" lang="de-DE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: Rechnen Sie für diesen Vortrag ca. 20 – 30 Minuten + ca. 10 Min. Diskussionszei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: Ihr Vortrag wird sehr viel lebendiger, wenn Sie Anschauungsmaterial mitbringen und seine Anwendung demonstriere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gt; Meldeformul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gt; Noro-wirksames Hände- und Flächendesinfektionsmitt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gt; Schutzhandschuhe, Schutzschürze, Schutzkittel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Mund-Nasenschut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gt; Behältnis zur Entsorgung von kontaminierten Abfä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gt; Eimer und Lapp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gt; Matratzenschut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D84A-9B90-40E9-A3C9-86E5C4DA2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8BC5-747F-4F3E-A2AB-4A8685030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79F4-DBD3-48C5-B816-0FABEC395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A511-9CE8-4C14-ACCE-2BAD820E1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53CC-14FD-4989-BD48-32ECAC964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4029-2236-4A41-9147-3B29CB1DE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346F-8DF2-4AE8-9C46-F5B411A87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D353-5BF7-45AA-8156-A5895993B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80E7-2B6C-42CF-A506-D019751BD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E38A-EC7C-4F05-8683-E8844F46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37BF-7A8B-44D5-A9D5-B85AC16F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F172-166D-4DAF-89A4-883B4A4D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B7CFB-5241-4EB9-B3B3-B6C3ADE994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89720" y="1112760"/>
            <a:ext cx="633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Harnwegsinfektion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46520" y="2595600"/>
            <a:ext cx="691308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rundla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gelwer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asishygi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legen transurethraler Kath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mgang mit suprapubischen Draina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mgang mit Ableitungssyste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elwer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1312920"/>
            <a:ext cx="8507520" cy="48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KI-Empfehlu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mpfehlungen zur Prävention und Kontrolle Katheter-assoziierter Harnwegsinfektionen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fektionsprävention in Heimen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eitlinie des Arbeitskreises „Krankenhaus- und Praxishygiene“ beim AWM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Harndrainage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utsches Ärzteblatt Heft 4 /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atheterdrainage der Harnblase heute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Öffentlich zugängliche Durchführungsstandards zur Katheteris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shygi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8360" y="907920"/>
            <a:ext cx="82296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atheterurin ist stets als kontaminiert anzusehen. Jede Manipulation an der Harnröhrenöffnung, dem Katheter oder dem Ableitungssystem birgt die Gefahr einer Keimübertragung. Dah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ygienische Händedesinfek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7720" indent="-240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r und nach dem Einlegen von Katheter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7720" indent="-240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r und nach Manipulationen am Katheter, Ableitungssystem oder Genita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7720" indent="-240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ach jedem Kontakt mit Urin oder potentiell kontaminierten Gegenstän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7720" indent="-240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ach dem Gebrauch von Schutzhandschuh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utzhandschu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7720" indent="-240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r möglichem Kontakt mit Urin, Genitale, Katheter und Ableitungssystem (Intimpflege, Entleeren des Beutels, Entfernen des Katheters, Urinentnahme etc.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erile Handschu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7720" indent="-240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r allen aseptisch durchzuführenden Maßnahmen (Einlegen oder Wechseln des Katheters, Verband an Insertionsstelle etc.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utzkittel bei Vorhandensein multiresistenter Erreg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erialauswa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48320" y="847800"/>
            <a:ext cx="4267080" cy="60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ath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urchmesser gemäß Harnröhrenöffnung (Arz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atexkatheter bei Verweildauer &lt; 5 Tage und Ausschluss von Latexallergi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likonkatheter bei Verweildauer &gt; 5 Tage oder bei bestehender Latexallerg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fektionspräventive Wirkung von beschichteten Kathetern ist nicht ausreichend beleg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leit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ur sterile, geschlossene Syste-me verwenden; bei Stundenurin mit Messvorrichtu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 mobilen Pat. Beinbeutel bzw. Tag- und Nachtbeutel,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 immobilen Bettbeut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 Beinbeutel Anschlussbeutel und Fixierung notwendi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250920" y="2781360"/>
          <a:ext cx="4133880" cy="58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781360"/>
                    <a:ext cx="413388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250920" y="1773360"/>
          <a:ext cx="4105080" cy="56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1773360"/>
                    <a:ext cx="4105080" cy="56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252000" y="1773360"/>
            <a:ext cx="24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2000" y="2781360"/>
            <a:ext cx="24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65760" y="6324480"/>
            <a:ext cx="25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* © Fa. Asid Bonz   ** © Fa. Rüs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5"/>
          <a:stretch/>
        </p:blipFill>
        <p:spPr>
          <a:xfrm>
            <a:off x="250920" y="3878280"/>
            <a:ext cx="1904760" cy="154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6"/>
          <a:stretch/>
        </p:blipFill>
        <p:spPr>
          <a:xfrm>
            <a:off x="2195640" y="3733920"/>
            <a:ext cx="2303280" cy="18064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52000" y="3890880"/>
            <a:ext cx="24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412360" y="3878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aterialien zum Legen transurethraler Kath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1312920"/>
            <a:ext cx="464796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terialien zur Katheteris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Patientenunterlage (Bettschut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Antiseptik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Abwurfbeut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Katheter / Ableit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2 Paar sterile Handschu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Sterile Unterlage (für sterile Fläch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Abdecktuch (Sicherung der Asepsi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4 – 6 Rolltupfer (Dekontamin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Gleitmittel (z.B. Tube mit Aufsat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1 Spritze mit Blockiermittel (steriles Wasser-Glycerin-Gemis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Evtl. 10 ml-Spritze zur Entblockung (bei Wechs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Evtl. Plastiksch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Evtl. Pinzet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5029200" y="1828800"/>
            <a:ext cx="1429560" cy="914400"/>
            <a:chOff x="5029200" y="1828800"/>
            <a:chExt cx="1429560" cy="914400"/>
          </a:xfrm>
        </p:grpSpPr>
        <p:sp>
          <p:nvSpPr>
            <p:cNvPr id="234" name=""/>
            <p:cNvSpPr/>
            <p:nvPr/>
          </p:nvSpPr>
          <p:spPr>
            <a:xfrm>
              <a:off x="5029200" y="1828800"/>
              <a:ext cx="304920" cy="91440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456520" y="2179800"/>
              <a:ext cx="100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unsteri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5029200" y="2743200"/>
            <a:ext cx="1151280" cy="3733920"/>
            <a:chOff x="5029200" y="2743200"/>
            <a:chExt cx="1151280" cy="3733920"/>
          </a:xfrm>
        </p:grpSpPr>
        <p:sp>
          <p:nvSpPr>
            <p:cNvPr id="237" name=""/>
            <p:cNvSpPr/>
            <p:nvPr/>
          </p:nvSpPr>
          <p:spPr>
            <a:xfrm>
              <a:off x="5029200" y="2743200"/>
              <a:ext cx="304920" cy="373392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97200 h 3733920"/>
                <a:gd name="textAreaBottom" fmla="*/ 3636720 h 3733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461920" y="439092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60029"/>
                  </a:solidFill>
                  <a:latin typeface="Arial"/>
                </a:rPr>
                <a:t>steri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5510160" y="2743200"/>
            <a:ext cx="3639960" cy="1618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ts bieten Handhabungs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rteile, jedo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600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terschiedliche Zusammen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stell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600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rechnungsprobl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Legen transurethraler Langzeitkath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7200" y="1312920"/>
            <a:ext cx="3505320" cy="48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önliche Vorbereit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rbereitung des Patien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rbereitung des Materi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deckung des Genit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kontamination des Genit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kation des Gleitmitt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nlegen des Kath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üllen des Blockierungsball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chs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419720" y="1459080"/>
            <a:ext cx="4495680" cy="280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Durchführung sollte möglichst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 zweit erfol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ssistenz reicht Materialien an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und betreut Patient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urchführender hat weniger Problem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mit der Wahrung der Asep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ssere Abfolge der Durchführ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abdingbar bei unkooperativen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Personen (z.B. Demenz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Umgang mit transurethralen Langzeitkathe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95280" y="963720"/>
            <a:ext cx="8424720" cy="53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ägliche Inspektion der Harndrain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okale Entzündung des Meatus, Hautveränderungen, Sekretbildung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schaffenheit des Katheters, Verkrustung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rinbeschaffenheit, -farbe, ggf. Geruch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ohlbefinden bzw. Beschwerd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orrekte Position des Auffangbeutels, Abknickung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bezug der Harndrainage in die tägliche Körperpfle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 Stuhlinkontinenz vorher Intimpflege. Danach Händedesinfektion, neue Schutzhandschuhe, neuer Lapp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 Zuge der Ganzwaschung, des Duschens etc. Reinigung des Katheters distal des Meatus mit Wasser und Waschlotion. Frischen Lappen verwenden, frische Schutzhandschuhe tragen. Kein Zug ausüb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krustrationen möglichst mit Wasser und Waschlotion vorsichtig ablösen. Wasserstoffperoxid 3% besser meiden, kann schmerzhaft sei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lassene Feuchtigkeit oder Salbenrückstände in Meatusnähe vermeiden, da Mazerationsgefah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echsel von transurethralen Langzeitkathe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95280" y="963720"/>
            <a:ext cx="8424720" cy="30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chsel von transurethralen Kathetern möglichst nur auf Veranlassung (Materialschäden, Obstruktion etc.) unter gleichen Bedingungen wie beim Einleg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r jedem Wechsel die Notwendigkeit der Beibehaltung der Harndrainage kritisch hinterfra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e problemlose Verweildauer von 2 – 4 Wochen kann erwartet werd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Katheterwechsel sollte nicht obligat mit einer Steigerung des Katheterdurchmessers einhergeh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uprapubische Drain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5280" y="1052640"/>
            <a:ext cx="83534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orgfältige Abwägung: Suprapubische Drainage vs. Inkontinenzsystem oder Kondomkathe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rgang des Einlegens (aseptisch durchzuführender ärztlicher Eingriff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atheter wird mittels einer Hohlnadel durch die Bauchdecke in die gefüllte Harnblase eingeführ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erausrutschen wird durch spezielle Konstruktion des Katheters verhinder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bleitung des Urins wie bei transurethralen Katheter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Umgang mit suprapubischen Drain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5280" y="1081080"/>
            <a:ext cx="83818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ägliche Inspektion der Insertionsstelle und des Drainagesystem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stichstelle gerötet, geschwollen, blutend, sekretierend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schaffenheit des Katheters, Abknickungen, Verkrustung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rinbeschaffenheit, -farbe, ggf. Geruch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ohlbefinden bzw. Beschwerd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osition des Auffangbeutels, Abknickungen?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septisch durchgeführter Verbandwechsel ärztlicherseits oder durch ausgebildetes Personal in den ersten 2 – 4 Tagen. Danach normalerweise kein Verband notwendig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chsel nur bei Störungen (ca. 2 Monate Liegezeit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bezug der Harndrainage in die tägliche Körperpfle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 Zuge der Ganzwaschung, des Duschens etc. Reinigung des Katheters distal der Isertionsstelle mit Wasser und Waschlotion. Frischen Lappen verwenden, frische Schutzhandschuhe tragen. Kein Zug ausüb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zip geschlossener Ableitungssyst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114800" y="981000"/>
            <a:ext cx="4876920" cy="52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 Diskonnektionen als Hauptursache für exogene Übertragungen gelten sollen nur geschlossene Systeme verwendet werd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erkma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e Rücklaufsperre (F) verhindert ein Zurücklaufen des Urin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 Ablassschlauch (H) erlaubt die Entleerung ohne Diskonnektio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e Entnahmestelle (B) erlaubt die Urinentnahme ohne Diskonnek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m Idealfall bleibt der Katheter mit dem Ableitsystem so lange fest verbunden, bis der Katheter entfernt oder gewechselt wir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lls Diskonnektion unvermeidlich: vor und nach dem Zusammenstecken desinfizier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3459240" cy="4876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ikationen zur Harndrain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38240" y="1133640"/>
          <a:ext cx="8869320" cy="534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240" y="1133640"/>
                    <a:ext cx="8869320" cy="53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mgang mit geschlossenen Ableitungssyste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114800" y="981000"/>
            <a:ext cx="4876920" cy="52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stauter bakterienhaltiger Urin wirkt infektionsfördernd. Daher soll bei liegendem Katheter Harnstau vermieden werd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uffangbeutel stets unter Blaseniveau ohne Bodenkontakt, Rückfluss von Urin vermei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eine Abknickungen, kein Blasentrain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utel entleeren, bevor Harn mit Rückflusssperre (F) in Kontakt komm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m Entleeren des Beutel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malhandschuhe und  Spritzschutz (z.B. Zeitungsblatt) verwen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blassschlauch (H) vor Zurückstecken abtropfen lassen und desinfizier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3459240" cy="4876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bsolete Maßnah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95280" y="1268280"/>
            <a:ext cx="8424720" cy="36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outinemäßige, „prophylaktische“ Instillationen und Spülu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lasentraining“ (zeitweises Abklemmen des Kathet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atheterblockung mit Luft, Kochsalzlösung oder Trinkwas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rinuntersuchungen, Keimzahl- und Keimbestimmungen ohne Indik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tibiose bei Kolonisati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outinemäßiger Gebrauch antiseptischer Substanzen im Rahmen der „Katheterpflege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chsel des Katheters oder des Ableitungssystems nach festen Interval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432440" y="1415880"/>
            <a:ext cx="640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Vielen Dank fü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hre Aufmerksamkeit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86000" y="3398760"/>
            <a:ext cx="454536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kussio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regu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167840" y="1203480"/>
            <a:ext cx="6928920" cy="26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Schulungsdatei wird Ihnen als teilnehmende Einrichtung 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urSafety Health-net Qualitäts- und Transparenzsiege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für betriebsintern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ulungen zur Verfügung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stellt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ussagen beziehen sich auf die Richtlinie „HWI-Prävention“ (QZ 6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zu dieser Datei gehörenden Textpassagen und Abbildungen dürfen Si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Rahmen des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urSafety Health-net Qualitäts- und Transparenzsiegel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n frei editieren, ergänzen und in Ihre Schulungsunterlagen übernehm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826920" y="4653000"/>
            <a:ext cx="7629840" cy="1619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- und Nachteile von Harndrain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79280" y="816120"/>
          <a:ext cx="8785440" cy="588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816120"/>
                    <a:ext cx="8785440" cy="58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ektionsgefahren bei Harndrain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295280"/>
            <a:ext cx="82296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osokomiale Infektion = durch medizinische Maßnahme bedingte Infek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 den häufigsten noskomialen Infektionen zählen die nosokomialen Harnwegsinfektionen (HWI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auptursache der nosokomialen HWI ist die Harndrainage, speziell die transurethrale Langzeitkatheterisieru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nerhalb von ca. 14 Tagen kommt es bei einer transurethralen Langzeitdrainage zur Bakteriur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f dem Boden der Bakteriurie können sich verschiedene Harnwegsinfektionen entwickel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s Risiko wird maßgeblich bestimmt du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spositionen des Patiente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rhandene Keimpotential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Übertragungsmöglichkeit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ektionsgefahren bei Harndrain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39640" y="1123920"/>
            <a:ext cx="3816360" cy="5184360"/>
            <a:chOff x="539640" y="1123920"/>
            <a:chExt cx="3816360" cy="5184360"/>
          </a:xfrm>
        </p:grpSpPr>
        <p:sp>
          <p:nvSpPr>
            <p:cNvPr id="66" name=""/>
            <p:cNvSpPr/>
            <p:nvPr/>
          </p:nvSpPr>
          <p:spPr>
            <a:xfrm>
              <a:off x="812880" y="1131480"/>
              <a:ext cx="3463920" cy="3385800"/>
            </a:xfrm>
            <a:custGeom>
              <a:avLst/>
              <a:gdLst/>
              <a:ahLst/>
              <a:rect l="l" t="t" r="r" b="b"/>
              <a:pathLst>
                <a:path w="1718" h="1668">
                  <a:moveTo>
                    <a:pt x="167" y="26"/>
                  </a:moveTo>
                  <a:lnTo>
                    <a:pt x="197" y="446"/>
                  </a:lnTo>
                  <a:cubicBezTo>
                    <a:pt x="211" y="566"/>
                    <a:pt x="252" y="690"/>
                    <a:pt x="254" y="749"/>
                  </a:cubicBezTo>
                  <a:cubicBezTo>
                    <a:pt x="256" y="808"/>
                    <a:pt x="228" y="781"/>
                    <a:pt x="207" y="802"/>
                  </a:cubicBezTo>
                  <a:cubicBezTo>
                    <a:pt x="186" y="823"/>
                    <a:pt x="151" y="829"/>
                    <a:pt x="127" y="876"/>
                  </a:cubicBezTo>
                  <a:cubicBezTo>
                    <a:pt x="103" y="923"/>
                    <a:pt x="73" y="1021"/>
                    <a:pt x="61" y="1085"/>
                  </a:cubicBezTo>
                  <a:cubicBezTo>
                    <a:pt x="49" y="1149"/>
                    <a:pt x="62" y="1226"/>
                    <a:pt x="54" y="1262"/>
                  </a:cubicBezTo>
                  <a:cubicBezTo>
                    <a:pt x="46" y="1298"/>
                    <a:pt x="22" y="1271"/>
                    <a:pt x="14" y="1299"/>
                  </a:cubicBezTo>
                  <a:cubicBezTo>
                    <a:pt x="6" y="1327"/>
                    <a:pt x="0" y="1388"/>
                    <a:pt x="7" y="1432"/>
                  </a:cubicBezTo>
                  <a:cubicBezTo>
                    <a:pt x="14" y="1476"/>
                    <a:pt x="40" y="1534"/>
                    <a:pt x="57" y="1562"/>
                  </a:cubicBezTo>
                  <a:cubicBezTo>
                    <a:pt x="74" y="1590"/>
                    <a:pt x="95" y="1590"/>
                    <a:pt x="111" y="1598"/>
                  </a:cubicBezTo>
                  <a:cubicBezTo>
                    <a:pt x="127" y="1606"/>
                    <a:pt x="135" y="1612"/>
                    <a:pt x="154" y="1608"/>
                  </a:cubicBezTo>
                  <a:cubicBezTo>
                    <a:pt x="173" y="1604"/>
                    <a:pt x="201" y="1606"/>
                    <a:pt x="227" y="1575"/>
                  </a:cubicBezTo>
                  <a:cubicBezTo>
                    <a:pt x="253" y="1544"/>
                    <a:pt x="296" y="1457"/>
                    <a:pt x="310" y="1425"/>
                  </a:cubicBezTo>
                  <a:lnTo>
                    <a:pt x="310" y="1385"/>
                  </a:lnTo>
                  <a:lnTo>
                    <a:pt x="284" y="1365"/>
                  </a:lnTo>
                  <a:lnTo>
                    <a:pt x="300" y="1175"/>
                  </a:lnTo>
                  <a:cubicBezTo>
                    <a:pt x="309" y="1120"/>
                    <a:pt x="322" y="1064"/>
                    <a:pt x="337" y="1036"/>
                  </a:cubicBezTo>
                  <a:cubicBezTo>
                    <a:pt x="352" y="1008"/>
                    <a:pt x="374" y="1010"/>
                    <a:pt x="387" y="1006"/>
                  </a:cubicBezTo>
                  <a:lnTo>
                    <a:pt x="414" y="1012"/>
                  </a:lnTo>
                  <a:lnTo>
                    <a:pt x="414" y="1089"/>
                  </a:lnTo>
                  <a:lnTo>
                    <a:pt x="377" y="1235"/>
                  </a:lnTo>
                  <a:lnTo>
                    <a:pt x="370" y="1338"/>
                  </a:lnTo>
                  <a:lnTo>
                    <a:pt x="387" y="1462"/>
                  </a:lnTo>
                  <a:cubicBezTo>
                    <a:pt x="399" y="1500"/>
                    <a:pt x="415" y="1538"/>
                    <a:pt x="440" y="1568"/>
                  </a:cubicBezTo>
                  <a:cubicBezTo>
                    <a:pt x="465" y="1598"/>
                    <a:pt x="502" y="1630"/>
                    <a:pt x="540" y="1645"/>
                  </a:cubicBezTo>
                  <a:cubicBezTo>
                    <a:pt x="578" y="1660"/>
                    <a:pt x="629" y="1668"/>
                    <a:pt x="667" y="1661"/>
                  </a:cubicBezTo>
                  <a:cubicBezTo>
                    <a:pt x="705" y="1654"/>
                    <a:pt x="744" y="1631"/>
                    <a:pt x="770" y="1605"/>
                  </a:cubicBezTo>
                  <a:cubicBezTo>
                    <a:pt x="796" y="1579"/>
                    <a:pt x="814" y="1540"/>
                    <a:pt x="823" y="1505"/>
                  </a:cubicBezTo>
                  <a:cubicBezTo>
                    <a:pt x="832" y="1470"/>
                    <a:pt x="829" y="1427"/>
                    <a:pt x="823" y="1392"/>
                  </a:cubicBezTo>
                  <a:cubicBezTo>
                    <a:pt x="817" y="1357"/>
                    <a:pt x="799" y="1327"/>
                    <a:pt x="786" y="1295"/>
                  </a:cubicBezTo>
                  <a:cubicBezTo>
                    <a:pt x="773" y="1263"/>
                    <a:pt x="752" y="1226"/>
                    <a:pt x="743" y="1202"/>
                  </a:cubicBezTo>
                  <a:cubicBezTo>
                    <a:pt x="734" y="1178"/>
                    <a:pt x="731" y="1161"/>
                    <a:pt x="733" y="1152"/>
                  </a:cubicBezTo>
                  <a:lnTo>
                    <a:pt x="756" y="1149"/>
                  </a:lnTo>
                  <a:lnTo>
                    <a:pt x="816" y="1169"/>
                  </a:lnTo>
                  <a:cubicBezTo>
                    <a:pt x="834" y="1176"/>
                    <a:pt x="831" y="1186"/>
                    <a:pt x="863" y="1192"/>
                  </a:cubicBezTo>
                  <a:cubicBezTo>
                    <a:pt x="895" y="1198"/>
                    <a:pt x="965" y="1208"/>
                    <a:pt x="1006" y="1205"/>
                  </a:cubicBezTo>
                  <a:cubicBezTo>
                    <a:pt x="1047" y="1202"/>
                    <a:pt x="1081" y="1192"/>
                    <a:pt x="1109" y="1175"/>
                  </a:cubicBezTo>
                  <a:cubicBezTo>
                    <a:pt x="1137" y="1158"/>
                    <a:pt x="1155" y="1120"/>
                    <a:pt x="1173" y="1105"/>
                  </a:cubicBezTo>
                  <a:cubicBezTo>
                    <a:pt x="1191" y="1090"/>
                    <a:pt x="1197" y="1089"/>
                    <a:pt x="1216" y="1085"/>
                  </a:cubicBezTo>
                  <a:cubicBezTo>
                    <a:pt x="1235" y="1081"/>
                    <a:pt x="1263" y="1084"/>
                    <a:pt x="1289" y="1082"/>
                  </a:cubicBezTo>
                  <a:cubicBezTo>
                    <a:pt x="1315" y="1080"/>
                    <a:pt x="1344" y="1079"/>
                    <a:pt x="1372" y="1072"/>
                  </a:cubicBezTo>
                  <a:cubicBezTo>
                    <a:pt x="1400" y="1065"/>
                    <a:pt x="1428" y="1060"/>
                    <a:pt x="1456" y="1042"/>
                  </a:cubicBezTo>
                  <a:cubicBezTo>
                    <a:pt x="1484" y="1024"/>
                    <a:pt x="1511" y="996"/>
                    <a:pt x="1539" y="966"/>
                  </a:cubicBezTo>
                  <a:cubicBezTo>
                    <a:pt x="1567" y="936"/>
                    <a:pt x="1601" y="903"/>
                    <a:pt x="1625" y="859"/>
                  </a:cubicBezTo>
                  <a:cubicBezTo>
                    <a:pt x="1649" y="815"/>
                    <a:pt x="1669" y="762"/>
                    <a:pt x="1682" y="703"/>
                  </a:cubicBezTo>
                  <a:cubicBezTo>
                    <a:pt x="1695" y="644"/>
                    <a:pt x="1706" y="582"/>
                    <a:pt x="1705" y="503"/>
                  </a:cubicBezTo>
                  <a:cubicBezTo>
                    <a:pt x="1704" y="424"/>
                    <a:pt x="1718" y="363"/>
                    <a:pt x="1675" y="226"/>
                  </a:cubicBezTo>
                  <a:cubicBezTo>
                    <a:pt x="1645" y="132"/>
                    <a:pt x="1640" y="0"/>
                    <a:pt x="1615" y="0"/>
                  </a:cubicBezTo>
                  <a:cubicBezTo>
                    <a:pt x="1362" y="0"/>
                    <a:pt x="469" y="21"/>
                    <a:pt x="167" y="26"/>
                  </a:cubicBezTo>
                  <a:close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179880" y="2842920"/>
              <a:ext cx="125280" cy="479160"/>
            </a:xfrm>
            <a:custGeom>
              <a:avLst/>
              <a:gdLst/>
              <a:ahLst/>
              <a:rect l="l" t="t" r="r" b="b"/>
              <a:pathLst>
                <a:path w="62" h="236">
                  <a:moveTo>
                    <a:pt x="37" y="0"/>
                  </a:moveTo>
                  <a:cubicBezTo>
                    <a:pt x="23" y="16"/>
                    <a:pt x="10" y="33"/>
                    <a:pt x="5" y="56"/>
                  </a:cubicBezTo>
                  <a:cubicBezTo>
                    <a:pt x="0" y="79"/>
                    <a:pt x="5" y="112"/>
                    <a:pt x="9" y="136"/>
                  </a:cubicBezTo>
                  <a:cubicBezTo>
                    <a:pt x="13" y="160"/>
                    <a:pt x="20" y="185"/>
                    <a:pt x="29" y="202"/>
                  </a:cubicBezTo>
                  <a:cubicBezTo>
                    <a:pt x="38" y="219"/>
                    <a:pt x="46" y="217"/>
                    <a:pt x="62" y="23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989440" y="2958840"/>
              <a:ext cx="139680" cy="450360"/>
            </a:xfrm>
            <a:custGeom>
              <a:avLst/>
              <a:gdLst/>
              <a:ahLst/>
              <a:rect l="l" t="t" r="r" b="b"/>
              <a:pathLst>
                <a:path w="70" h="222">
                  <a:moveTo>
                    <a:pt x="0" y="0"/>
                  </a:moveTo>
                  <a:lnTo>
                    <a:pt x="17" y="22"/>
                  </a:lnTo>
                  <a:cubicBezTo>
                    <a:pt x="26" y="40"/>
                    <a:pt x="45" y="73"/>
                    <a:pt x="54" y="106"/>
                  </a:cubicBezTo>
                  <a:cubicBezTo>
                    <a:pt x="63" y="139"/>
                    <a:pt x="69" y="185"/>
                    <a:pt x="70" y="22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432800">
              <a:off x="1517400" y="1647360"/>
              <a:ext cx="1347840" cy="825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797200" y="1123920"/>
              <a:ext cx="465120" cy="1020600"/>
            </a:xfrm>
            <a:custGeom>
              <a:avLst/>
              <a:gdLst/>
              <a:ahLst/>
              <a:rect l="l" t="t" r="r" b="b"/>
              <a:pathLst>
                <a:path w="231" h="503">
                  <a:moveTo>
                    <a:pt x="200" y="7"/>
                  </a:moveTo>
                  <a:cubicBezTo>
                    <a:pt x="190" y="14"/>
                    <a:pt x="184" y="44"/>
                    <a:pt x="170" y="58"/>
                  </a:cubicBezTo>
                  <a:cubicBezTo>
                    <a:pt x="156" y="72"/>
                    <a:pt x="134" y="79"/>
                    <a:pt x="116" y="91"/>
                  </a:cubicBezTo>
                  <a:cubicBezTo>
                    <a:pt x="98" y="103"/>
                    <a:pt x="70" y="115"/>
                    <a:pt x="59" y="130"/>
                  </a:cubicBezTo>
                  <a:cubicBezTo>
                    <a:pt x="48" y="145"/>
                    <a:pt x="50" y="163"/>
                    <a:pt x="47" y="184"/>
                  </a:cubicBezTo>
                  <a:cubicBezTo>
                    <a:pt x="44" y="205"/>
                    <a:pt x="42" y="231"/>
                    <a:pt x="41" y="259"/>
                  </a:cubicBezTo>
                  <a:cubicBezTo>
                    <a:pt x="40" y="287"/>
                    <a:pt x="44" y="325"/>
                    <a:pt x="41" y="355"/>
                  </a:cubicBezTo>
                  <a:cubicBezTo>
                    <a:pt x="38" y="385"/>
                    <a:pt x="27" y="422"/>
                    <a:pt x="20" y="442"/>
                  </a:cubicBezTo>
                  <a:cubicBezTo>
                    <a:pt x="13" y="462"/>
                    <a:pt x="4" y="466"/>
                    <a:pt x="2" y="475"/>
                  </a:cubicBezTo>
                  <a:cubicBezTo>
                    <a:pt x="0" y="484"/>
                    <a:pt x="1" y="503"/>
                    <a:pt x="8" y="499"/>
                  </a:cubicBezTo>
                  <a:cubicBezTo>
                    <a:pt x="15" y="495"/>
                    <a:pt x="36" y="467"/>
                    <a:pt x="44" y="451"/>
                  </a:cubicBezTo>
                  <a:cubicBezTo>
                    <a:pt x="52" y="435"/>
                    <a:pt x="53" y="418"/>
                    <a:pt x="56" y="400"/>
                  </a:cubicBezTo>
                  <a:cubicBezTo>
                    <a:pt x="59" y="382"/>
                    <a:pt x="63" y="367"/>
                    <a:pt x="65" y="340"/>
                  </a:cubicBezTo>
                  <a:cubicBezTo>
                    <a:pt x="67" y="313"/>
                    <a:pt x="64" y="266"/>
                    <a:pt x="65" y="238"/>
                  </a:cubicBezTo>
                  <a:cubicBezTo>
                    <a:pt x="66" y="210"/>
                    <a:pt x="66" y="188"/>
                    <a:pt x="71" y="169"/>
                  </a:cubicBezTo>
                  <a:cubicBezTo>
                    <a:pt x="76" y="150"/>
                    <a:pt x="83" y="135"/>
                    <a:pt x="95" y="124"/>
                  </a:cubicBezTo>
                  <a:cubicBezTo>
                    <a:pt x="107" y="113"/>
                    <a:pt x="128" y="115"/>
                    <a:pt x="146" y="103"/>
                  </a:cubicBezTo>
                  <a:cubicBezTo>
                    <a:pt x="164" y="91"/>
                    <a:pt x="189" y="70"/>
                    <a:pt x="203" y="55"/>
                  </a:cubicBezTo>
                  <a:cubicBezTo>
                    <a:pt x="217" y="40"/>
                    <a:pt x="231" y="21"/>
                    <a:pt x="230" y="13"/>
                  </a:cubicBezTo>
                  <a:cubicBezTo>
                    <a:pt x="229" y="5"/>
                    <a:pt x="210" y="0"/>
                    <a:pt x="200" y="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714760" y="2109600"/>
              <a:ext cx="88920" cy="90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rot="20524800">
              <a:off x="1708200" y="3480840"/>
              <a:ext cx="577800" cy="8694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81360" y="3485880"/>
              <a:ext cx="299880" cy="855360"/>
            </a:xfrm>
            <a:custGeom>
              <a:avLst/>
              <a:gdLst/>
              <a:ahLst/>
              <a:rect l="l" t="t" r="r" b="b"/>
              <a:pathLst>
                <a:path w="149" h="421">
                  <a:moveTo>
                    <a:pt x="0" y="0"/>
                  </a:moveTo>
                  <a:lnTo>
                    <a:pt x="18" y="4"/>
                  </a:lnTo>
                  <a:cubicBezTo>
                    <a:pt x="26" y="9"/>
                    <a:pt x="38" y="9"/>
                    <a:pt x="48" y="28"/>
                  </a:cubicBezTo>
                  <a:cubicBezTo>
                    <a:pt x="58" y="47"/>
                    <a:pt x="63" y="84"/>
                    <a:pt x="78" y="118"/>
                  </a:cubicBezTo>
                  <a:cubicBezTo>
                    <a:pt x="93" y="152"/>
                    <a:pt x="127" y="198"/>
                    <a:pt x="138" y="235"/>
                  </a:cubicBezTo>
                  <a:cubicBezTo>
                    <a:pt x="149" y="272"/>
                    <a:pt x="147" y="313"/>
                    <a:pt x="147" y="340"/>
                  </a:cubicBezTo>
                  <a:cubicBezTo>
                    <a:pt x="147" y="367"/>
                    <a:pt x="145" y="384"/>
                    <a:pt x="138" y="397"/>
                  </a:cubicBezTo>
                  <a:cubicBezTo>
                    <a:pt x="131" y="410"/>
                    <a:pt x="118" y="415"/>
                    <a:pt x="105" y="42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373040" y="4140000"/>
              <a:ext cx="30240" cy="2168280"/>
            </a:xfrm>
            <a:custGeom>
              <a:avLst/>
              <a:gdLst/>
              <a:ahLst/>
              <a:rect l="l" t="t" r="r" b="b"/>
              <a:pathLst>
                <a:path w="15" h="1068">
                  <a:moveTo>
                    <a:pt x="0" y="0"/>
                  </a:moveTo>
                  <a:cubicBezTo>
                    <a:pt x="1" y="78"/>
                    <a:pt x="1" y="290"/>
                    <a:pt x="3" y="468"/>
                  </a:cubicBezTo>
                  <a:cubicBezTo>
                    <a:pt x="5" y="646"/>
                    <a:pt x="4" y="973"/>
                    <a:pt x="15" y="106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381480" y="1922040"/>
              <a:ext cx="974520" cy="1962000"/>
            </a:xfrm>
            <a:custGeom>
              <a:avLst/>
              <a:gdLst/>
              <a:ahLst/>
              <a:rect l="l" t="t" r="r" b="b"/>
              <a:pathLst>
                <a:path w="483" h="967">
                  <a:moveTo>
                    <a:pt x="435" y="0"/>
                  </a:moveTo>
                  <a:cubicBezTo>
                    <a:pt x="452" y="99"/>
                    <a:pt x="469" y="198"/>
                    <a:pt x="471" y="304"/>
                  </a:cubicBezTo>
                  <a:cubicBezTo>
                    <a:pt x="473" y="410"/>
                    <a:pt x="483" y="544"/>
                    <a:pt x="450" y="637"/>
                  </a:cubicBezTo>
                  <a:cubicBezTo>
                    <a:pt x="417" y="730"/>
                    <a:pt x="348" y="810"/>
                    <a:pt x="273" y="865"/>
                  </a:cubicBezTo>
                  <a:cubicBezTo>
                    <a:pt x="198" y="920"/>
                    <a:pt x="48" y="952"/>
                    <a:pt x="0" y="96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701880" y="3506400"/>
              <a:ext cx="417600" cy="2788920"/>
            </a:xfrm>
            <a:custGeom>
              <a:avLst/>
              <a:gdLst/>
              <a:ahLst/>
              <a:rect l="l" t="t" r="r" b="b"/>
              <a:pathLst>
                <a:path w="207" h="1374">
                  <a:moveTo>
                    <a:pt x="207" y="0"/>
                  </a:moveTo>
                  <a:cubicBezTo>
                    <a:pt x="190" y="37"/>
                    <a:pt x="129" y="144"/>
                    <a:pt x="105" y="225"/>
                  </a:cubicBezTo>
                  <a:cubicBezTo>
                    <a:pt x="85" y="300"/>
                    <a:pt x="80" y="256"/>
                    <a:pt x="63" y="447"/>
                  </a:cubicBezTo>
                  <a:cubicBezTo>
                    <a:pt x="46" y="638"/>
                    <a:pt x="13" y="1181"/>
                    <a:pt x="0" y="137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06720" y="2287440"/>
              <a:ext cx="828720" cy="702720"/>
            </a:xfrm>
            <a:custGeom>
              <a:avLst/>
              <a:gdLst/>
              <a:ahLst/>
              <a:rect l="l" t="t" r="r" b="b"/>
              <a:pathLst>
                <a:path w="411" h="347">
                  <a:moveTo>
                    <a:pt x="359" y="10"/>
                  </a:moveTo>
                  <a:cubicBezTo>
                    <a:pt x="343" y="0"/>
                    <a:pt x="328" y="57"/>
                    <a:pt x="311" y="73"/>
                  </a:cubicBezTo>
                  <a:cubicBezTo>
                    <a:pt x="294" y="89"/>
                    <a:pt x="278" y="96"/>
                    <a:pt x="257" y="103"/>
                  </a:cubicBezTo>
                  <a:cubicBezTo>
                    <a:pt x="236" y="110"/>
                    <a:pt x="206" y="115"/>
                    <a:pt x="182" y="118"/>
                  </a:cubicBezTo>
                  <a:cubicBezTo>
                    <a:pt x="158" y="121"/>
                    <a:pt x="140" y="124"/>
                    <a:pt x="113" y="121"/>
                  </a:cubicBezTo>
                  <a:cubicBezTo>
                    <a:pt x="86" y="118"/>
                    <a:pt x="37" y="96"/>
                    <a:pt x="20" y="97"/>
                  </a:cubicBezTo>
                  <a:cubicBezTo>
                    <a:pt x="3" y="98"/>
                    <a:pt x="0" y="101"/>
                    <a:pt x="8" y="130"/>
                  </a:cubicBezTo>
                  <a:cubicBezTo>
                    <a:pt x="16" y="159"/>
                    <a:pt x="34" y="236"/>
                    <a:pt x="68" y="271"/>
                  </a:cubicBezTo>
                  <a:cubicBezTo>
                    <a:pt x="102" y="306"/>
                    <a:pt x="170" y="333"/>
                    <a:pt x="212" y="340"/>
                  </a:cubicBezTo>
                  <a:cubicBezTo>
                    <a:pt x="254" y="347"/>
                    <a:pt x="294" y="332"/>
                    <a:pt x="323" y="316"/>
                  </a:cubicBezTo>
                  <a:cubicBezTo>
                    <a:pt x="352" y="300"/>
                    <a:pt x="372" y="274"/>
                    <a:pt x="386" y="244"/>
                  </a:cubicBezTo>
                  <a:cubicBezTo>
                    <a:pt x="400" y="214"/>
                    <a:pt x="411" y="172"/>
                    <a:pt x="407" y="133"/>
                  </a:cubicBezTo>
                  <a:cubicBezTo>
                    <a:pt x="403" y="94"/>
                    <a:pt x="375" y="20"/>
                    <a:pt x="359" y="10"/>
                  </a:cubicBez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539640" y="1861920"/>
              <a:ext cx="2198520" cy="4299840"/>
              <a:chOff x="539640" y="1861920"/>
              <a:chExt cx="2198520" cy="4299840"/>
            </a:xfrm>
          </p:grpSpPr>
          <p:sp>
            <p:nvSpPr>
              <p:cNvPr id="79" name=""/>
              <p:cNvSpPr/>
              <p:nvPr/>
            </p:nvSpPr>
            <p:spPr>
              <a:xfrm>
                <a:off x="793800" y="2444040"/>
                <a:ext cx="1936800" cy="3522240"/>
              </a:xfrm>
              <a:custGeom>
                <a:avLst/>
                <a:gdLst/>
                <a:ahLst/>
                <a:rect l="l" t="t" r="r" b="b"/>
                <a:pathLst>
                  <a:path w="960" h="1735">
                    <a:moveTo>
                      <a:pt x="857" y="14"/>
                    </a:moveTo>
                    <a:lnTo>
                      <a:pt x="839" y="16"/>
                    </a:lnTo>
                    <a:cubicBezTo>
                      <a:pt x="844" y="39"/>
                      <a:pt x="880" y="108"/>
                      <a:pt x="889" y="149"/>
                    </a:cubicBezTo>
                    <a:cubicBezTo>
                      <a:pt x="898" y="190"/>
                      <a:pt x="898" y="234"/>
                      <a:pt x="892" y="262"/>
                    </a:cubicBezTo>
                    <a:cubicBezTo>
                      <a:pt x="886" y="290"/>
                      <a:pt x="880" y="305"/>
                      <a:pt x="855" y="315"/>
                    </a:cubicBezTo>
                    <a:cubicBezTo>
                      <a:pt x="830" y="325"/>
                      <a:pt x="783" y="329"/>
                      <a:pt x="742" y="325"/>
                    </a:cubicBezTo>
                    <a:cubicBezTo>
                      <a:pt x="701" y="321"/>
                      <a:pt x="654" y="305"/>
                      <a:pt x="609" y="289"/>
                    </a:cubicBezTo>
                    <a:cubicBezTo>
                      <a:pt x="564" y="273"/>
                      <a:pt x="512" y="241"/>
                      <a:pt x="469" y="229"/>
                    </a:cubicBezTo>
                    <a:cubicBezTo>
                      <a:pt x="426" y="217"/>
                      <a:pt x="379" y="214"/>
                      <a:pt x="349" y="215"/>
                    </a:cubicBezTo>
                    <a:cubicBezTo>
                      <a:pt x="319" y="216"/>
                      <a:pt x="306" y="224"/>
                      <a:pt x="286" y="235"/>
                    </a:cubicBezTo>
                    <a:cubicBezTo>
                      <a:pt x="266" y="246"/>
                      <a:pt x="244" y="261"/>
                      <a:pt x="229" y="282"/>
                    </a:cubicBezTo>
                    <a:cubicBezTo>
                      <a:pt x="214" y="303"/>
                      <a:pt x="199" y="319"/>
                      <a:pt x="193" y="359"/>
                    </a:cubicBezTo>
                    <a:cubicBezTo>
                      <a:pt x="187" y="399"/>
                      <a:pt x="194" y="477"/>
                      <a:pt x="193" y="522"/>
                    </a:cubicBezTo>
                    <a:cubicBezTo>
                      <a:pt x="192" y="567"/>
                      <a:pt x="193" y="582"/>
                      <a:pt x="186" y="628"/>
                    </a:cubicBezTo>
                    <a:cubicBezTo>
                      <a:pt x="179" y="674"/>
                      <a:pt x="167" y="740"/>
                      <a:pt x="153" y="798"/>
                    </a:cubicBezTo>
                    <a:cubicBezTo>
                      <a:pt x="139" y="856"/>
                      <a:pt x="120" y="920"/>
                      <a:pt x="103" y="978"/>
                    </a:cubicBezTo>
                    <a:cubicBezTo>
                      <a:pt x="86" y="1036"/>
                      <a:pt x="64" y="1096"/>
                      <a:pt x="53" y="1148"/>
                    </a:cubicBezTo>
                    <a:cubicBezTo>
                      <a:pt x="42" y="1200"/>
                      <a:pt x="39" y="1245"/>
                      <a:pt x="36" y="1291"/>
                    </a:cubicBezTo>
                    <a:cubicBezTo>
                      <a:pt x="33" y="1337"/>
                      <a:pt x="35" y="1385"/>
                      <a:pt x="33" y="1424"/>
                    </a:cubicBezTo>
                    <a:cubicBezTo>
                      <a:pt x="31" y="1463"/>
                      <a:pt x="29" y="1493"/>
                      <a:pt x="26" y="1527"/>
                    </a:cubicBezTo>
                    <a:cubicBezTo>
                      <a:pt x="23" y="1561"/>
                      <a:pt x="18" y="1595"/>
                      <a:pt x="16" y="1627"/>
                    </a:cubicBezTo>
                    <a:cubicBezTo>
                      <a:pt x="14" y="1659"/>
                      <a:pt x="0" y="1705"/>
                      <a:pt x="16" y="1720"/>
                    </a:cubicBezTo>
                    <a:cubicBezTo>
                      <a:pt x="32" y="1735"/>
                      <a:pt x="66" y="1730"/>
                      <a:pt x="110" y="1717"/>
                    </a:cubicBezTo>
                    <a:cubicBezTo>
                      <a:pt x="120" y="1713"/>
                      <a:pt x="109" y="1625"/>
                      <a:pt x="106" y="1567"/>
                    </a:cubicBezTo>
                    <a:cubicBezTo>
                      <a:pt x="103" y="1509"/>
                      <a:pt x="90" y="1429"/>
                      <a:pt x="90" y="1367"/>
                    </a:cubicBezTo>
                    <a:cubicBezTo>
                      <a:pt x="90" y="1305"/>
                      <a:pt x="93" y="1253"/>
                      <a:pt x="103" y="1194"/>
                    </a:cubicBezTo>
                    <a:cubicBezTo>
                      <a:pt x="113" y="1135"/>
                      <a:pt x="136" y="1075"/>
                      <a:pt x="153" y="1014"/>
                    </a:cubicBezTo>
                    <a:cubicBezTo>
                      <a:pt x="170" y="953"/>
                      <a:pt x="189" y="889"/>
                      <a:pt x="203" y="831"/>
                    </a:cubicBezTo>
                    <a:cubicBezTo>
                      <a:pt x="217" y="773"/>
                      <a:pt x="228" y="721"/>
                      <a:pt x="236" y="665"/>
                    </a:cubicBezTo>
                    <a:cubicBezTo>
                      <a:pt x="244" y="609"/>
                      <a:pt x="246" y="541"/>
                      <a:pt x="249" y="492"/>
                    </a:cubicBezTo>
                    <a:cubicBezTo>
                      <a:pt x="252" y="443"/>
                      <a:pt x="246" y="402"/>
                      <a:pt x="253" y="369"/>
                    </a:cubicBezTo>
                    <a:cubicBezTo>
                      <a:pt x="260" y="336"/>
                      <a:pt x="267" y="309"/>
                      <a:pt x="289" y="292"/>
                    </a:cubicBezTo>
                    <a:cubicBezTo>
                      <a:pt x="311" y="275"/>
                      <a:pt x="344" y="262"/>
                      <a:pt x="383" y="265"/>
                    </a:cubicBezTo>
                    <a:cubicBezTo>
                      <a:pt x="422" y="268"/>
                      <a:pt x="479" y="295"/>
                      <a:pt x="526" y="312"/>
                    </a:cubicBezTo>
                    <a:cubicBezTo>
                      <a:pt x="573" y="329"/>
                      <a:pt x="625" y="354"/>
                      <a:pt x="666" y="365"/>
                    </a:cubicBezTo>
                    <a:cubicBezTo>
                      <a:pt x="707" y="376"/>
                      <a:pt x="736" y="375"/>
                      <a:pt x="772" y="375"/>
                    </a:cubicBezTo>
                    <a:cubicBezTo>
                      <a:pt x="808" y="375"/>
                      <a:pt x="856" y="380"/>
                      <a:pt x="885" y="365"/>
                    </a:cubicBezTo>
                    <a:cubicBezTo>
                      <a:pt x="914" y="350"/>
                      <a:pt x="938" y="316"/>
                      <a:pt x="949" y="285"/>
                    </a:cubicBezTo>
                    <a:cubicBezTo>
                      <a:pt x="960" y="254"/>
                      <a:pt x="953" y="212"/>
                      <a:pt x="949" y="179"/>
                    </a:cubicBezTo>
                    <a:cubicBezTo>
                      <a:pt x="945" y="146"/>
                      <a:pt x="935" y="114"/>
                      <a:pt x="925" y="86"/>
                    </a:cubicBezTo>
                    <a:cubicBezTo>
                      <a:pt x="915" y="58"/>
                      <a:pt x="900" y="24"/>
                      <a:pt x="889" y="12"/>
                    </a:cubicBezTo>
                    <a:cubicBezTo>
                      <a:pt x="878" y="0"/>
                      <a:pt x="867" y="7"/>
                      <a:pt x="857" y="14"/>
                    </a:cubicBez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19792200">
                <a:off x="2217600" y="2127960"/>
                <a:ext cx="459000" cy="367920"/>
              </a:xfrm>
              <a:prstGeom prst="ellipse">
                <a:avLst/>
              </a:prstGeom>
              <a:solidFill>
                <a:srgbClr val="ffcc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128680" y="1861920"/>
                <a:ext cx="281160" cy="336240"/>
              </a:xfrm>
              <a:custGeom>
                <a:avLst/>
                <a:gdLst/>
                <a:ahLst/>
                <a:rect l="l" t="t" r="r" b="b"/>
                <a:pathLst>
                  <a:path w="139" h="166">
                    <a:moveTo>
                      <a:pt x="133" y="137"/>
                    </a:moveTo>
                    <a:cubicBezTo>
                      <a:pt x="139" y="113"/>
                      <a:pt x="82" y="44"/>
                      <a:pt x="64" y="22"/>
                    </a:cubicBezTo>
                    <a:cubicBezTo>
                      <a:pt x="46" y="0"/>
                      <a:pt x="31" y="3"/>
                      <a:pt x="22" y="6"/>
                    </a:cubicBezTo>
                    <a:cubicBezTo>
                      <a:pt x="13" y="9"/>
                      <a:pt x="0" y="11"/>
                      <a:pt x="11" y="38"/>
                    </a:cubicBezTo>
                    <a:cubicBezTo>
                      <a:pt x="22" y="65"/>
                      <a:pt x="62" y="164"/>
                      <a:pt x="88" y="166"/>
                    </a:cubicBezTo>
                    <a:cubicBezTo>
                      <a:pt x="115" y="166"/>
                      <a:pt x="128" y="154"/>
                      <a:pt x="133" y="137"/>
                    </a:cubicBez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20493600">
                <a:off x="2185920" y="1911960"/>
                <a:ext cx="88920" cy="99720"/>
              </a:xfrm>
              <a:prstGeom prst="ellipse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814320" y="5927040"/>
                <a:ext cx="201600" cy="234720"/>
              </a:xfrm>
              <a:prstGeom prst="rect">
                <a:avLst/>
              </a:prstGeom>
              <a:solidFill>
                <a:srgbClr val="ffcc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866880" y="5992200"/>
                <a:ext cx="88920" cy="1378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68440" y="5330160"/>
                <a:ext cx="306360" cy="545760"/>
              </a:xfrm>
              <a:custGeom>
                <a:avLst/>
                <a:gdLst/>
                <a:ahLst/>
                <a:rect l="l" t="t" r="r" b="b"/>
                <a:pathLst>
                  <a:path w="152" h="269">
                    <a:moveTo>
                      <a:pt x="152" y="0"/>
                    </a:moveTo>
                    <a:lnTo>
                      <a:pt x="142" y="10"/>
                    </a:lnTo>
                    <a:cubicBezTo>
                      <a:pt x="136" y="21"/>
                      <a:pt x="132" y="48"/>
                      <a:pt x="118" y="68"/>
                    </a:cubicBezTo>
                    <a:cubicBezTo>
                      <a:pt x="104" y="88"/>
                      <a:pt x="74" y="107"/>
                      <a:pt x="58" y="128"/>
                    </a:cubicBezTo>
                    <a:cubicBezTo>
                      <a:pt x="42" y="149"/>
                      <a:pt x="31" y="172"/>
                      <a:pt x="22" y="192"/>
                    </a:cubicBezTo>
                    <a:cubicBezTo>
                      <a:pt x="13" y="212"/>
                      <a:pt x="7" y="238"/>
                      <a:pt x="4" y="250"/>
                    </a:cubicBezTo>
                    <a:cubicBezTo>
                      <a:pt x="1" y="262"/>
                      <a:pt x="0" y="264"/>
                      <a:pt x="4" y="266"/>
                    </a:cubicBezTo>
                    <a:cubicBezTo>
                      <a:pt x="8" y="268"/>
                      <a:pt x="26" y="269"/>
                      <a:pt x="30" y="264"/>
                    </a:cubicBezTo>
                    <a:cubicBezTo>
                      <a:pt x="34" y="259"/>
                      <a:pt x="25" y="251"/>
                      <a:pt x="28" y="236"/>
                    </a:cubicBezTo>
                    <a:cubicBezTo>
                      <a:pt x="31" y="221"/>
                      <a:pt x="40" y="192"/>
                      <a:pt x="48" y="176"/>
                    </a:cubicBezTo>
                    <a:cubicBezTo>
                      <a:pt x="56" y="160"/>
                      <a:pt x="64" y="149"/>
                      <a:pt x="74" y="138"/>
                    </a:cubicBezTo>
                    <a:cubicBezTo>
                      <a:pt x="84" y="127"/>
                      <a:pt x="97" y="121"/>
                      <a:pt x="106" y="112"/>
                    </a:cubicBezTo>
                    <a:cubicBezTo>
                      <a:pt x="115" y="103"/>
                      <a:pt x="125" y="92"/>
                      <a:pt x="130" y="86"/>
                    </a:cubicBezTo>
                    <a:cubicBezTo>
                      <a:pt x="135" y="80"/>
                      <a:pt x="134" y="88"/>
                      <a:pt x="138" y="74"/>
                    </a:cubicBezTo>
                    <a:cubicBezTo>
                      <a:pt x="142" y="60"/>
                      <a:pt x="147" y="30"/>
                      <a:pt x="152" y="0"/>
                    </a:cubicBez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39640" y="5853960"/>
                <a:ext cx="117720" cy="156960"/>
              </a:xfrm>
              <a:prstGeom prst="rect">
                <a:avLst/>
              </a:prstGeom>
              <a:solidFill>
                <a:srgbClr val="ffcc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2076480" y="2482560"/>
              <a:ext cx="892080" cy="1811160"/>
            </a:xfrm>
            <a:custGeom>
              <a:avLst/>
              <a:gdLst/>
              <a:ahLst/>
              <a:rect l="l" t="t" r="r" b="b"/>
              <a:pathLst>
                <a:path w="442" h="893">
                  <a:moveTo>
                    <a:pt x="287" y="52"/>
                  </a:moveTo>
                  <a:cubicBezTo>
                    <a:pt x="295" y="43"/>
                    <a:pt x="323" y="20"/>
                    <a:pt x="344" y="13"/>
                  </a:cubicBezTo>
                  <a:cubicBezTo>
                    <a:pt x="365" y="6"/>
                    <a:pt x="397" y="0"/>
                    <a:pt x="413" y="7"/>
                  </a:cubicBezTo>
                  <a:cubicBezTo>
                    <a:pt x="429" y="14"/>
                    <a:pt x="438" y="21"/>
                    <a:pt x="440" y="55"/>
                  </a:cubicBezTo>
                  <a:cubicBezTo>
                    <a:pt x="442" y="89"/>
                    <a:pt x="442" y="162"/>
                    <a:pt x="425" y="214"/>
                  </a:cubicBezTo>
                  <a:cubicBezTo>
                    <a:pt x="408" y="266"/>
                    <a:pt x="377" y="330"/>
                    <a:pt x="338" y="370"/>
                  </a:cubicBezTo>
                  <a:cubicBezTo>
                    <a:pt x="299" y="410"/>
                    <a:pt x="236" y="441"/>
                    <a:pt x="191" y="454"/>
                  </a:cubicBezTo>
                  <a:cubicBezTo>
                    <a:pt x="146" y="467"/>
                    <a:pt x="96" y="446"/>
                    <a:pt x="68" y="448"/>
                  </a:cubicBezTo>
                  <a:cubicBezTo>
                    <a:pt x="40" y="450"/>
                    <a:pt x="30" y="457"/>
                    <a:pt x="23" y="466"/>
                  </a:cubicBezTo>
                  <a:cubicBezTo>
                    <a:pt x="16" y="475"/>
                    <a:pt x="13" y="482"/>
                    <a:pt x="23" y="505"/>
                  </a:cubicBezTo>
                  <a:cubicBezTo>
                    <a:pt x="33" y="528"/>
                    <a:pt x="65" y="576"/>
                    <a:pt x="80" y="604"/>
                  </a:cubicBezTo>
                  <a:cubicBezTo>
                    <a:pt x="95" y="632"/>
                    <a:pt x="108" y="645"/>
                    <a:pt x="116" y="673"/>
                  </a:cubicBezTo>
                  <a:cubicBezTo>
                    <a:pt x="124" y="701"/>
                    <a:pt x="128" y="742"/>
                    <a:pt x="128" y="775"/>
                  </a:cubicBezTo>
                  <a:cubicBezTo>
                    <a:pt x="128" y="808"/>
                    <a:pt x="123" y="855"/>
                    <a:pt x="113" y="874"/>
                  </a:cubicBezTo>
                  <a:cubicBezTo>
                    <a:pt x="103" y="893"/>
                    <a:pt x="80" y="888"/>
                    <a:pt x="68" y="889"/>
                  </a:cubicBezTo>
                  <a:cubicBezTo>
                    <a:pt x="56" y="890"/>
                    <a:pt x="39" y="882"/>
                    <a:pt x="38" y="880"/>
                  </a:cubicBezTo>
                  <a:cubicBezTo>
                    <a:pt x="37" y="878"/>
                    <a:pt x="53" y="876"/>
                    <a:pt x="62" y="874"/>
                  </a:cubicBezTo>
                  <a:cubicBezTo>
                    <a:pt x="71" y="872"/>
                    <a:pt x="87" y="879"/>
                    <a:pt x="95" y="865"/>
                  </a:cubicBezTo>
                  <a:cubicBezTo>
                    <a:pt x="103" y="851"/>
                    <a:pt x="113" y="822"/>
                    <a:pt x="113" y="790"/>
                  </a:cubicBezTo>
                  <a:cubicBezTo>
                    <a:pt x="113" y="758"/>
                    <a:pt x="108" y="703"/>
                    <a:pt x="98" y="670"/>
                  </a:cubicBezTo>
                  <a:cubicBezTo>
                    <a:pt x="88" y="637"/>
                    <a:pt x="63" y="611"/>
                    <a:pt x="50" y="589"/>
                  </a:cubicBezTo>
                  <a:cubicBezTo>
                    <a:pt x="37" y="567"/>
                    <a:pt x="28" y="553"/>
                    <a:pt x="20" y="535"/>
                  </a:cubicBezTo>
                  <a:cubicBezTo>
                    <a:pt x="12" y="517"/>
                    <a:pt x="0" y="498"/>
                    <a:pt x="2" y="481"/>
                  </a:cubicBezTo>
                  <a:cubicBezTo>
                    <a:pt x="4" y="464"/>
                    <a:pt x="9" y="440"/>
                    <a:pt x="29" y="433"/>
                  </a:cubicBezTo>
                  <a:cubicBezTo>
                    <a:pt x="49" y="426"/>
                    <a:pt x="93" y="440"/>
                    <a:pt x="125" y="439"/>
                  </a:cubicBezTo>
                  <a:cubicBezTo>
                    <a:pt x="157" y="438"/>
                    <a:pt x="194" y="439"/>
                    <a:pt x="224" y="427"/>
                  </a:cubicBezTo>
                  <a:cubicBezTo>
                    <a:pt x="254" y="415"/>
                    <a:pt x="284" y="390"/>
                    <a:pt x="308" y="367"/>
                  </a:cubicBezTo>
                  <a:cubicBezTo>
                    <a:pt x="332" y="344"/>
                    <a:pt x="352" y="323"/>
                    <a:pt x="371" y="289"/>
                  </a:cubicBezTo>
                  <a:cubicBezTo>
                    <a:pt x="390" y="255"/>
                    <a:pt x="411" y="198"/>
                    <a:pt x="419" y="166"/>
                  </a:cubicBezTo>
                  <a:cubicBezTo>
                    <a:pt x="427" y="134"/>
                    <a:pt x="422" y="119"/>
                    <a:pt x="422" y="97"/>
                  </a:cubicBezTo>
                  <a:cubicBezTo>
                    <a:pt x="422" y="75"/>
                    <a:pt x="424" y="44"/>
                    <a:pt x="416" y="31"/>
                  </a:cubicBezTo>
                  <a:cubicBezTo>
                    <a:pt x="408" y="18"/>
                    <a:pt x="389" y="17"/>
                    <a:pt x="374" y="19"/>
                  </a:cubicBezTo>
                  <a:cubicBezTo>
                    <a:pt x="359" y="21"/>
                    <a:pt x="336" y="38"/>
                    <a:pt x="323" y="46"/>
                  </a:cubicBezTo>
                  <a:cubicBezTo>
                    <a:pt x="310" y="54"/>
                    <a:pt x="299" y="66"/>
                    <a:pt x="293" y="67"/>
                  </a:cubicBezTo>
                  <a:cubicBezTo>
                    <a:pt x="287" y="68"/>
                    <a:pt x="279" y="61"/>
                    <a:pt x="287" y="52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022400" y="1585800"/>
            <a:ext cx="5763960" cy="2795400"/>
            <a:chOff x="1022400" y="1585800"/>
            <a:chExt cx="5763960" cy="2795400"/>
          </a:xfrm>
        </p:grpSpPr>
        <p:sp>
          <p:nvSpPr>
            <p:cNvPr id="89" name=""/>
            <p:cNvSpPr/>
            <p:nvPr/>
          </p:nvSpPr>
          <p:spPr>
            <a:xfrm>
              <a:off x="5002560" y="2036520"/>
              <a:ext cx="1783800" cy="9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r" pos="35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Untere HW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35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- Urethri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35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- Zysti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1022400" y="1585800"/>
              <a:ext cx="1819080" cy="2795400"/>
              <a:chOff x="1022400" y="1585800"/>
              <a:chExt cx="1819080" cy="2795400"/>
            </a:xfrm>
          </p:grpSpPr>
          <p:sp>
            <p:nvSpPr>
              <p:cNvPr id="91" name=""/>
              <p:cNvSpPr/>
              <p:nvPr/>
            </p:nvSpPr>
            <p:spPr>
              <a:xfrm>
                <a:off x="1022400" y="2492280"/>
                <a:ext cx="1577880" cy="1863720"/>
              </a:xfrm>
              <a:custGeom>
                <a:avLst/>
                <a:gdLst/>
                <a:ahLst/>
                <a:rect l="l" t="t" r="r" b="b"/>
                <a:pathLst>
                  <a:path w="994" h="1174">
                    <a:moveTo>
                      <a:pt x="921" y="0"/>
                    </a:moveTo>
                    <a:cubicBezTo>
                      <a:pt x="947" y="54"/>
                      <a:pt x="974" y="108"/>
                      <a:pt x="984" y="158"/>
                    </a:cubicBezTo>
                    <a:cubicBezTo>
                      <a:pt x="994" y="208"/>
                      <a:pt x="991" y="267"/>
                      <a:pt x="984" y="302"/>
                    </a:cubicBezTo>
                    <a:cubicBezTo>
                      <a:pt x="977" y="337"/>
                      <a:pt x="966" y="356"/>
                      <a:pt x="944" y="370"/>
                    </a:cubicBezTo>
                    <a:cubicBezTo>
                      <a:pt x="922" y="384"/>
                      <a:pt x="894" y="385"/>
                      <a:pt x="853" y="384"/>
                    </a:cubicBezTo>
                    <a:cubicBezTo>
                      <a:pt x="812" y="383"/>
                      <a:pt x="748" y="376"/>
                      <a:pt x="696" y="362"/>
                    </a:cubicBezTo>
                    <a:cubicBezTo>
                      <a:pt x="644" y="348"/>
                      <a:pt x="584" y="316"/>
                      <a:pt x="540" y="298"/>
                    </a:cubicBezTo>
                    <a:cubicBezTo>
                      <a:pt x="496" y="280"/>
                      <a:pt x="471" y="263"/>
                      <a:pt x="432" y="254"/>
                    </a:cubicBezTo>
                    <a:cubicBezTo>
                      <a:pt x="393" y="245"/>
                      <a:pt x="339" y="245"/>
                      <a:pt x="308" y="246"/>
                    </a:cubicBezTo>
                    <a:cubicBezTo>
                      <a:pt x="277" y="247"/>
                      <a:pt x="265" y="251"/>
                      <a:pt x="244" y="258"/>
                    </a:cubicBezTo>
                    <a:cubicBezTo>
                      <a:pt x="223" y="265"/>
                      <a:pt x="202" y="270"/>
                      <a:pt x="181" y="291"/>
                    </a:cubicBezTo>
                    <a:cubicBezTo>
                      <a:pt x="160" y="312"/>
                      <a:pt x="129" y="358"/>
                      <a:pt x="116" y="386"/>
                    </a:cubicBezTo>
                    <a:cubicBezTo>
                      <a:pt x="103" y="414"/>
                      <a:pt x="102" y="424"/>
                      <a:pt x="100" y="462"/>
                    </a:cubicBezTo>
                    <a:cubicBezTo>
                      <a:pt x="98" y="500"/>
                      <a:pt x="105" y="559"/>
                      <a:pt x="104" y="614"/>
                    </a:cubicBezTo>
                    <a:cubicBezTo>
                      <a:pt x="103" y="669"/>
                      <a:pt x="113" y="697"/>
                      <a:pt x="96" y="790"/>
                    </a:cubicBezTo>
                    <a:cubicBezTo>
                      <a:pt x="79" y="883"/>
                      <a:pt x="39" y="1028"/>
                      <a:pt x="0" y="1174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136520" y="2492280"/>
                <a:ext cx="1598760" cy="1888920"/>
              </a:xfrm>
              <a:custGeom>
                <a:avLst/>
                <a:gdLst/>
                <a:ahLst/>
                <a:rect l="l" t="t" r="r" b="b"/>
                <a:pathLst>
                  <a:path w="1007" h="1190">
                    <a:moveTo>
                      <a:pt x="939" y="0"/>
                    </a:moveTo>
                    <a:cubicBezTo>
                      <a:pt x="957" y="55"/>
                      <a:pt x="974" y="110"/>
                      <a:pt x="984" y="158"/>
                    </a:cubicBezTo>
                    <a:cubicBezTo>
                      <a:pt x="994" y="206"/>
                      <a:pt x="1007" y="246"/>
                      <a:pt x="1000" y="288"/>
                    </a:cubicBezTo>
                    <a:cubicBezTo>
                      <a:pt x="993" y="330"/>
                      <a:pt x="976" y="382"/>
                      <a:pt x="944" y="410"/>
                    </a:cubicBezTo>
                    <a:cubicBezTo>
                      <a:pt x="912" y="438"/>
                      <a:pt x="853" y="448"/>
                      <a:pt x="808" y="453"/>
                    </a:cubicBezTo>
                    <a:cubicBezTo>
                      <a:pt x="763" y="458"/>
                      <a:pt x="726" y="454"/>
                      <a:pt x="672" y="442"/>
                    </a:cubicBezTo>
                    <a:cubicBezTo>
                      <a:pt x="618" y="430"/>
                      <a:pt x="546" y="404"/>
                      <a:pt x="484" y="382"/>
                    </a:cubicBezTo>
                    <a:cubicBezTo>
                      <a:pt x="422" y="360"/>
                      <a:pt x="347" y="321"/>
                      <a:pt x="300" y="310"/>
                    </a:cubicBezTo>
                    <a:cubicBezTo>
                      <a:pt x="253" y="299"/>
                      <a:pt x="229" y="305"/>
                      <a:pt x="200" y="314"/>
                    </a:cubicBezTo>
                    <a:cubicBezTo>
                      <a:pt x="171" y="323"/>
                      <a:pt x="144" y="343"/>
                      <a:pt x="128" y="362"/>
                    </a:cubicBezTo>
                    <a:cubicBezTo>
                      <a:pt x="112" y="381"/>
                      <a:pt x="109" y="397"/>
                      <a:pt x="104" y="426"/>
                    </a:cubicBezTo>
                    <a:cubicBezTo>
                      <a:pt x="99" y="455"/>
                      <a:pt x="101" y="485"/>
                      <a:pt x="100" y="534"/>
                    </a:cubicBezTo>
                    <a:cubicBezTo>
                      <a:pt x="99" y="583"/>
                      <a:pt x="99" y="663"/>
                      <a:pt x="96" y="718"/>
                    </a:cubicBezTo>
                    <a:cubicBezTo>
                      <a:pt x="93" y="773"/>
                      <a:pt x="96" y="787"/>
                      <a:pt x="80" y="866"/>
                    </a:cubicBezTo>
                    <a:cubicBezTo>
                      <a:pt x="64" y="945"/>
                      <a:pt x="32" y="1067"/>
                      <a:pt x="0" y="119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544760" y="1585800"/>
                <a:ext cx="1296720" cy="947520"/>
              </a:xfrm>
              <a:custGeom>
                <a:avLst/>
                <a:gdLst/>
                <a:ahLst/>
                <a:rect l="l" t="t" r="r" b="b"/>
                <a:pathLst>
                  <a:path w="817" h="597">
                    <a:moveTo>
                      <a:pt x="587" y="585"/>
                    </a:moveTo>
                    <a:cubicBezTo>
                      <a:pt x="556" y="586"/>
                      <a:pt x="473" y="597"/>
                      <a:pt x="403" y="577"/>
                    </a:cubicBezTo>
                    <a:cubicBezTo>
                      <a:pt x="333" y="557"/>
                      <a:pt x="230" y="512"/>
                      <a:pt x="167" y="465"/>
                    </a:cubicBezTo>
                    <a:cubicBezTo>
                      <a:pt x="104" y="418"/>
                      <a:pt x="54" y="343"/>
                      <a:pt x="27" y="293"/>
                    </a:cubicBezTo>
                    <a:cubicBezTo>
                      <a:pt x="0" y="243"/>
                      <a:pt x="1" y="204"/>
                      <a:pt x="7" y="165"/>
                    </a:cubicBezTo>
                    <a:cubicBezTo>
                      <a:pt x="13" y="126"/>
                      <a:pt x="26" y="84"/>
                      <a:pt x="63" y="57"/>
                    </a:cubicBezTo>
                    <a:cubicBezTo>
                      <a:pt x="100" y="30"/>
                      <a:pt x="166" y="10"/>
                      <a:pt x="227" y="5"/>
                    </a:cubicBezTo>
                    <a:cubicBezTo>
                      <a:pt x="288" y="0"/>
                      <a:pt x="362" y="8"/>
                      <a:pt x="431" y="29"/>
                    </a:cubicBezTo>
                    <a:cubicBezTo>
                      <a:pt x="500" y="50"/>
                      <a:pt x="585" y="90"/>
                      <a:pt x="643" y="133"/>
                    </a:cubicBezTo>
                    <a:cubicBezTo>
                      <a:pt x="701" y="176"/>
                      <a:pt x="752" y="237"/>
                      <a:pt x="779" y="289"/>
                    </a:cubicBezTo>
                    <a:cubicBezTo>
                      <a:pt x="806" y="341"/>
                      <a:pt x="817" y="398"/>
                      <a:pt x="803" y="445"/>
                    </a:cubicBezTo>
                    <a:cubicBezTo>
                      <a:pt x="789" y="492"/>
                      <a:pt x="742" y="532"/>
                      <a:pt x="695" y="573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4" name=""/>
          <p:cNvGrpSpPr/>
          <p:nvPr/>
        </p:nvGrpSpPr>
        <p:grpSpPr>
          <a:xfrm>
            <a:off x="1901880" y="2266920"/>
            <a:ext cx="6368400" cy="3254400"/>
            <a:chOff x="1901880" y="2266920"/>
            <a:chExt cx="6368400" cy="3254400"/>
          </a:xfrm>
        </p:grpSpPr>
        <p:sp>
          <p:nvSpPr>
            <p:cNvPr id="95" name=""/>
            <p:cNvSpPr/>
            <p:nvPr/>
          </p:nvSpPr>
          <p:spPr>
            <a:xfrm>
              <a:off x="4999320" y="4268880"/>
              <a:ext cx="3270960" cy="12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Infektionen benachbar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Struktur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- Epididymi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- Prostati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01880" y="2266920"/>
              <a:ext cx="1068480" cy="2078280"/>
              <a:chOff x="1901880" y="2266920"/>
              <a:chExt cx="1068480" cy="2078280"/>
            </a:xfrm>
          </p:grpSpPr>
          <p:sp>
            <p:nvSpPr>
              <p:cNvPr id="97" name=""/>
              <p:cNvSpPr/>
              <p:nvPr/>
            </p:nvSpPr>
            <p:spPr>
              <a:xfrm>
                <a:off x="2101680" y="2460600"/>
                <a:ext cx="511200" cy="538200"/>
              </a:xfrm>
              <a:custGeom>
                <a:avLst/>
                <a:gdLst/>
                <a:ahLst/>
                <a:rect l="l" t="t" r="r" b="b"/>
                <a:pathLst>
                  <a:path w="322" h="339">
                    <a:moveTo>
                      <a:pt x="14" y="20"/>
                    </a:moveTo>
                    <a:cubicBezTo>
                      <a:pt x="28" y="0"/>
                      <a:pt x="93" y="35"/>
                      <a:pt x="131" y="38"/>
                    </a:cubicBezTo>
                    <a:cubicBezTo>
                      <a:pt x="169" y="41"/>
                      <a:pt x="200" y="23"/>
                      <a:pt x="242" y="41"/>
                    </a:cubicBezTo>
                    <a:cubicBezTo>
                      <a:pt x="277" y="53"/>
                      <a:pt x="289" y="133"/>
                      <a:pt x="299" y="179"/>
                    </a:cubicBezTo>
                    <a:cubicBezTo>
                      <a:pt x="309" y="225"/>
                      <a:pt x="322" y="301"/>
                      <a:pt x="302" y="320"/>
                    </a:cubicBezTo>
                    <a:cubicBezTo>
                      <a:pt x="282" y="339"/>
                      <a:pt x="214" y="309"/>
                      <a:pt x="179" y="296"/>
                    </a:cubicBezTo>
                    <a:cubicBezTo>
                      <a:pt x="144" y="283"/>
                      <a:pt x="114" y="261"/>
                      <a:pt x="92" y="239"/>
                    </a:cubicBezTo>
                    <a:cubicBezTo>
                      <a:pt x="70" y="217"/>
                      <a:pt x="58" y="196"/>
                      <a:pt x="44" y="161"/>
                    </a:cubicBezTo>
                    <a:cubicBezTo>
                      <a:pt x="30" y="126"/>
                      <a:pt x="0" y="40"/>
                      <a:pt x="14" y="2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589120" y="2266920"/>
                <a:ext cx="335160" cy="696960"/>
              </a:xfrm>
              <a:custGeom>
                <a:avLst/>
                <a:gdLst/>
                <a:ahLst/>
                <a:rect l="l" t="t" r="r" b="b"/>
                <a:pathLst>
                  <a:path w="211" h="439">
                    <a:moveTo>
                      <a:pt x="160" y="6"/>
                    </a:moveTo>
                    <a:cubicBezTo>
                      <a:pt x="141" y="0"/>
                      <a:pt x="111" y="79"/>
                      <a:pt x="88" y="103"/>
                    </a:cubicBezTo>
                    <a:cubicBezTo>
                      <a:pt x="65" y="127"/>
                      <a:pt x="34" y="136"/>
                      <a:pt x="22" y="148"/>
                    </a:cubicBezTo>
                    <a:cubicBezTo>
                      <a:pt x="0" y="176"/>
                      <a:pt x="69" y="276"/>
                      <a:pt x="79" y="322"/>
                    </a:cubicBezTo>
                    <a:cubicBezTo>
                      <a:pt x="89" y="368"/>
                      <a:pt x="70" y="415"/>
                      <a:pt x="79" y="427"/>
                    </a:cubicBezTo>
                    <a:cubicBezTo>
                      <a:pt x="88" y="439"/>
                      <a:pt x="116" y="419"/>
                      <a:pt x="136" y="397"/>
                    </a:cubicBezTo>
                    <a:cubicBezTo>
                      <a:pt x="156" y="375"/>
                      <a:pt x="188" y="338"/>
                      <a:pt x="199" y="295"/>
                    </a:cubicBezTo>
                    <a:cubicBezTo>
                      <a:pt x="210" y="252"/>
                      <a:pt x="211" y="185"/>
                      <a:pt x="205" y="139"/>
                    </a:cubicBezTo>
                    <a:cubicBezTo>
                      <a:pt x="199" y="93"/>
                      <a:pt x="179" y="12"/>
                      <a:pt x="160" y="6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081160" y="2492640"/>
                <a:ext cx="889200" cy="1806480"/>
              </a:xfrm>
              <a:custGeom>
                <a:avLst/>
                <a:gdLst/>
                <a:ahLst/>
                <a:rect l="l" t="t" r="r" b="b"/>
                <a:pathLst>
                  <a:path w="560" h="1138">
                    <a:moveTo>
                      <a:pt x="364" y="66"/>
                    </a:moveTo>
                    <a:cubicBezTo>
                      <a:pt x="374" y="55"/>
                      <a:pt x="409" y="25"/>
                      <a:pt x="436" y="17"/>
                    </a:cubicBezTo>
                    <a:cubicBezTo>
                      <a:pt x="462" y="8"/>
                      <a:pt x="503" y="0"/>
                      <a:pt x="523" y="9"/>
                    </a:cubicBezTo>
                    <a:cubicBezTo>
                      <a:pt x="544" y="18"/>
                      <a:pt x="555" y="27"/>
                      <a:pt x="557" y="70"/>
                    </a:cubicBezTo>
                    <a:cubicBezTo>
                      <a:pt x="560" y="113"/>
                      <a:pt x="560" y="206"/>
                      <a:pt x="538" y="272"/>
                    </a:cubicBezTo>
                    <a:cubicBezTo>
                      <a:pt x="517" y="338"/>
                      <a:pt x="478" y="419"/>
                      <a:pt x="428" y="470"/>
                    </a:cubicBezTo>
                    <a:cubicBezTo>
                      <a:pt x="379" y="521"/>
                      <a:pt x="299" y="561"/>
                      <a:pt x="242" y="577"/>
                    </a:cubicBezTo>
                    <a:cubicBezTo>
                      <a:pt x="185" y="594"/>
                      <a:pt x="122" y="567"/>
                      <a:pt x="86" y="569"/>
                    </a:cubicBezTo>
                    <a:cubicBezTo>
                      <a:pt x="51" y="572"/>
                      <a:pt x="38" y="581"/>
                      <a:pt x="29" y="592"/>
                    </a:cubicBezTo>
                    <a:cubicBezTo>
                      <a:pt x="20" y="604"/>
                      <a:pt x="16" y="613"/>
                      <a:pt x="29" y="642"/>
                    </a:cubicBezTo>
                    <a:cubicBezTo>
                      <a:pt x="42" y="671"/>
                      <a:pt x="82" y="732"/>
                      <a:pt x="101" y="768"/>
                    </a:cubicBezTo>
                    <a:cubicBezTo>
                      <a:pt x="120" y="803"/>
                      <a:pt x="137" y="820"/>
                      <a:pt x="147" y="855"/>
                    </a:cubicBezTo>
                    <a:cubicBezTo>
                      <a:pt x="157" y="891"/>
                      <a:pt x="162" y="943"/>
                      <a:pt x="162" y="985"/>
                    </a:cubicBezTo>
                    <a:cubicBezTo>
                      <a:pt x="162" y="1027"/>
                      <a:pt x="156" y="1087"/>
                      <a:pt x="143" y="1111"/>
                    </a:cubicBezTo>
                    <a:cubicBezTo>
                      <a:pt x="130" y="1135"/>
                      <a:pt x="94" y="1138"/>
                      <a:pt x="86" y="1130"/>
                    </a:cubicBezTo>
                    <a:cubicBezTo>
                      <a:pt x="66" y="1107"/>
                      <a:pt x="73" y="1116"/>
                      <a:pt x="79" y="1111"/>
                    </a:cubicBezTo>
                    <a:cubicBezTo>
                      <a:pt x="85" y="1106"/>
                      <a:pt x="110" y="1117"/>
                      <a:pt x="120" y="1099"/>
                    </a:cubicBezTo>
                    <a:cubicBezTo>
                      <a:pt x="130" y="1082"/>
                      <a:pt x="143" y="1045"/>
                      <a:pt x="143" y="1004"/>
                    </a:cubicBezTo>
                    <a:cubicBezTo>
                      <a:pt x="143" y="963"/>
                      <a:pt x="137" y="894"/>
                      <a:pt x="124" y="852"/>
                    </a:cubicBezTo>
                    <a:cubicBezTo>
                      <a:pt x="111" y="810"/>
                      <a:pt x="80" y="777"/>
                      <a:pt x="63" y="749"/>
                    </a:cubicBezTo>
                    <a:cubicBezTo>
                      <a:pt x="47" y="721"/>
                      <a:pt x="35" y="703"/>
                      <a:pt x="25" y="680"/>
                    </a:cubicBezTo>
                    <a:cubicBezTo>
                      <a:pt x="15" y="657"/>
                      <a:pt x="0" y="633"/>
                      <a:pt x="3" y="611"/>
                    </a:cubicBezTo>
                    <a:cubicBezTo>
                      <a:pt x="5" y="590"/>
                      <a:pt x="11" y="559"/>
                      <a:pt x="37" y="550"/>
                    </a:cubicBezTo>
                    <a:cubicBezTo>
                      <a:pt x="62" y="541"/>
                      <a:pt x="118" y="559"/>
                      <a:pt x="158" y="558"/>
                    </a:cubicBezTo>
                    <a:cubicBezTo>
                      <a:pt x="199" y="557"/>
                      <a:pt x="246" y="558"/>
                      <a:pt x="284" y="543"/>
                    </a:cubicBezTo>
                    <a:cubicBezTo>
                      <a:pt x="322" y="527"/>
                      <a:pt x="360" y="496"/>
                      <a:pt x="390" y="466"/>
                    </a:cubicBezTo>
                    <a:cubicBezTo>
                      <a:pt x="421" y="437"/>
                      <a:pt x="446" y="411"/>
                      <a:pt x="470" y="367"/>
                    </a:cubicBezTo>
                    <a:cubicBezTo>
                      <a:pt x="494" y="324"/>
                      <a:pt x="521" y="252"/>
                      <a:pt x="531" y="211"/>
                    </a:cubicBezTo>
                    <a:cubicBezTo>
                      <a:pt x="541" y="170"/>
                      <a:pt x="535" y="151"/>
                      <a:pt x="535" y="123"/>
                    </a:cubicBezTo>
                    <a:cubicBezTo>
                      <a:pt x="535" y="95"/>
                      <a:pt x="537" y="56"/>
                      <a:pt x="527" y="39"/>
                    </a:cubicBezTo>
                    <a:cubicBezTo>
                      <a:pt x="517" y="23"/>
                      <a:pt x="493" y="22"/>
                      <a:pt x="474" y="24"/>
                    </a:cubicBezTo>
                    <a:cubicBezTo>
                      <a:pt x="455" y="27"/>
                      <a:pt x="426" y="48"/>
                      <a:pt x="409" y="58"/>
                    </a:cubicBezTo>
                    <a:cubicBezTo>
                      <a:pt x="393" y="69"/>
                      <a:pt x="379" y="84"/>
                      <a:pt x="371" y="85"/>
                    </a:cubicBezTo>
                    <a:cubicBezTo>
                      <a:pt x="364" y="86"/>
                      <a:pt x="353" y="78"/>
                      <a:pt x="364" y="66"/>
                    </a:cubicBez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901880" y="3494160"/>
                <a:ext cx="401760" cy="851040"/>
              </a:xfrm>
              <a:custGeom>
                <a:avLst/>
                <a:gdLst/>
                <a:ahLst/>
                <a:rect l="l" t="t" r="r" b="b"/>
                <a:pathLst>
                  <a:path w="253" h="536">
                    <a:moveTo>
                      <a:pt x="4" y="4"/>
                    </a:moveTo>
                    <a:cubicBezTo>
                      <a:pt x="8" y="3"/>
                      <a:pt x="42" y="0"/>
                      <a:pt x="65" y="8"/>
                    </a:cubicBezTo>
                    <a:cubicBezTo>
                      <a:pt x="88" y="16"/>
                      <a:pt x="121" y="33"/>
                      <a:pt x="140" y="53"/>
                    </a:cubicBezTo>
                    <a:cubicBezTo>
                      <a:pt x="159" y="73"/>
                      <a:pt x="167" y="111"/>
                      <a:pt x="179" y="131"/>
                    </a:cubicBezTo>
                    <a:cubicBezTo>
                      <a:pt x="191" y="151"/>
                      <a:pt x="204" y="151"/>
                      <a:pt x="215" y="173"/>
                    </a:cubicBezTo>
                    <a:cubicBezTo>
                      <a:pt x="226" y="195"/>
                      <a:pt x="243" y="231"/>
                      <a:pt x="248" y="266"/>
                    </a:cubicBezTo>
                    <a:cubicBezTo>
                      <a:pt x="253" y="301"/>
                      <a:pt x="253" y="352"/>
                      <a:pt x="248" y="386"/>
                    </a:cubicBezTo>
                    <a:cubicBezTo>
                      <a:pt x="243" y="420"/>
                      <a:pt x="234" y="449"/>
                      <a:pt x="215" y="473"/>
                    </a:cubicBezTo>
                    <a:cubicBezTo>
                      <a:pt x="196" y="497"/>
                      <a:pt x="141" y="530"/>
                      <a:pt x="131" y="533"/>
                    </a:cubicBezTo>
                    <a:cubicBezTo>
                      <a:pt x="121" y="536"/>
                      <a:pt x="148" y="511"/>
                      <a:pt x="155" y="488"/>
                    </a:cubicBezTo>
                    <a:cubicBezTo>
                      <a:pt x="162" y="465"/>
                      <a:pt x="174" y="425"/>
                      <a:pt x="176" y="392"/>
                    </a:cubicBezTo>
                    <a:cubicBezTo>
                      <a:pt x="178" y="359"/>
                      <a:pt x="175" y="324"/>
                      <a:pt x="164" y="290"/>
                    </a:cubicBezTo>
                    <a:cubicBezTo>
                      <a:pt x="153" y="256"/>
                      <a:pt x="124" y="220"/>
                      <a:pt x="107" y="185"/>
                    </a:cubicBezTo>
                    <a:cubicBezTo>
                      <a:pt x="90" y="150"/>
                      <a:pt x="70" y="108"/>
                      <a:pt x="59" y="80"/>
                    </a:cubicBezTo>
                    <a:cubicBezTo>
                      <a:pt x="48" y="52"/>
                      <a:pt x="50" y="31"/>
                      <a:pt x="41" y="17"/>
                    </a:cubicBezTo>
                    <a:cubicBezTo>
                      <a:pt x="32" y="3"/>
                      <a:pt x="0" y="5"/>
                      <a:pt x="4" y="4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" name=""/>
          <p:cNvGrpSpPr/>
          <p:nvPr/>
        </p:nvGrpSpPr>
        <p:grpSpPr>
          <a:xfrm>
            <a:off x="2798640" y="1130400"/>
            <a:ext cx="4215600" cy="2947680"/>
            <a:chOff x="2798640" y="1130400"/>
            <a:chExt cx="4215600" cy="2947680"/>
          </a:xfrm>
        </p:grpSpPr>
        <p:sp>
          <p:nvSpPr>
            <p:cNvPr id="102" name=""/>
            <p:cNvSpPr/>
            <p:nvPr/>
          </p:nvSpPr>
          <p:spPr>
            <a:xfrm>
              <a:off x="5006160" y="3130560"/>
              <a:ext cx="2008080" cy="9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Obere HW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- Pyelonephri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- Uroseps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2798640" y="1130400"/>
              <a:ext cx="909720" cy="1147680"/>
              <a:chOff x="2798640" y="1130400"/>
              <a:chExt cx="909720" cy="1147680"/>
            </a:xfrm>
          </p:grpSpPr>
          <p:sp>
            <p:nvSpPr>
              <p:cNvPr id="104" name=""/>
              <p:cNvSpPr/>
              <p:nvPr/>
            </p:nvSpPr>
            <p:spPr>
              <a:xfrm>
                <a:off x="2798640" y="1130400"/>
                <a:ext cx="459000" cy="1017720"/>
              </a:xfrm>
              <a:custGeom>
                <a:avLst/>
                <a:gdLst/>
                <a:ahLst/>
                <a:rect l="l" t="t" r="r" b="b"/>
                <a:pathLst>
                  <a:path w="231" h="503">
                    <a:moveTo>
                      <a:pt x="200" y="7"/>
                    </a:moveTo>
                    <a:cubicBezTo>
                      <a:pt x="190" y="14"/>
                      <a:pt x="184" y="44"/>
                      <a:pt x="170" y="58"/>
                    </a:cubicBezTo>
                    <a:cubicBezTo>
                      <a:pt x="156" y="72"/>
                      <a:pt x="134" y="79"/>
                      <a:pt x="116" y="91"/>
                    </a:cubicBezTo>
                    <a:cubicBezTo>
                      <a:pt x="98" y="103"/>
                      <a:pt x="70" y="115"/>
                      <a:pt x="59" y="130"/>
                    </a:cubicBezTo>
                    <a:cubicBezTo>
                      <a:pt x="48" y="145"/>
                      <a:pt x="50" y="163"/>
                      <a:pt x="47" y="184"/>
                    </a:cubicBezTo>
                    <a:cubicBezTo>
                      <a:pt x="44" y="205"/>
                      <a:pt x="42" y="231"/>
                      <a:pt x="41" y="259"/>
                    </a:cubicBezTo>
                    <a:cubicBezTo>
                      <a:pt x="40" y="287"/>
                      <a:pt x="44" y="325"/>
                      <a:pt x="41" y="355"/>
                    </a:cubicBezTo>
                    <a:cubicBezTo>
                      <a:pt x="38" y="385"/>
                      <a:pt x="27" y="422"/>
                      <a:pt x="20" y="442"/>
                    </a:cubicBezTo>
                    <a:cubicBezTo>
                      <a:pt x="13" y="462"/>
                      <a:pt x="4" y="466"/>
                      <a:pt x="2" y="475"/>
                    </a:cubicBezTo>
                    <a:cubicBezTo>
                      <a:pt x="0" y="484"/>
                      <a:pt x="1" y="503"/>
                      <a:pt x="8" y="499"/>
                    </a:cubicBezTo>
                    <a:cubicBezTo>
                      <a:pt x="15" y="495"/>
                      <a:pt x="36" y="467"/>
                      <a:pt x="44" y="451"/>
                    </a:cubicBezTo>
                    <a:cubicBezTo>
                      <a:pt x="52" y="435"/>
                      <a:pt x="53" y="418"/>
                      <a:pt x="56" y="400"/>
                    </a:cubicBezTo>
                    <a:cubicBezTo>
                      <a:pt x="59" y="382"/>
                      <a:pt x="63" y="367"/>
                      <a:pt x="65" y="340"/>
                    </a:cubicBezTo>
                    <a:cubicBezTo>
                      <a:pt x="67" y="313"/>
                      <a:pt x="64" y="266"/>
                      <a:pt x="65" y="238"/>
                    </a:cubicBezTo>
                    <a:cubicBezTo>
                      <a:pt x="66" y="210"/>
                      <a:pt x="66" y="188"/>
                      <a:pt x="71" y="169"/>
                    </a:cubicBezTo>
                    <a:cubicBezTo>
                      <a:pt x="76" y="150"/>
                      <a:pt x="83" y="135"/>
                      <a:pt x="95" y="124"/>
                    </a:cubicBezTo>
                    <a:cubicBezTo>
                      <a:pt x="107" y="113"/>
                      <a:pt x="128" y="115"/>
                      <a:pt x="146" y="103"/>
                    </a:cubicBezTo>
                    <a:cubicBezTo>
                      <a:pt x="164" y="91"/>
                      <a:pt x="189" y="70"/>
                      <a:pt x="203" y="55"/>
                    </a:cubicBezTo>
                    <a:cubicBezTo>
                      <a:pt x="217" y="40"/>
                      <a:pt x="231" y="21"/>
                      <a:pt x="230" y="13"/>
                    </a:cubicBezTo>
                    <a:cubicBezTo>
                      <a:pt x="229" y="5"/>
                      <a:pt x="210" y="0"/>
                      <a:pt x="200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132000" y="1197000"/>
                <a:ext cx="576360" cy="1081080"/>
              </a:xfrm>
              <a:prstGeom prst="upArrow">
                <a:avLst>
                  <a:gd name="adj1" fmla="val 50000"/>
                  <a:gd name="adj2" fmla="val 46893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6" name=""/>
          <p:cNvSpPr/>
          <p:nvPr/>
        </p:nvSpPr>
        <p:spPr>
          <a:xfrm rot="20059800">
            <a:off x="2204640" y="1910880"/>
            <a:ext cx="7308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ektionserreger bei Harndrain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39640" y="1143000"/>
            <a:ext cx="3816360" cy="5184360"/>
            <a:chOff x="539640" y="1143000"/>
            <a:chExt cx="3816360" cy="5184360"/>
          </a:xfrm>
        </p:grpSpPr>
        <p:sp>
          <p:nvSpPr>
            <p:cNvPr id="110" name=""/>
            <p:cNvSpPr/>
            <p:nvPr/>
          </p:nvSpPr>
          <p:spPr>
            <a:xfrm>
              <a:off x="812880" y="1150560"/>
              <a:ext cx="3463920" cy="3385800"/>
            </a:xfrm>
            <a:custGeom>
              <a:avLst/>
              <a:gdLst/>
              <a:ahLst/>
              <a:rect l="l" t="t" r="r" b="b"/>
              <a:pathLst>
                <a:path w="1718" h="1668">
                  <a:moveTo>
                    <a:pt x="167" y="26"/>
                  </a:moveTo>
                  <a:lnTo>
                    <a:pt x="197" y="446"/>
                  </a:lnTo>
                  <a:cubicBezTo>
                    <a:pt x="211" y="566"/>
                    <a:pt x="252" y="690"/>
                    <a:pt x="254" y="749"/>
                  </a:cubicBezTo>
                  <a:cubicBezTo>
                    <a:pt x="256" y="808"/>
                    <a:pt x="228" y="781"/>
                    <a:pt x="207" y="802"/>
                  </a:cubicBezTo>
                  <a:cubicBezTo>
                    <a:pt x="186" y="823"/>
                    <a:pt x="151" y="829"/>
                    <a:pt x="127" y="876"/>
                  </a:cubicBezTo>
                  <a:cubicBezTo>
                    <a:pt x="103" y="923"/>
                    <a:pt x="73" y="1021"/>
                    <a:pt x="61" y="1085"/>
                  </a:cubicBezTo>
                  <a:cubicBezTo>
                    <a:pt x="49" y="1149"/>
                    <a:pt x="62" y="1226"/>
                    <a:pt x="54" y="1262"/>
                  </a:cubicBezTo>
                  <a:cubicBezTo>
                    <a:pt x="46" y="1298"/>
                    <a:pt x="22" y="1271"/>
                    <a:pt x="14" y="1299"/>
                  </a:cubicBezTo>
                  <a:cubicBezTo>
                    <a:pt x="6" y="1327"/>
                    <a:pt x="0" y="1388"/>
                    <a:pt x="7" y="1432"/>
                  </a:cubicBezTo>
                  <a:cubicBezTo>
                    <a:pt x="14" y="1476"/>
                    <a:pt x="40" y="1534"/>
                    <a:pt x="57" y="1562"/>
                  </a:cubicBezTo>
                  <a:cubicBezTo>
                    <a:pt x="74" y="1590"/>
                    <a:pt x="95" y="1590"/>
                    <a:pt x="111" y="1598"/>
                  </a:cubicBezTo>
                  <a:cubicBezTo>
                    <a:pt x="127" y="1606"/>
                    <a:pt x="135" y="1612"/>
                    <a:pt x="154" y="1608"/>
                  </a:cubicBezTo>
                  <a:cubicBezTo>
                    <a:pt x="173" y="1604"/>
                    <a:pt x="201" y="1606"/>
                    <a:pt x="227" y="1575"/>
                  </a:cubicBezTo>
                  <a:cubicBezTo>
                    <a:pt x="253" y="1544"/>
                    <a:pt x="296" y="1457"/>
                    <a:pt x="310" y="1425"/>
                  </a:cubicBezTo>
                  <a:lnTo>
                    <a:pt x="310" y="1385"/>
                  </a:lnTo>
                  <a:lnTo>
                    <a:pt x="284" y="1365"/>
                  </a:lnTo>
                  <a:lnTo>
                    <a:pt x="300" y="1175"/>
                  </a:lnTo>
                  <a:cubicBezTo>
                    <a:pt x="309" y="1120"/>
                    <a:pt x="322" y="1064"/>
                    <a:pt x="337" y="1036"/>
                  </a:cubicBezTo>
                  <a:cubicBezTo>
                    <a:pt x="352" y="1008"/>
                    <a:pt x="374" y="1010"/>
                    <a:pt x="387" y="1006"/>
                  </a:cubicBezTo>
                  <a:lnTo>
                    <a:pt x="414" y="1012"/>
                  </a:lnTo>
                  <a:lnTo>
                    <a:pt x="414" y="1089"/>
                  </a:lnTo>
                  <a:lnTo>
                    <a:pt x="377" y="1235"/>
                  </a:lnTo>
                  <a:lnTo>
                    <a:pt x="370" y="1338"/>
                  </a:lnTo>
                  <a:lnTo>
                    <a:pt x="387" y="1462"/>
                  </a:lnTo>
                  <a:cubicBezTo>
                    <a:pt x="399" y="1500"/>
                    <a:pt x="415" y="1538"/>
                    <a:pt x="440" y="1568"/>
                  </a:cubicBezTo>
                  <a:cubicBezTo>
                    <a:pt x="465" y="1598"/>
                    <a:pt x="502" y="1630"/>
                    <a:pt x="540" y="1645"/>
                  </a:cubicBezTo>
                  <a:cubicBezTo>
                    <a:pt x="578" y="1660"/>
                    <a:pt x="629" y="1668"/>
                    <a:pt x="667" y="1661"/>
                  </a:cubicBezTo>
                  <a:cubicBezTo>
                    <a:pt x="705" y="1654"/>
                    <a:pt x="744" y="1631"/>
                    <a:pt x="770" y="1605"/>
                  </a:cubicBezTo>
                  <a:cubicBezTo>
                    <a:pt x="796" y="1579"/>
                    <a:pt x="814" y="1540"/>
                    <a:pt x="823" y="1505"/>
                  </a:cubicBezTo>
                  <a:cubicBezTo>
                    <a:pt x="832" y="1470"/>
                    <a:pt x="829" y="1427"/>
                    <a:pt x="823" y="1392"/>
                  </a:cubicBezTo>
                  <a:cubicBezTo>
                    <a:pt x="817" y="1357"/>
                    <a:pt x="799" y="1327"/>
                    <a:pt x="786" y="1295"/>
                  </a:cubicBezTo>
                  <a:cubicBezTo>
                    <a:pt x="773" y="1263"/>
                    <a:pt x="752" y="1226"/>
                    <a:pt x="743" y="1202"/>
                  </a:cubicBezTo>
                  <a:cubicBezTo>
                    <a:pt x="734" y="1178"/>
                    <a:pt x="731" y="1161"/>
                    <a:pt x="733" y="1152"/>
                  </a:cubicBezTo>
                  <a:lnTo>
                    <a:pt x="756" y="1149"/>
                  </a:lnTo>
                  <a:lnTo>
                    <a:pt x="816" y="1169"/>
                  </a:lnTo>
                  <a:cubicBezTo>
                    <a:pt x="834" y="1176"/>
                    <a:pt x="831" y="1186"/>
                    <a:pt x="863" y="1192"/>
                  </a:cubicBezTo>
                  <a:cubicBezTo>
                    <a:pt x="895" y="1198"/>
                    <a:pt x="965" y="1208"/>
                    <a:pt x="1006" y="1205"/>
                  </a:cubicBezTo>
                  <a:cubicBezTo>
                    <a:pt x="1047" y="1202"/>
                    <a:pt x="1081" y="1192"/>
                    <a:pt x="1109" y="1175"/>
                  </a:cubicBezTo>
                  <a:cubicBezTo>
                    <a:pt x="1137" y="1158"/>
                    <a:pt x="1155" y="1120"/>
                    <a:pt x="1173" y="1105"/>
                  </a:cubicBezTo>
                  <a:cubicBezTo>
                    <a:pt x="1191" y="1090"/>
                    <a:pt x="1197" y="1089"/>
                    <a:pt x="1216" y="1085"/>
                  </a:cubicBezTo>
                  <a:cubicBezTo>
                    <a:pt x="1235" y="1081"/>
                    <a:pt x="1263" y="1084"/>
                    <a:pt x="1289" y="1082"/>
                  </a:cubicBezTo>
                  <a:cubicBezTo>
                    <a:pt x="1315" y="1080"/>
                    <a:pt x="1344" y="1079"/>
                    <a:pt x="1372" y="1072"/>
                  </a:cubicBezTo>
                  <a:cubicBezTo>
                    <a:pt x="1400" y="1065"/>
                    <a:pt x="1428" y="1060"/>
                    <a:pt x="1456" y="1042"/>
                  </a:cubicBezTo>
                  <a:cubicBezTo>
                    <a:pt x="1484" y="1024"/>
                    <a:pt x="1511" y="996"/>
                    <a:pt x="1539" y="966"/>
                  </a:cubicBezTo>
                  <a:cubicBezTo>
                    <a:pt x="1567" y="936"/>
                    <a:pt x="1601" y="903"/>
                    <a:pt x="1625" y="859"/>
                  </a:cubicBezTo>
                  <a:cubicBezTo>
                    <a:pt x="1649" y="815"/>
                    <a:pt x="1669" y="762"/>
                    <a:pt x="1682" y="703"/>
                  </a:cubicBezTo>
                  <a:cubicBezTo>
                    <a:pt x="1695" y="644"/>
                    <a:pt x="1706" y="582"/>
                    <a:pt x="1705" y="503"/>
                  </a:cubicBezTo>
                  <a:cubicBezTo>
                    <a:pt x="1704" y="424"/>
                    <a:pt x="1718" y="363"/>
                    <a:pt x="1675" y="226"/>
                  </a:cubicBezTo>
                  <a:cubicBezTo>
                    <a:pt x="1645" y="132"/>
                    <a:pt x="1640" y="0"/>
                    <a:pt x="1615" y="0"/>
                  </a:cubicBezTo>
                  <a:cubicBezTo>
                    <a:pt x="1362" y="0"/>
                    <a:pt x="469" y="21"/>
                    <a:pt x="167" y="26"/>
                  </a:cubicBezTo>
                  <a:close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179880" y="2862000"/>
              <a:ext cx="125280" cy="479160"/>
            </a:xfrm>
            <a:custGeom>
              <a:avLst/>
              <a:gdLst/>
              <a:ahLst/>
              <a:rect l="l" t="t" r="r" b="b"/>
              <a:pathLst>
                <a:path w="62" h="236">
                  <a:moveTo>
                    <a:pt x="37" y="0"/>
                  </a:moveTo>
                  <a:cubicBezTo>
                    <a:pt x="23" y="16"/>
                    <a:pt x="10" y="33"/>
                    <a:pt x="5" y="56"/>
                  </a:cubicBezTo>
                  <a:cubicBezTo>
                    <a:pt x="0" y="79"/>
                    <a:pt x="5" y="112"/>
                    <a:pt x="9" y="136"/>
                  </a:cubicBezTo>
                  <a:cubicBezTo>
                    <a:pt x="13" y="160"/>
                    <a:pt x="20" y="185"/>
                    <a:pt x="29" y="202"/>
                  </a:cubicBezTo>
                  <a:cubicBezTo>
                    <a:pt x="38" y="219"/>
                    <a:pt x="46" y="217"/>
                    <a:pt x="62" y="23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89440" y="2977920"/>
              <a:ext cx="139680" cy="450360"/>
            </a:xfrm>
            <a:custGeom>
              <a:avLst/>
              <a:gdLst/>
              <a:ahLst/>
              <a:rect l="l" t="t" r="r" b="b"/>
              <a:pathLst>
                <a:path w="70" h="222">
                  <a:moveTo>
                    <a:pt x="0" y="0"/>
                  </a:moveTo>
                  <a:lnTo>
                    <a:pt x="17" y="22"/>
                  </a:lnTo>
                  <a:cubicBezTo>
                    <a:pt x="26" y="40"/>
                    <a:pt x="45" y="73"/>
                    <a:pt x="54" y="106"/>
                  </a:cubicBezTo>
                  <a:cubicBezTo>
                    <a:pt x="63" y="139"/>
                    <a:pt x="69" y="185"/>
                    <a:pt x="70" y="22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1432800">
              <a:off x="1517400" y="1666440"/>
              <a:ext cx="1347840" cy="825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797200" y="1143000"/>
              <a:ext cx="465120" cy="1020600"/>
            </a:xfrm>
            <a:custGeom>
              <a:avLst/>
              <a:gdLst/>
              <a:ahLst/>
              <a:rect l="l" t="t" r="r" b="b"/>
              <a:pathLst>
                <a:path w="231" h="503">
                  <a:moveTo>
                    <a:pt x="200" y="7"/>
                  </a:moveTo>
                  <a:cubicBezTo>
                    <a:pt x="190" y="14"/>
                    <a:pt x="184" y="44"/>
                    <a:pt x="170" y="58"/>
                  </a:cubicBezTo>
                  <a:cubicBezTo>
                    <a:pt x="156" y="72"/>
                    <a:pt x="134" y="79"/>
                    <a:pt x="116" y="91"/>
                  </a:cubicBezTo>
                  <a:cubicBezTo>
                    <a:pt x="98" y="103"/>
                    <a:pt x="70" y="115"/>
                    <a:pt x="59" y="130"/>
                  </a:cubicBezTo>
                  <a:cubicBezTo>
                    <a:pt x="48" y="145"/>
                    <a:pt x="50" y="163"/>
                    <a:pt x="47" y="184"/>
                  </a:cubicBezTo>
                  <a:cubicBezTo>
                    <a:pt x="44" y="205"/>
                    <a:pt x="42" y="231"/>
                    <a:pt x="41" y="259"/>
                  </a:cubicBezTo>
                  <a:cubicBezTo>
                    <a:pt x="40" y="287"/>
                    <a:pt x="44" y="325"/>
                    <a:pt x="41" y="355"/>
                  </a:cubicBezTo>
                  <a:cubicBezTo>
                    <a:pt x="38" y="385"/>
                    <a:pt x="27" y="422"/>
                    <a:pt x="20" y="442"/>
                  </a:cubicBezTo>
                  <a:cubicBezTo>
                    <a:pt x="13" y="462"/>
                    <a:pt x="4" y="466"/>
                    <a:pt x="2" y="475"/>
                  </a:cubicBezTo>
                  <a:cubicBezTo>
                    <a:pt x="0" y="484"/>
                    <a:pt x="1" y="503"/>
                    <a:pt x="8" y="499"/>
                  </a:cubicBezTo>
                  <a:cubicBezTo>
                    <a:pt x="15" y="495"/>
                    <a:pt x="36" y="467"/>
                    <a:pt x="44" y="451"/>
                  </a:cubicBezTo>
                  <a:cubicBezTo>
                    <a:pt x="52" y="435"/>
                    <a:pt x="53" y="418"/>
                    <a:pt x="56" y="400"/>
                  </a:cubicBezTo>
                  <a:cubicBezTo>
                    <a:pt x="59" y="382"/>
                    <a:pt x="63" y="367"/>
                    <a:pt x="65" y="340"/>
                  </a:cubicBezTo>
                  <a:cubicBezTo>
                    <a:pt x="67" y="313"/>
                    <a:pt x="64" y="266"/>
                    <a:pt x="65" y="238"/>
                  </a:cubicBezTo>
                  <a:cubicBezTo>
                    <a:pt x="66" y="210"/>
                    <a:pt x="66" y="188"/>
                    <a:pt x="71" y="169"/>
                  </a:cubicBezTo>
                  <a:cubicBezTo>
                    <a:pt x="76" y="150"/>
                    <a:pt x="83" y="135"/>
                    <a:pt x="95" y="124"/>
                  </a:cubicBezTo>
                  <a:cubicBezTo>
                    <a:pt x="107" y="113"/>
                    <a:pt x="128" y="115"/>
                    <a:pt x="146" y="103"/>
                  </a:cubicBezTo>
                  <a:cubicBezTo>
                    <a:pt x="164" y="91"/>
                    <a:pt x="189" y="70"/>
                    <a:pt x="203" y="55"/>
                  </a:cubicBezTo>
                  <a:cubicBezTo>
                    <a:pt x="217" y="40"/>
                    <a:pt x="231" y="21"/>
                    <a:pt x="230" y="13"/>
                  </a:cubicBezTo>
                  <a:cubicBezTo>
                    <a:pt x="229" y="5"/>
                    <a:pt x="210" y="0"/>
                    <a:pt x="200" y="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714760" y="2128680"/>
              <a:ext cx="88920" cy="90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20524800">
              <a:off x="1708200" y="3499920"/>
              <a:ext cx="577800" cy="8694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881360" y="3504960"/>
              <a:ext cx="299880" cy="855360"/>
            </a:xfrm>
            <a:custGeom>
              <a:avLst/>
              <a:gdLst/>
              <a:ahLst/>
              <a:rect l="l" t="t" r="r" b="b"/>
              <a:pathLst>
                <a:path w="149" h="421">
                  <a:moveTo>
                    <a:pt x="0" y="0"/>
                  </a:moveTo>
                  <a:lnTo>
                    <a:pt x="18" y="4"/>
                  </a:lnTo>
                  <a:cubicBezTo>
                    <a:pt x="26" y="9"/>
                    <a:pt x="38" y="9"/>
                    <a:pt x="48" y="28"/>
                  </a:cubicBezTo>
                  <a:cubicBezTo>
                    <a:pt x="58" y="47"/>
                    <a:pt x="63" y="84"/>
                    <a:pt x="78" y="118"/>
                  </a:cubicBezTo>
                  <a:cubicBezTo>
                    <a:pt x="93" y="152"/>
                    <a:pt x="127" y="198"/>
                    <a:pt x="138" y="235"/>
                  </a:cubicBezTo>
                  <a:cubicBezTo>
                    <a:pt x="149" y="272"/>
                    <a:pt x="147" y="313"/>
                    <a:pt x="147" y="340"/>
                  </a:cubicBezTo>
                  <a:cubicBezTo>
                    <a:pt x="147" y="367"/>
                    <a:pt x="145" y="384"/>
                    <a:pt x="138" y="397"/>
                  </a:cubicBezTo>
                  <a:cubicBezTo>
                    <a:pt x="131" y="410"/>
                    <a:pt x="118" y="415"/>
                    <a:pt x="105" y="42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73040" y="4159080"/>
              <a:ext cx="30240" cy="2168280"/>
            </a:xfrm>
            <a:custGeom>
              <a:avLst/>
              <a:gdLst/>
              <a:ahLst/>
              <a:rect l="l" t="t" r="r" b="b"/>
              <a:pathLst>
                <a:path w="15" h="1068">
                  <a:moveTo>
                    <a:pt x="0" y="0"/>
                  </a:moveTo>
                  <a:cubicBezTo>
                    <a:pt x="1" y="78"/>
                    <a:pt x="1" y="290"/>
                    <a:pt x="3" y="468"/>
                  </a:cubicBezTo>
                  <a:cubicBezTo>
                    <a:pt x="5" y="646"/>
                    <a:pt x="4" y="973"/>
                    <a:pt x="15" y="106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381480" y="1941120"/>
              <a:ext cx="974520" cy="1962000"/>
            </a:xfrm>
            <a:custGeom>
              <a:avLst/>
              <a:gdLst/>
              <a:ahLst/>
              <a:rect l="l" t="t" r="r" b="b"/>
              <a:pathLst>
                <a:path w="483" h="967">
                  <a:moveTo>
                    <a:pt x="435" y="0"/>
                  </a:moveTo>
                  <a:cubicBezTo>
                    <a:pt x="452" y="99"/>
                    <a:pt x="469" y="198"/>
                    <a:pt x="471" y="304"/>
                  </a:cubicBezTo>
                  <a:cubicBezTo>
                    <a:pt x="473" y="410"/>
                    <a:pt x="483" y="544"/>
                    <a:pt x="450" y="637"/>
                  </a:cubicBezTo>
                  <a:cubicBezTo>
                    <a:pt x="417" y="730"/>
                    <a:pt x="348" y="810"/>
                    <a:pt x="273" y="865"/>
                  </a:cubicBezTo>
                  <a:cubicBezTo>
                    <a:pt x="198" y="920"/>
                    <a:pt x="48" y="952"/>
                    <a:pt x="0" y="96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701880" y="3525480"/>
              <a:ext cx="417600" cy="2788920"/>
            </a:xfrm>
            <a:custGeom>
              <a:avLst/>
              <a:gdLst/>
              <a:ahLst/>
              <a:rect l="l" t="t" r="r" b="b"/>
              <a:pathLst>
                <a:path w="207" h="1374">
                  <a:moveTo>
                    <a:pt x="207" y="0"/>
                  </a:moveTo>
                  <a:cubicBezTo>
                    <a:pt x="190" y="37"/>
                    <a:pt x="129" y="144"/>
                    <a:pt x="105" y="225"/>
                  </a:cubicBezTo>
                  <a:cubicBezTo>
                    <a:pt x="85" y="300"/>
                    <a:pt x="80" y="256"/>
                    <a:pt x="63" y="447"/>
                  </a:cubicBezTo>
                  <a:cubicBezTo>
                    <a:pt x="46" y="638"/>
                    <a:pt x="13" y="1181"/>
                    <a:pt x="0" y="137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106720" y="2306520"/>
              <a:ext cx="828720" cy="702720"/>
            </a:xfrm>
            <a:custGeom>
              <a:avLst/>
              <a:gdLst/>
              <a:ahLst/>
              <a:rect l="l" t="t" r="r" b="b"/>
              <a:pathLst>
                <a:path w="411" h="347">
                  <a:moveTo>
                    <a:pt x="359" y="10"/>
                  </a:moveTo>
                  <a:cubicBezTo>
                    <a:pt x="343" y="0"/>
                    <a:pt x="328" y="57"/>
                    <a:pt x="311" y="73"/>
                  </a:cubicBezTo>
                  <a:cubicBezTo>
                    <a:pt x="294" y="89"/>
                    <a:pt x="278" y="96"/>
                    <a:pt x="257" y="103"/>
                  </a:cubicBezTo>
                  <a:cubicBezTo>
                    <a:pt x="236" y="110"/>
                    <a:pt x="206" y="115"/>
                    <a:pt x="182" y="118"/>
                  </a:cubicBezTo>
                  <a:cubicBezTo>
                    <a:pt x="158" y="121"/>
                    <a:pt x="140" y="124"/>
                    <a:pt x="113" y="121"/>
                  </a:cubicBezTo>
                  <a:cubicBezTo>
                    <a:pt x="86" y="118"/>
                    <a:pt x="37" y="96"/>
                    <a:pt x="20" y="97"/>
                  </a:cubicBezTo>
                  <a:cubicBezTo>
                    <a:pt x="3" y="98"/>
                    <a:pt x="0" y="101"/>
                    <a:pt x="8" y="130"/>
                  </a:cubicBezTo>
                  <a:cubicBezTo>
                    <a:pt x="16" y="159"/>
                    <a:pt x="34" y="236"/>
                    <a:pt x="68" y="271"/>
                  </a:cubicBezTo>
                  <a:cubicBezTo>
                    <a:pt x="102" y="306"/>
                    <a:pt x="170" y="333"/>
                    <a:pt x="212" y="340"/>
                  </a:cubicBezTo>
                  <a:cubicBezTo>
                    <a:pt x="254" y="347"/>
                    <a:pt x="294" y="332"/>
                    <a:pt x="323" y="316"/>
                  </a:cubicBezTo>
                  <a:cubicBezTo>
                    <a:pt x="352" y="300"/>
                    <a:pt x="372" y="274"/>
                    <a:pt x="386" y="244"/>
                  </a:cubicBezTo>
                  <a:cubicBezTo>
                    <a:pt x="400" y="214"/>
                    <a:pt x="411" y="172"/>
                    <a:pt x="407" y="133"/>
                  </a:cubicBezTo>
                  <a:cubicBezTo>
                    <a:pt x="403" y="94"/>
                    <a:pt x="375" y="20"/>
                    <a:pt x="359" y="10"/>
                  </a:cubicBez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539640" y="1881000"/>
              <a:ext cx="2198520" cy="4299840"/>
              <a:chOff x="539640" y="1881000"/>
              <a:chExt cx="2198520" cy="4299840"/>
            </a:xfrm>
          </p:grpSpPr>
          <p:sp>
            <p:nvSpPr>
              <p:cNvPr id="123" name=""/>
              <p:cNvSpPr/>
              <p:nvPr/>
            </p:nvSpPr>
            <p:spPr>
              <a:xfrm>
                <a:off x="793800" y="2463120"/>
                <a:ext cx="1936800" cy="3522240"/>
              </a:xfrm>
              <a:custGeom>
                <a:avLst/>
                <a:gdLst/>
                <a:ahLst/>
                <a:rect l="l" t="t" r="r" b="b"/>
                <a:pathLst>
                  <a:path w="960" h="1735">
                    <a:moveTo>
                      <a:pt x="857" y="14"/>
                    </a:moveTo>
                    <a:lnTo>
                      <a:pt x="839" y="16"/>
                    </a:lnTo>
                    <a:cubicBezTo>
                      <a:pt x="844" y="39"/>
                      <a:pt x="880" y="108"/>
                      <a:pt x="889" y="149"/>
                    </a:cubicBezTo>
                    <a:cubicBezTo>
                      <a:pt x="898" y="190"/>
                      <a:pt x="898" y="234"/>
                      <a:pt x="892" y="262"/>
                    </a:cubicBezTo>
                    <a:cubicBezTo>
                      <a:pt x="886" y="290"/>
                      <a:pt x="880" y="305"/>
                      <a:pt x="855" y="315"/>
                    </a:cubicBezTo>
                    <a:cubicBezTo>
                      <a:pt x="830" y="325"/>
                      <a:pt x="783" y="329"/>
                      <a:pt x="742" y="325"/>
                    </a:cubicBezTo>
                    <a:cubicBezTo>
                      <a:pt x="701" y="321"/>
                      <a:pt x="654" y="305"/>
                      <a:pt x="609" y="289"/>
                    </a:cubicBezTo>
                    <a:cubicBezTo>
                      <a:pt x="564" y="273"/>
                      <a:pt x="512" y="241"/>
                      <a:pt x="469" y="229"/>
                    </a:cubicBezTo>
                    <a:cubicBezTo>
                      <a:pt x="426" y="217"/>
                      <a:pt x="379" y="214"/>
                      <a:pt x="349" y="215"/>
                    </a:cubicBezTo>
                    <a:cubicBezTo>
                      <a:pt x="319" y="216"/>
                      <a:pt x="306" y="224"/>
                      <a:pt x="286" y="235"/>
                    </a:cubicBezTo>
                    <a:cubicBezTo>
                      <a:pt x="266" y="246"/>
                      <a:pt x="244" y="261"/>
                      <a:pt x="229" y="282"/>
                    </a:cubicBezTo>
                    <a:cubicBezTo>
                      <a:pt x="214" y="303"/>
                      <a:pt x="199" y="319"/>
                      <a:pt x="193" y="359"/>
                    </a:cubicBezTo>
                    <a:cubicBezTo>
                      <a:pt x="187" y="399"/>
                      <a:pt x="194" y="477"/>
                      <a:pt x="193" y="522"/>
                    </a:cubicBezTo>
                    <a:cubicBezTo>
                      <a:pt x="192" y="567"/>
                      <a:pt x="193" y="582"/>
                      <a:pt x="186" y="628"/>
                    </a:cubicBezTo>
                    <a:cubicBezTo>
                      <a:pt x="179" y="674"/>
                      <a:pt x="167" y="740"/>
                      <a:pt x="153" y="798"/>
                    </a:cubicBezTo>
                    <a:cubicBezTo>
                      <a:pt x="139" y="856"/>
                      <a:pt x="120" y="920"/>
                      <a:pt x="103" y="978"/>
                    </a:cubicBezTo>
                    <a:cubicBezTo>
                      <a:pt x="86" y="1036"/>
                      <a:pt x="64" y="1096"/>
                      <a:pt x="53" y="1148"/>
                    </a:cubicBezTo>
                    <a:cubicBezTo>
                      <a:pt x="42" y="1200"/>
                      <a:pt x="39" y="1245"/>
                      <a:pt x="36" y="1291"/>
                    </a:cubicBezTo>
                    <a:cubicBezTo>
                      <a:pt x="33" y="1337"/>
                      <a:pt x="35" y="1385"/>
                      <a:pt x="33" y="1424"/>
                    </a:cubicBezTo>
                    <a:cubicBezTo>
                      <a:pt x="31" y="1463"/>
                      <a:pt x="29" y="1493"/>
                      <a:pt x="26" y="1527"/>
                    </a:cubicBezTo>
                    <a:cubicBezTo>
                      <a:pt x="23" y="1561"/>
                      <a:pt x="18" y="1595"/>
                      <a:pt x="16" y="1627"/>
                    </a:cubicBezTo>
                    <a:cubicBezTo>
                      <a:pt x="14" y="1659"/>
                      <a:pt x="0" y="1705"/>
                      <a:pt x="16" y="1720"/>
                    </a:cubicBezTo>
                    <a:cubicBezTo>
                      <a:pt x="32" y="1735"/>
                      <a:pt x="66" y="1730"/>
                      <a:pt x="110" y="1717"/>
                    </a:cubicBezTo>
                    <a:cubicBezTo>
                      <a:pt x="120" y="1713"/>
                      <a:pt x="109" y="1625"/>
                      <a:pt x="106" y="1567"/>
                    </a:cubicBezTo>
                    <a:cubicBezTo>
                      <a:pt x="103" y="1509"/>
                      <a:pt x="90" y="1429"/>
                      <a:pt x="90" y="1367"/>
                    </a:cubicBezTo>
                    <a:cubicBezTo>
                      <a:pt x="90" y="1305"/>
                      <a:pt x="93" y="1253"/>
                      <a:pt x="103" y="1194"/>
                    </a:cubicBezTo>
                    <a:cubicBezTo>
                      <a:pt x="113" y="1135"/>
                      <a:pt x="136" y="1075"/>
                      <a:pt x="153" y="1014"/>
                    </a:cubicBezTo>
                    <a:cubicBezTo>
                      <a:pt x="170" y="953"/>
                      <a:pt x="189" y="889"/>
                      <a:pt x="203" y="831"/>
                    </a:cubicBezTo>
                    <a:cubicBezTo>
                      <a:pt x="217" y="773"/>
                      <a:pt x="228" y="721"/>
                      <a:pt x="236" y="665"/>
                    </a:cubicBezTo>
                    <a:cubicBezTo>
                      <a:pt x="244" y="609"/>
                      <a:pt x="246" y="541"/>
                      <a:pt x="249" y="492"/>
                    </a:cubicBezTo>
                    <a:cubicBezTo>
                      <a:pt x="252" y="443"/>
                      <a:pt x="246" y="402"/>
                      <a:pt x="253" y="369"/>
                    </a:cubicBezTo>
                    <a:cubicBezTo>
                      <a:pt x="260" y="336"/>
                      <a:pt x="267" y="309"/>
                      <a:pt x="289" y="292"/>
                    </a:cubicBezTo>
                    <a:cubicBezTo>
                      <a:pt x="311" y="275"/>
                      <a:pt x="344" y="262"/>
                      <a:pt x="383" y="265"/>
                    </a:cubicBezTo>
                    <a:cubicBezTo>
                      <a:pt x="422" y="268"/>
                      <a:pt x="479" y="295"/>
                      <a:pt x="526" y="312"/>
                    </a:cubicBezTo>
                    <a:cubicBezTo>
                      <a:pt x="573" y="329"/>
                      <a:pt x="625" y="354"/>
                      <a:pt x="666" y="365"/>
                    </a:cubicBezTo>
                    <a:cubicBezTo>
                      <a:pt x="707" y="376"/>
                      <a:pt x="736" y="375"/>
                      <a:pt x="772" y="375"/>
                    </a:cubicBezTo>
                    <a:cubicBezTo>
                      <a:pt x="808" y="375"/>
                      <a:pt x="856" y="380"/>
                      <a:pt x="885" y="365"/>
                    </a:cubicBezTo>
                    <a:cubicBezTo>
                      <a:pt x="914" y="350"/>
                      <a:pt x="938" y="316"/>
                      <a:pt x="949" y="285"/>
                    </a:cubicBezTo>
                    <a:cubicBezTo>
                      <a:pt x="960" y="254"/>
                      <a:pt x="953" y="212"/>
                      <a:pt x="949" y="179"/>
                    </a:cubicBezTo>
                    <a:cubicBezTo>
                      <a:pt x="945" y="146"/>
                      <a:pt x="935" y="114"/>
                      <a:pt x="925" y="86"/>
                    </a:cubicBezTo>
                    <a:cubicBezTo>
                      <a:pt x="915" y="58"/>
                      <a:pt x="900" y="24"/>
                      <a:pt x="889" y="12"/>
                    </a:cubicBezTo>
                    <a:cubicBezTo>
                      <a:pt x="878" y="0"/>
                      <a:pt x="867" y="7"/>
                      <a:pt x="857" y="14"/>
                    </a:cubicBez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9792200">
                <a:off x="2217600" y="2147040"/>
                <a:ext cx="459000" cy="367920"/>
              </a:xfrm>
              <a:prstGeom prst="ellipse">
                <a:avLst/>
              </a:prstGeom>
              <a:solidFill>
                <a:srgbClr val="ffcc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128680" y="1881000"/>
                <a:ext cx="281160" cy="336240"/>
              </a:xfrm>
              <a:custGeom>
                <a:avLst/>
                <a:gdLst/>
                <a:ahLst/>
                <a:rect l="l" t="t" r="r" b="b"/>
                <a:pathLst>
                  <a:path w="139" h="166">
                    <a:moveTo>
                      <a:pt x="133" y="137"/>
                    </a:moveTo>
                    <a:cubicBezTo>
                      <a:pt x="139" y="113"/>
                      <a:pt x="82" y="44"/>
                      <a:pt x="64" y="22"/>
                    </a:cubicBezTo>
                    <a:cubicBezTo>
                      <a:pt x="46" y="0"/>
                      <a:pt x="31" y="3"/>
                      <a:pt x="22" y="6"/>
                    </a:cubicBezTo>
                    <a:cubicBezTo>
                      <a:pt x="13" y="9"/>
                      <a:pt x="0" y="11"/>
                      <a:pt x="11" y="38"/>
                    </a:cubicBezTo>
                    <a:cubicBezTo>
                      <a:pt x="22" y="65"/>
                      <a:pt x="62" y="164"/>
                      <a:pt x="88" y="166"/>
                    </a:cubicBezTo>
                    <a:cubicBezTo>
                      <a:pt x="115" y="166"/>
                      <a:pt x="128" y="154"/>
                      <a:pt x="133" y="137"/>
                    </a:cubicBez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20493600">
                <a:off x="2185920" y="1931040"/>
                <a:ext cx="88920" cy="99720"/>
              </a:xfrm>
              <a:prstGeom prst="ellipse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14320" y="5946120"/>
                <a:ext cx="201600" cy="234720"/>
              </a:xfrm>
              <a:prstGeom prst="rect">
                <a:avLst/>
              </a:prstGeom>
              <a:solidFill>
                <a:srgbClr val="ffcc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66880" y="6011280"/>
                <a:ext cx="88920" cy="1378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68440" y="5349240"/>
                <a:ext cx="306360" cy="545760"/>
              </a:xfrm>
              <a:custGeom>
                <a:avLst/>
                <a:gdLst/>
                <a:ahLst/>
                <a:rect l="l" t="t" r="r" b="b"/>
                <a:pathLst>
                  <a:path w="152" h="269">
                    <a:moveTo>
                      <a:pt x="152" y="0"/>
                    </a:moveTo>
                    <a:lnTo>
                      <a:pt x="142" y="10"/>
                    </a:lnTo>
                    <a:cubicBezTo>
                      <a:pt x="136" y="21"/>
                      <a:pt x="132" y="48"/>
                      <a:pt x="118" y="68"/>
                    </a:cubicBezTo>
                    <a:cubicBezTo>
                      <a:pt x="104" y="88"/>
                      <a:pt x="74" y="107"/>
                      <a:pt x="58" y="128"/>
                    </a:cubicBezTo>
                    <a:cubicBezTo>
                      <a:pt x="42" y="149"/>
                      <a:pt x="31" y="172"/>
                      <a:pt x="22" y="192"/>
                    </a:cubicBezTo>
                    <a:cubicBezTo>
                      <a:pt x="13" y="212"/>
                      <a:pt x="7" y="238"/>
                      <a:pt x="4" y="250"/>
                    </a:cubicBezTo>
                    <a:cubicBezTo>
                      <a:pt x="1" y="262"/>
                      <a:pt x="0" y="264"/>
                      <a:pt x="4" y="266"/>
                    </a:cubicBezTo>
                    <a:cubicBezTo>
                      <a:pt x="8" y="268"/>
                      <a:pt x="26" y="269"/>
                      <a:pt x="30" y="264"/>
                    </a:cubicBezTo>
                    <a:cubicBezTo>
                      <a:pt x="34" y="259"/>
                      <a:pt x="25" y="251"/>
                      <a:pt x="28" y="236"/>
                    </a:cubicBezTo>
                    <a:cubicBezTo>
                      <a:pt x="31" y="221"/>
                      <a:pt x="40" y="192"/>
                      <a:pt x="48" y="176"/>
                    </a:cubicBezTo>
                    <a:cubicBezTo>
                      <a:pt x="56" y="160"/>
                      <a:pt x="64" y="149"/>
                      <a:pt x="74" y="138"/>
                    </a:cubicBezTo>
                    <a:cubicBezTo>
                      <a:pt x="84" y="127"/>
                      <a:pt x="97" y="121"/>
                      <a:pt x="106" y="112"/>
                    </a:cubicBezTo>
                    <a:cubicBezTo>
                      <a:pt x="115" y="103"/>
                      <a:pt x="125" y="92"/>
                      <a:pt x="130" y="86"/>
                    </a:cubicBezTo>
                    <a:cubicBezTo>
                      <a:pt x="135" y="80"/>
                      <a:pt x="134" y="88"/>
                      <a:pt x="138" y="74"/>
                    </a:cubicBezTo>
                    <a:cubicBezTo>
                      <a:pt x="142" y="60"/>
                      <a:pt x="147" y="30"/>
                      <a:pt x="152" y="0"/>
                    </a:cubicBez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39640" y="5873040"/>
                <a:ext cx="117720" cy="156960"/>
              </a:xfrm>
              <a:prstGeom prst="rect">
                <a:avLst/>
              </a:prstGeom>
              <a:solidFill>
                <a:srgbClr val="ffcc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2076480" y="2501640"/>
              <a:ext cx="892080" cy="1811160"/>
            </a:xfrm>
            <a:custGeom>
              <a:avLst/>
              <a:gdLst/>
              <a:ahLst/>
              <a:rect l="l" t="t" r="r" b="b"/>
              <a:pathLst>
                <a:path w="442" h="893">
                  <a:moveTo>
                    <a:pt x="287" y="52"/>
                  </a:moveTo>
                  <a:cubicBezTo>
                    <a:pt x="295" y="43"/>
                    <a:pt x="323" y="20"/>
                    <a:pt x="344" y="13"/>
                  </a:cubicBezTo>
                  <a:cubicBezTo>
                    <a:pt x="365" y="6"/>
                    <a:pt x="397" y="0"/>
                    <a:pt x="413" y="7"/>
                  </a:cubicBezTo>
                  <a:cubicBezTo>
                    <a:pt x="429" y="14"/>
                    <a:pt x="438" y="21"/>
                    <a:pt x="440" y="55"/>
                  </a:cubicBezTo>
                  <a:cubicBezTo>
                    <a:pt x="442" y="89"/>
                    <a:pt x="442" y="162"/>
                    <a:pt x="425" y="214"/>
                  </a:cubicBezTo>
                  <a:cubicBezTo>
                    <a:pt x="408" y="266"/>
                    <a:pt x="377" y="330"/>
                    <a:pt x="338" y="370"/>
                  </a:cubicBezTo>
                  <a:cubicBezTo>
                    <a:pt x="299" y="410"/>
                    <a:pt x="236" y="441"/>
                    <a:pt x="191" y="454"/>
                  </a:cubicBezTo>
                  <a:cubicBezTo>
                    <a:pt x="146" y="467"/>
                    <a:pt x="96" y="446"/>
                    <a:pt x="68" y="448"/>
                  </a:cubicBezTo>
                  <a:cubicBezTo>
                    <a:pt x="40" y="450"/>
                    <a:pt x="30" y="457"/>
                    <a:pt x="23" y="466"/>
                  </a:cubicBezTo>
                  <a:cubicBezTo>
                    <a:pt x="16" y="475"/>
                    <a:pt x="13" y="482"/>
                    <a:pt x="23" y="505"/>
                  </a:cubicBezTo>
                  <a:cubicBezTo>
                    <a:pt x="33" y="528"/>
                    <a:pt x="65" y="576"/>
                    <a:pt x="80" y="604"/>
                  </a:cubicBezTo>
                  <a:cubicBezTo>
                    <a:pt x="95" y="632"/>
                    <a:pt x="108" y="645"/>
                    <a:pt x="116" y="673"/>
                  </a:cubicBezTo>
                  <a:cubicBezTo>
                    <a:pt x="124" y="701"/>
                    <a:pt x="128" y="742"/>
                    <a:pt x="128" y="775"/>
                  </a:cubicBezTo>
                  <a:cubicBezTo>
                    <a:pt x="128" y="808"/>
                    <a:pt x="123" y="855"/>
                    <a:pt x="113" y="874"/>
                  </a:cubicBezTo>
                  <a:cubicBezTo>
                    <a:pt x="103" y="893"/>
                    <a:pt x="80" y="888"/>
                    <a:pt x="68" y="889"/>
                  </a:cubicBezTo>
                  <a:cubicBezTo>
                    <a:pt x="56" y="890"/>
                    <a:pt x="39" y="882"/>
                    <a:pt x="38" y="880"/>
                  </a:cubicBezTo>
                  <a:cubicBezTo>
                    <a:pt x="37" y="878"/>
                    <a:pt x="53" y="876"/>
                    <a:pt x="62" y="874"/>
                  </a:cubicBezTo>
                  <a:cubicBezTo>
                    <a:pt x="71" y="872"/>
                    <a:pt x="87" y="879"/>
                    <a:pt x="95" y="865"/>
                  </a:cubicBezTo>
                  <a:cubicBezTo>
                    <a:pt x="103" y="851"/>
                    <a:pt x="113" y="822"/>
                    <a:pt x="113" y="790"/>
                  </a:cubicBezTo>
                  <a:cubicBezTo>
                    <a:pt x="113" y="758"/>
                    <a:pt x="108" y="703"/>
                    <a:pt x="98" y="670"/>
                  </a:cubicBezTo>
                  <a:cubicBezTo>
                    <a:pt x="88" y="637"/>
                    <a:pt x="63" y="611"/>
                    <a:pt x="50" y="589"/>
                  </a:cubicBezTo>
                  <a:cubicBezTo>
                    <a:pt x="37" y="567"/>
                    <a:pt x="28" y="553"/>
                    <a:pt x="20" y="535"/>
                  </a:cubicBezTo>
                  <a:cubicBezTo>
                    <a:pt x="12" y="517"/>
                    <a:pt x="0" y="498"/>
                    <a:pt x="2" y="481"/>
                  </a:cubicBezTo>
                  <a:cubicBezTo>
                    <a:pt x="4" y="464"/>
                    <a:pt x="9" y="440"/>
                    <a:pt x="29" y="433"/>
                  </a:cubicBezTo>
                  <a:cubicBezTo>
                    <a:pt x="49" y="426"/>
                    <a:pt x="93" y="440"/>
                    <a:pt x="125" y="439"/>
                  </a:cubicBezTo>
                  <a:cubicBezTo>
                    <a:pt x="157" y="438"/>
                    <a:pt x="194" y="439"/>
                    <a:pt x="224" y="427"/>
                  </a:cubicBezTo>
                  <a:cubicBezTo>
                    <a:pt x="254" y="415"/>
                    <a:pt x="284" y="390"/>
                    <a:pt x="308" y="367"/>
                  </a:cubicBezTo>
                  <a:cubicBezTo>
                    <a:pt x="332" y="344"/>
                    <a:pt x="352" y="323"/>
                    <a:pt x="371" y="289"/>
                  </a:cubicBezTo>
                  <a:cubicBezTo>
                    <a:pt x="390" y="255"/>
                    <a:pt x="411" y="198"/>
                    <a:pt x="419" y="166"/>
                  </a:cubicBezTo>
                  <a:cubicBezTo>
                    <a:pt x="427" y="134"/>
                    <a:pt x="422" y="119"/>
                    <a:pt x="422" y="97"/>
                  </a:cubicBezTo>
                  <a:cubicBezTo>
                    <a:pt x="422" y="75"/>
                    <a:pt x="424" y="44"/>
                    <a:pt x="416" y="31"/>
                  </a:cubicBezTo>
                  <a:cubicBezTo>
                    <a:pt x="408" y="18"/>
                    <a:pt x="389" y="17"/>
                    <a:pt x="374" y="19"/>
                  </a:cubicBezTo>
                  <a:cubicBezTo>
                    <a:pt x="359" y="21"/>
                    <a:pt x="336" y="38"/>
                    <a:pt x="323" y="46"/>
                  </a:cubicBezTo>
                  <a:cubicBezTo>
                    <a:pt x="310" y="54"/>
                    <a:pt x="299" y="66"/>
                    <a:pt x="293" y="67"/>
                  </a:cubicBezTo>
                  <a:cubicBezTo>
                    <a:pt x="287" y="68"/>
                    <a:pt x="279" y="61"/>
                    <a:pt x="287" y="52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79280" y="3328920"/>
            <a:ext cx="8748720" cy="3143160"/>
            <a:chOff x="179280" y="3328920"/>
            <a:chExt cx="8748720" cy="3143160"/>
          </a:xfrm>
        </p:grpSpPr>
        <p:sp>
          <p:nvSpPr>
            <p:cNvPr id="133" name=""/>
            <p:cNvSpPr/>
            <p:nvPr/>
          </p:nvSpPr>
          <p:spPr>
            <a:xfrm>
              <a:off x="4500720" y="3328920"/>
              <a:ext cx="4427280" cy="269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361800"/>
                  <a:tab algn="l" pos="723960"/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Körperfremde (exogene) Kei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  <a:tab algn="l" pos="7601040"/>
                  <a:tab algn="l" pos="79628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on Händen des Person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  <a:tab algn="l" pos="7601040"/>
                  <a:tab algn="l" pos="79628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on Spüllösungen etc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  <a:tab algn="l" pos="7601040"/>
                  <a:tab algn="l" pos="79628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us der sozialen und unbelebten Umgebu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9280" y="3951360"/>
              <a:ext cx="1513080" cy="25207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1708200" y="4416480"/>
              <a:ext cx="2943000" cy="884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 rot="20059800">
            <a:off x="2204640" y="1936440"/>
            <a:ext cx="7308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68360" y="1287360"/>
            <a:ext cx="8459640" cy="3456000"/>
            <a:chOff x="468360" y="1287360"/>
            <a:chExt cx="8459640" cy="3456000"/>
          </a:xfrm>
        </p:grpSpPr>
        <p:sp>
          <p:nvSpPr>
            <p:cNvPr id="138" name=""/>
            <p:cNvSpPr/>
            <p:nvPr/>
          </p:nvSpPr>
          <p:spPr>
            <a:xfrm>
              <a:off x="468360" y="2511360"/>
              <a:ext cx="3311640" cy="22320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3521160" y="2079000"/>
              <a:ext cx="1143000" cy="947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00720" y="1287360"/>
              <a:ext cx="4427280" cy="269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"/>
                <a:tabLst>
                  <a:tab algn="l" pos="361800"/>
                  <a:tab algn="l" pos="723960"/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Körpereigene (endogene)</a:t>
              </a:r>
              <a:br>
                <a:rPr sz="2000"/>
              </a:b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Keime der Darm- und</a:t>
              </a:r>
              <a:br>
                <a:rPr sz="2000"/>
              </a:b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Genitalflor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  <a:tab algn="l" pos="7601040"/>
                  <a:tab algn="l" pos="796284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E. col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  <a:tab algn="l" pos="7601040"/>
                  <a:tab algn="l" pos="796284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Enterokokk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  <a:tab algn="l" pos="7601040"/>
                  <a:tab algn="l" pos="796284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Pseudomonad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ektionsübertragung bei Harndrain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558720" y="1197000"/>
            <a:ext cx="3816360" cy="5184360"/>
            <a:chOff x="558720" y="1197000"/>
            <a:chExt cx="3816360" cy="5184360"/>
          </a:xfrm>
        </p:grpSpPr>
        <p:sp>
          <p:nvSpPr>
            <p:cNvPr id="144" name=""/>
            <p:cNvSpPr/>
            <p:nvPr/>
          </p:nvSpPr>
          <p:spPr>
            <a:xfrm>
              <a:off x="831960" y="1204560"/>
              <a:ext cx="3463920" cy="3385800"/>
            </a:xfrm>
            <a:custGeom>
              <a:avLst/>
              <a:gdLst/>
              <a:ahLst/>
              <a:rect l="l" t="t" r="r" b="b"/>
              <a:pathLst>
                <a:path w="1718" h="1668">
                  <a:moveTo>
                    <a:pt x="167" y="26"/>
                  </a:moveTo>
                  <a:lnTo>
                    <a:pt x="197" y="446"/>
                  </a:lnTo>
                  <a:cubicBezTo>
                    <a:pt x="211" y="566"/>
                    <a:pt x="252" y="690"/>
                    <a:pt x="254" y="749"/>
                  </a:cubicBezTo>
                  <a:cubicBezTo>
                    <a:pt x="256" y="808"/>
                    <a:pt x="228" y="781"/>
                    <a:pt x="207" y="802"/>
                  </a:cubicBezTo>
                  <a:cubicBezTo>
                    <a:pt x="186" y="823"/>
                    <a:pt x="151" y="829"/>
                    <a:pt x="127" y="876"/>
                  </a:cubicBezTo>
                  <a:cubicBezTo>
                    <a:pt x="103" y="923"/>
                    <a:pt x="73" y="1021"/>
                    <a:pt x="61" y="1085"/>
                  </a:cubicBezTo>
                  <a:cubicBezTo>
                    <a:pt x="49" y="1149"/>
                    <a:pt x="62" y="1226"/>
                    <a:pt x="54" y="1262"/>
                  </a:cubicBezTo>
                  <a:cubicBezTo>
                    <a:pt x="46" y="1298"/>
                    <a:pt x="22" y="1271"/>
                    <a:pt x="14" y="1299"/>
                  </a:cubicBezTo>
                  <a:cubicBezTo>
                    <a:pt x="6" y="1327"/>
                    <a:pt x="0" y="1388"/>
                    <a:pt x="7" y="1432"/>
                  </a:cubicBezTo>
                  <a:cubicBezTo>
                    <a:pt x="14" y="1476"/>
                    <a:pt x="40" y="1534"/>
                    <a:pt x="57" y="1562"/>
                  </a:cubicBezTo>
                  <a:cubicBezTo>
                    <a:pt x="74" y="1590"/>
                    <a:pt x="95" y="1590"/>
                    <a:pt x="111" y="1598"/>
                  </a:cubicBezTo>
                  <a:cubicBezTo>
                    <a:pt x="127" y="1606"/>
                    <a:pt x="135" y="1612"/>
                    <a:pt x="154" y="1608"/>
                  </a:cubicBezTo>
                  <a:cubicBezTo>
                    <a:pt x="173" y="1604"/>
                    <a:pt x="201" y="1606"/>
                    <a:pt x="227" y="1575"/>
                  </a:cubicBezTo>
                  <a:cubicBezTo>
                    <a:pt x="253" y="1544"/>
                    <a:pt x="296" y="1457"/>
                    <a:pt x="310" y="1425"/>
                  </a:cubicBezTo>
                  <a:lnTo>
                    <a:pt x="310" y="1385"/>
                  </a:lnTo>
                  <a:lnTo>
                    <a:pt x="284" y="1365"/>
                  </a:lnTo>
                  <a:lnTo>
                    <a:pt x="300" y="1175"/>
                  </a:lnTo>
                  <a:cubicBezTo>
                    <a:pt x="309" y="1120"/>
                    <a:pt x="322" y="1064"/>
                    <a:pt x="337" y="1036"/>
                  </a:cubicBezTo>
                  <a:cubicBezTo>
                    <a:pt x="352" y="1008"/>
                    <a:pt x="374" y="1010"/>
                    <a:pt x="387" y="1006"/>
                  </a:cubicBezTo>
                  <a:lnTo>
                    <a:pt x="414" y="1012"/>
                  </a:lnTo>
                  <a:lnTo>
                    <a:pt x="414" y="1089"/>
                  </a:lnTo>
                  <a:lnTo>
                    <a:pt x="377" y="1235"/>
                  </a:lnTo>
                  <a:lnTo>
                    <a:pt x="370" y="1338"/>
                  </a:lnTo>
                  <a:lnTo>
                    <a:pt x="387" y="1462"/>
                  </a:lnTo>
                  <a:cubicBezTo>
                    <a:pt x="399" y="1500"/>
                    <a:pt x="415" y="1538"/>
                    <a:pt x="440" y="1568"/>
                  </a:cubicBezTo>
                  <a:cubicBezTo>
                    <a:pt x="465" y="1598"/>
                    <a:pt x="502" y="1630"/>
                    <a:pt x="540" y="1645"/>
                  </a:cubicBezTo>
                  <a:cubicBezTo>
                    <a:pt x="578" y="1660"/>
                    <a:pt x="629" y="1668"/>
                    <a:pt x="667" y="1661"/>
                  </a:cubicBezTo>
                  <a:cubicBezTo>
                    <a:pt x="705" y="1654"/>
                    <a:pt x="744" y="1631"/>
                    <a:pt x="770" y="1605"/>
                  </a:cubicBezTo>
                  <a:cubicBezTo>
                    <a:pt x="796" y="1579"/>
                    <a:pt x="814" y="1540"/>
                    <a:pt x="823" y="1505"/>
                  </a:cubicBezTo>
                  <a:cubicBezTo>
                    <a:pt x="832" y="1470"/>
                    <a:pt x="829" y="1427"/>
                    <a:pt x="823" y="1392"/>
                  </a:cubicBezTo>
                  <a:cubicBezTo>
                    <a:pt x="817" y="1357"/>
                    <a:pt x="799" y="1327"/>
                    <a:pt x="786" y="1295"/>
                  </a:cubicBezTo>
                  <a:cubicBezTo>
                    <a:pt x="773" y="1263"/>
                    <a:pt x="752" y="1226"/>
                    <a:pt x="743" y="1202"/>
                  </a:cubicBezTo>
                  <a:cubicBezTo>
                    <a:pt x="734" y="1178"/>
                    <a:pt x="731" y="1161"/>
                    <a:pt x="733" y="1152"/>
                  </a:cubicBezTo>
                  <a:lnTo>
                    <a:pt x="756" y="1149"/>
                  </a:lnTo>
                  <a:lnTo>
                    <a:pt x="816" y="1169"/>
                  </a:lnTo>
                  <a:cubicBezTo>
                    <a:pt x="834" y="1176"/>
                    <a:pt x="831" y="1186"/>
                    <a:pt x="863" y="1192"/>
                  </a:cubicBezTo>
                  <a:cubicBezTo>
                    <a:pt x="895" y="1198"/>
                    <a:pt x="965" y="1208"/>
                    <a:pt x="1006" y="1205"/>
                  </a:cubicBezTo>
                  <a:cubicBezTo>
                    <a:pt x="1047" y="1202"/>
                    <a:pt x="1081" y="1192"/>
                    <a:pt x="1109" y="1175"/>
                  </a:cubicBezTo>
                  <a:cubicBezTo>
                    <a:pt x="1137" y="1158"/>
                    <a:pt x="1155" y="1120"/>
                    <a:pt x="1173" y="1105"/>
                  </a:cubicBezTo>
                  <a:cubicBezTo>
                    <a:pt x="1191" y="1090"/>
                    <a:pt x="1197" y="1089"/>
                    <a:pt x="1216" y="1085"/>
                  </a:cubicBezTo>
                  <a:cubicBezTo>
                    <a:pt x="1235" y="1081"/>
                    <a:pt x="1263" y="1084"/>
                    <a:pt x="1289" y="1082"/>
                  </a:cubicBezTo>
                  <a:cubicBezTo>
                    <a:pt x="1315" y="1080"/>
                    <a:pt x="1344" y="1079"/>
                    <a:pt x="1372" y="1072"/>
                  </a:cubicBezTo>
                  <a:cubicBezTo>
                    <a:pt x="1400" y="1065"/>
                    <a:pt x="1428" y="1060"/>
                    <a:pt x="1456" y="1042"/>
                  </a:cubicBezTo>
                  <a:cubicBezTo>
                    <a:pt x="1484" y="1024"/>
                    <a:pt x="1511" y="996"/>
                    <a:pt x="1539" y="966"/>
                  </a:cubicBezTo>
                  <a:cubicBezTo>
                    <a:pt x="1567" y="936"/>
                    <a:pt x="1601" y="903"/>
                    <a:pt x="1625" y="859"/>
                  </a:cubicBezTo>
                  <a:cubicBezTo>
                    <a:pt x="1649" y="815"/>
                    <a:pt x="1669" y="762"/>
                    <a:pt x="1682" y="703"/>
                  </a:cubicBezTo>
                  <a:cubicBezTo>
                    <a:pt x="1695" y="644"/>
                    <a:pt x="1706" y="582"/>
                    <a:pt x="1705" y="503"/>
                  </a:cubicBezTo>
                  <a:cubicBezTo>
                    <a:pt x="1704" y="424"/>
                    <a:pt x="1718" y="363"/>
                    <a:pt x="1675" y="226"/>
                  </a:cubicBezTo>
                  <a:cubicBezTo>
                    <a:pt x="1645" y="132"/>
                    <a:pt x="1640" y="0"/>
                    <a:pt x="1615" y="0"/>
                  </a:cubicBezTo>
                  <a:cubicBezTo>
                    <a:pt x="1362" y="0"/>
                    <a:pt x="469" y="21"/>
                    <a:pt x="167" y="26"/>
                  </a:cubicBezTo>
                  <a:close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98960" y="2916000"/>
              <a:ext cx="125280" cy="479160"/>
            </a:xfrm>
            <a:custGeom>
              <a:avLst/>
              <a:gdLst/>
              <a:ahLst/>
              <a:rect l="l" t="t" r="r" b="b"/>
              <a:pathLst>
                <a:path w="62" h="236">
                  <a:moveTo>
                    <a:pt x="37" y="0"/>
                  </a:moveTo>
                  <a:cubicBezTo>
                    <a:pt x="23" y="16"/>
                    <a:pt x="10" y="33"/>
                    <a:pt x="5" y="56"/>
                  </a:cubicBezTo>
                  <a:cubicBezTo>
                    <a:pt x="0" y="79"/>
                    <a:pt x="5" y="112"/>
                    <a:pt x="9" y="136"/>
                  </a:cubicBezTo>
                  <a:cubicBezTo>
                    <a:pt x="13" y="160"/>
                    <a:pt x="20" y="185"/>
                    <a:pt x="29" y="202"/>
                  </a:cubicBezTo>
                  <a:cubicBezTo>
                    <a:pt x="38" y="219"/>
                    <a:pt x="46" y="217"/>
                    <a:pt x="62" y="23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08520" y="3031920"/>
              <a:ext cx="139680" cy="450360"/>
            </a:xfrm>
            <a:custGeom>
              <a:avLst/>
              <a:gdLst/>
              <a:ahLst/>
              <a:rect l="l" t="t" r="r" b="b"/>
              <a:pathLst>
                <a:path w="70" h="222">
                  <a:moveTo>
                    <a:pt x="0" y="0"/>
                  </a:moveTo>
                  <a:lnTo>
                    <a:pt x="17" y="22"/>
                  </a:lnTo>
                  <a:cubicBezTo>
                    <a:pt x="26" y="40"/>
                    <a:pt x="45" y="73"/>
                    <a:pt x="54" y="106"/>
                  </a:cubicBezTo>
                  <a:cubicBezTo>
                    <a:pt x="63" y="139"/>
                    <a:pt x="69" y="185"/>
                    <a:pt x="70" y="22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432800">
              <a:off x="1536480" y="1720440"/>
              <a:ext cx="1347840" cy="825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16280" y="1197000"/>
              <a:ext cx="465120" cy="1020600"/>
            </a:xfrm>
            <a:custGeom>
              <a:avLst/>
              <a:gdLst/>
              <a:ahLst/>
              <a:rect l="l" t="t" r="r" b="b"/>
              <a:pathLst>
                <a:path w="231" h="503">
                  <a:moveTo>
                    <a:pt x="200" y="7"/>
                  </a:moveTo>
                  <a:cubicBezTo>
                    <a:pt x="190" y="14"/>
                    <a:pt x="184" y="44"/>
                    <a:pt x="170" y="58"/>
                  </a:cubicBezTo>
                  <a:cubicBezTo>
                    <a:pt x="156" y="72"/>
                    <a:pt x="134" y="79"/>
                    <a:pt x="116" y="91"/>
                  </a:cubicBezTo>
                  <a:cubicBezTo>
                    <a:pt x="98" y="103"/>
                    <a:pt x="70" y="115"/>
                    <a:pt x="59" y="130"/>
                  </a:cubicBezTo>
                  <a:cubicBezTo>
                    <a:pt x="48" y="145"/>
                    <a:pt x="50" y="163"/>
                    <a:pt x="47" y="184"/>
                  </a:cubicBezTo>
                  <a:cubicBezTo>
                    <a:pt x="44" y="205"/>
                    <a:pt x="42" y="231"/>
                    <a:pt x="41" y="259"/>
                  </a:cubicBezTo>
                  <a:cubicBezTo>
                    <a:pt x="40" y="287"/>
                    <a:pt x="44" y="325"/>
                    <a:pt x="41" y="355"/>
                  </a:cubicBezTo>
                  <a:cubicBezTo>
                    <a:pt x="38" y="385"/>
                    <a:pt x="27" y="422"/>
                    <a:pt x="20" y="442"/>
                  </a:cubicBezTo>
                  <a:cubicBezTo>
                    <a:pt x="13" y="462"/>
                    <a:pt x="4" y="466"/>
                    <a:pt x="2" y="475"/>
                  </a:cubicBezTo>
                  <a:cubicBezTo>
                    <a:pt x="0" y="484"/>
                    <a:pt x="1" y="503"/>
                    <a:pt x="8" y="499"/>
                  </a:cubicBezTo>
                  <a:cubicBezTo>
                    <a:pt x="15" y="495"/>
                    <a:pt x="36" y="467"/>
                    <a:pt x="44" y="451"/>
                  </a:cubicBezTo>
                  <a:cubicBezTo>
                    <a:pt x="52" y="435"/>
                    <a:pt x="53" y="418"/>
                    <a:pt x="56" y="400"/>
                  </a:cubicBezTo>
                  <a:cubicBezTo>
                    <a:pt x="59" y="382"/>
                    <a:pt x="63" y="367"/>
                    <a:pt x="65" y="340"/>
                  </a:cubicBezTo>
                  <a:cubicBezTo>
                    <a:pt x="67" y="313"/>
                    <a:pt x="64" y="266"/>
                    <a:pt x="65" y="238"/>
                  </a:cubicBezTo>
                  <a:cubicBezTo>
                    <a:pt x="66" y="210"/>
                    <a:pt x="66" y="188"/>
                    <a:pt x="71" y="169"/>
                  </a:cubicBezTo>
                  <a:cubicBezTo>
                    <a:pt x="76" y="150"/>
                    <a:pt x="83" y="135"/>
                    <a:pt x="95" y="124"/>
                  </a:cubicBezTo>
                  <a:cubicBezTo>
                    <a:pt x="107" y="113"/>
                    <a:pt x="128" y="115"/>
                    <a:pt x="146" y="103"/>
                  </a:cubicBezTo>
                  <a:cubicBezTo>
                    <a:pt x="164" y="91"/>
                    <a:pt x="189" y="70"/>
                    <a:pt x="203" y="55"/>
                  </a:cubicBezTo>
                  <a:cubicBezTo>
                    <a:pt x="217" y="40"/>
                    <a:pt x="231" y="21"/>
                    <a:pt x="230" y="13"/>
                  </a:cubicBezTo>
                  <a:cubicBezTo>
                    <a:pt x="229" y="5"/>
                    <a:pt x="210" y="0"/>
                    <a:pt x="200" y="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733840" y="2182680"/>
              <a:ext cx="88920" cy="90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20524800">
              <a:off x="1727280" y="3553920"/>
              <a:ext cx="577800" cy="8694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900440" y="3558960"/>
              <a:ext cx="299880" cy="855360"/>
            </a:xfrm>
            <a:custGeom>
              <a:avLst/>
              <a:gdLst/>
              <a:ahLst/>
              <a:rect l="l" t="t" r="r" b="b"/>
              <a:pathLst>
                <a:path w="149" h="421">
                  <a:moveTo>
                    <a:pt x="0" y="0"/>
                  </a:moveTo>
                  <a:lnTo>
                    <a:pt x="18" y="4"/>
                  </a:lnTo>
                  <a:cubicBezTo>
                    <a:pt x="26" y="9"/>
                    <a:pt x="38" y="9"/>
                    <a:pt x="48" y="28"/>
                  </a:cubicBezTo>
                  <a:cubicBezTo>
                    <a:pt x="58" y="47"/>
                    <a:pt x="63" y="84"/>
                    <a:pt x="78" y="118"/>
                  </a:cubicBezTo>
                  <a:cubicBezTo>
                    <a:pt x="93" y="152"/>
                    <a:pt x="127" y="198"/>
                    <a:pt x="138" y="235"/>
                  </a:cubicBezTo>
                  <a:cubicBezTo>
                    <a:pt x="149" y="272"/>
                    <a:pt x="147" y="313"/>
                    <a:pt x="147" y="340"/>
                  </a:cubicBezTo>
                  <a:cubicBezTo>
                    <a:pt x="147" y="367"/>
                    <a:pt x="145" y="384"/>
                    <a:pt x="138" y="397"/>
                  </a:cubicBezTo>
                  <a:cubicBezTo>
                    <a:pt x="131" y="410"/>
                    <a:pt x="118" y="415"/>
                    <a:pt x="105" y="42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392120" y="4213080"/>
              <a:ext cx="30240" cy="2168280"/>
            </a:xfrm>
            <a:custGeom>
              <a:avLst/>
              <a:gdLst/>
              <a:ahLst/>
              <a:rect l="l" t="t" r="r" b="b"/>
              <a:pathLst>
                <a:path w="15" h="1068">
                  <a:moveTo>
                    <a:pt x="0" y="0"/>
                  </a:moveTo>
                  <a:cubicBezTo>
                    <a:pt x="1" y="78"/>
                    <a:pt x="1" y="290"/>
                    <a:pt x="3" y="468"/>
                  </a:cubicBezTo>
                  <a:cubicBezTo>
                    <a:pt x="5" y="646"/>
                    <a:pt x="4" y="973"/>
                    <a:pt x="15" y="106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400560" y="1995120"/>
              <a:ext cx="974520" cy="1962000"/>
            </a:xfrm>
            <a:custGeom>
              <a:avLst/>
              <a:gdLst/>
              <a:ahLst/>
              <a:rect l="l" t="t" r="r" b="b"/>
              <a:pathLst>
                <a:path w="483" h="967">
                  <a:moveTo>
                    <a:pt x="435" y="0"/>
                  </a:moveTo>
                  <a:cubicBezTo>
                    <a:pt x="452" y="99"/>
                    <a:pt x="469" y="198"/>
                    <a:pt x="471" y="304"/>
                  </a:cubicBezTo>
                  <a:cubicBezTo>
                    <a:pt x="473" y="410"/>
                    <a:pt x="483" y="544"/>
                    <a:pt x="450" y="637"/>
                  </a:cubicBezTo>
                  <a:cubicBezTo>
                    <a:pt x="417" y="730"/>
                    <a:pt x="348" y="810"/>
                    <a:pt x="273" y="865"/>
                  </a:cubicBezTo>
                  <a:cubicBezTo>
                    <a:pt x="198" y="920"/>
                    <a:pt x="48" y="952"/>
                    <a:pt x="0" y="96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720960" y="3579480"/>
              <a:ext cx="417600" cy="2788920"/>
            </a:xfrm>
            <a:custGeom>
              <a:avLst/>
              <a:gdLst/>
              <a:ahLst/>
              <a:rect l="l" t="t" r="r" b="b"/>
              <a:pathLst>
                <a:path w="207" h="1374">
                  <a:moveTo>
                    <a:pt x="207" y="0"/>
                  </a:moveTo>
                  <a:cubicBezTo>
                    <a:pt x="190" y="37"/>
                    <a:pt x="129" y="144"/>
                    <a:pt x="105" y="225"/>
                  </a:cubicBezTo>
                  <a:cubicBezTo>
                    <a:pt x="85" y="300"/>
                    <a:pt x="80" y="256"/>
                    <a:pt x="63" y="447"/>
                  </a:cubicBezTo>
                  <a:cubicBezTo>
                    <a:pt x="46" y="638"/>
                    <a:pt x="13" y="1181"/>
                    <a:pt x="0" y="137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125800" y="2360520"/>
              <a:ext cx="828720" cy="702720"/>
            </a:xfrm>
            <a:custGeom>
              <a:avLst/>
              <a:gdLst/>
              <a:ahLst/>
              <a:rect l="l" t="t" r="r" b="b"/>
              <a:pathLst>
                <a:path w="411" h="347">
                  <a:moveTo>
                    <a:pt x="359" y="10"/>
                  </a:moveTo>
                  <a:cubicBezTo>
                    <a:pt x="343" y="0"/>
                    <a:pt x="328" y="57"/>
                    <a:pt x="311" y="73"/>
                  </a:cubicBezTo>
                  <a:cubicBezTo>
                    <a:pt x="294" y="89"/>
                    <a:pt x="278" y="96"/>
                    <a:pt x="257" y="103"/>
                  </a:cubicBezTo>
                  <a:cubicBezTo>
                    <a:pt x="236" y="110"/>
                    <a:pt x="206" y="115"/>
                    <a:pt x="182" y="118"/>
                  </a:cubicBezTo>
                  <a:cubicBezTo>
                    <a:pt x="158" y="121"/>
                    <a:pt x="140" y="124"/>
                    <a:pt x="113" y="121"/>
                  </a:cubicBezTo>
                  <a:cubicBezTo>
                    <a:pt x="86" y="118"/>
                    <a:pt x="37" y="96"/>
                    <a:pt x="20" y="97"/>
                  </a:cubicBezTo>
                  <a:cubicBezTo>
                    <a:pt x="3" y="98"/>
                    <a:pt x="0" y="101"/>
                    <a:pt x="8" y="130"/>
                  </a:cubicBezTo>
                  <a:cubicBezTo>
                    <a:pt x="16" y="159"/>
                    <a:pt x="34" y="236"/>
                    <a:pt x="68" y="271"/>
                  </a:cubicBezTo>
                  <a:cubicBezTo>
                    <a:pt x="102" y="306"/>
                    <a:pt x="170" y="333"/>
                    <a:pt x="212" y="340"/>
                  </a:cubicBezTo>
                  <a:cubicBezTo>
                    <a:pt x="254" y="347"/>
                    <a:pt x="294" y="332"/>
                    <a:pt x="323" y="316"/>
                  </a:cubicBezTo>
                  <a:cubicBezTo>
                    <a:pt x="352" y="300"/>
                    <a:pt x="372" y="274"/>
                    <a:pt x="386" y="244"/>
                  </a:cubicBezTo>
                  <a:cubicBezTo>
                    <a:pt x="400" y="214"/>
                    <a:pt x="411" y="172"/>
                    <a:pt x="407" y="133"/>
                  </a:cubicBezTo>
                  <a:cubicBezTo>
                    <a:pt x="403" y="94"/>
                    <a:pt x="375" y="20"/>
                    <a:pt x="359" y="10"/>
                  </a:cubicBez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558720" y="1935000"/>
              <a:ext cx="2198520" cy="4299840"/>
              <a:chOff x="558720" y="1935000"/>
              <a:chExt cx="2198520" cy="4299840"/>
            </a:xfrm>
          </p:grpSpPr>
          <p:sp>
            <p:nvSpPr>
              <p:cNvPr id="157" name=""/>
              <p:cNvSpPr/>
              <p:nvPr/>
            </p:nvSpPr>
            <p:spPr>
              <a:xfrm>
                <a:off x="812880" y="2517120"/>
                <a:ext cx="1936800" cy="3522240"/>
              </a:xfrm>
              <a:custGeom>
                <a:avLst/>
                <a:gdLst/>
                <a:ahLst/>
                <a:rect l="l" t="t" r="r" b="b"/>
                <a:pathLst>
                  <a:path w="960" h="1735">
                    <a:moveTo>
                      <a:pt x="857" y="14"/>
                    </a:moveTo>
                    <a:lnTo>
                      <a:pt x="839" y="16"/>
                    </a:lnTo>
                    <a:cubicBezTo>
                      <a:pt x="844" y="39"/>
                      <a:pt x="880" y="108"/>
                      <a:pt x="889" y="149"/>
                    </a:cubicBezTo>
                    <a:cubicBezTo>
                      <a:pt x="898" y="190"/>
                      <a:pt x="898" y="234"/>
                      <a:pt x="892" y="262"/>
                    </a:cubicBezTo>
                    <a:cubicBezTo>
                      <a:pt x="886" y="290"/>
                      <a:pt x="880" y="305"/>
                      <a:pt x="855" y="315"/>
                    </a:cubicBezTo>
                    <a:cubicBezTo>
                      <a:pt x="830" y="325"/>
                      <a:pt x="783" y="329"/>
                      <a:pt x="742" y="325"/>
                    </a:cubicBezTo>
                    <a:cubicBezTo>
                      <a:pt x="701" y="321"/>
                      <a:pt x="654" y="305"/>
                      <a:pt x="609" y="289"/>
                    </a:cubicBezTo>
                    <a:cubicBezTo>
                      <a:pt x="564" y="273"/>
                      <a:pt x="512" y="241"/>
                      <a:pt x="469" y="229"/>
                    </a:cubicBezTo>
                    <a:cubicBezTo>
                      <a:pt x="426" y="217"/>
                      <a:pt x="379" y="214"/>
                      <a:pt x="349" y="215"/>
                    </a:cubicBezTo>
                    <a:cubicBezTo>
                      <a:pt x="319" y="216"/>
                      <a:pt x="306" y="224"/>
                      <a:pt x="286" y="235"/>
                    </a:cubicBezTo>
                    <a:cubicBezTo>
                      <a:pt x="266" y="246"/>
                      <a:pt x="244" y="261"/>
                      <a:pt x="229" y="282"/>
                    </a:cubicBezTo>
                    <a:cubicBezTo>
                      <a:pt x="214" y="303"/>
                      <a:pt x="199" y="319"/>
                      <a:pt x="193" y="359"/>
                    </a:cubicBezTo>
                    <a:cubicBezTo>
                      <a:pt x="187" y="399"/>
                      <a:pt x="194" y="477"/>
                      <a:pt x="193" y="522"/>
                    </a:cubicBezTo>
                    <a:cubicBezTo>
                      <a:pt x="192" y="567"/>
                      <a:pt x="193" y="582"/>
                      <a:pt x="186" y="628"/>
                    </a:cubicBezTo>
                    <a:cubicBezTo>
                      <a:pt x="179" y="674"/>
                      <a:pt x="167" y="740"/>
                      <a:pt x="153" y="798"/>
                    </a:cubicBezTo>
                    <a:cubicBezTo>
                      <a:pt x="139" y="856"/>
                      <a:pt x="120" y="920"/>
                      <a:pt x="103" y="978"/>
                    </a:cubicBezTo>
                    <a:cubicBezTo>
                      <a:pt x="86" y="1036"/>
                      <a:pt x="64" y="1096"/>
                      <a:pt x="53" y="1148"/>
                    </a:cubicBezTo>
                    <a:cubicBezTo>
                      <a:pt x="42" y="1200"/>
                      <a:pt x="39" y="1245"/>
                      <a:pt x="36" y="1291"/>
                    </a:cubicBezTo>
                    <a:cubicBezTo>
                      <a:pt x="33" y="1337"/>
                      <a:pt x="35" y="1385"/>
                      <a:pt x="33" y="1424"/>
                    </a:cubicBezTo>
                    <a:cubicBezTo>
                      <a:pt x="31" y="1463"/>
                      <a:pt x="29" y="1493"/>
                      <a:pt x="26" y="1527"/>
                    </a:cubicBezTo>
                    <a:cubicBezTo>
                      <a:pt x="23" y="1561"/>
                      <a:pt x="18" y="1595"/>
                      <a:pt x="16" y="1627"/>
                    </a:cubicBezTo>
                    <a:cubicBezTo>
                      <a:pt x="14" y="1659"/>
                      <a:pt x="0" y="1705"/>
                      <a:pt x="16" y="1720"/>
                    </a:cubicBezTo>
                    <a:cubicBezTo>
                      <a:pt x="32" y="1735"/>
                      <a:pt x="66" y="1730"/>
                      <a:pt x="110" y="1717"/>
                    </a:cubicBezTo>
                    <a:cubicBezTo>
                      <a:pt x="120" y="1713"/>
                      <a:pt x="109" y="1625"/>
                      <a:pt x="106" y="1567"/>
                    </a:cubicBezTo>
                    <a:cubicBezTo>
                      <a:pt x="103" y="1509"/>
                      <a:pt x="90" y="1429"/>
                      <a:pt x="90" y="1367"/>
                    </a:cubicBezTo>
                    <a:cubicBezTo>
                      <a:pt x="90" y="1305"/>
                      <a:pt x="93" y="1253"/>
                      <a:pt x="103" y="1194"/>
                    </a:cubicBezTo>
                    <a:cubicBezTo>
                      <a:pt x="113" y="1135"/>
                      <a:pt x="136" y="1075"/>
                      <a:pt x="153" y="1014"/>
                    </a:cubicBezTo>
                    <a:cubicBezTo>
                      <a:pt x="170" y="953"/>
                      <a:pt x="189" y="889"/>
                      <a:pt x="203" y="831"/>
                    </a:cubicBezTo>
                    <a:cubicBezTo>
                      <a:pt x="217" y="773"/>
                      <a:pt x="228" y="721"/>
                      <a:pt x="236" y="665"/>
                    </a:cubicBezTo>
                    <a:cubicBezTo>
                      <a:pt x="244" y="609"/>
                      <a:pt x="246" y="541"/>
                      <a:pt x="249" y="492"/>
                    </a:cubicBezTo>
                    <a:cubicBezTo>
                      <a:pt x="252" y="443"/>
                      <a:pt x="246" y="402"/>
                      <a:pt x="253" y="369"/>
                    </a:cubicBezTo>
                    <a:cubicBezTo>
                      <a:pt x="260" y="336"/>
                      <a:pt x="267" y="309"/>
                      <a:pt x="289" y="292"/>
                    </a:cubicBezTo>
                    <a:cubicBezTo>
                      <a:pt x="311" y="275"/>
                      <a:pt x="344" y="262"/>
                      <a:pt x="383" y="265"/>
                    </a:cubicBezTo>
                    <a:cubicBezTo>
                      <a:pt x="422" y="268"/>
                      <a:pt x="479" y="295"/>
                      <a:pt x="526" y="312"/>
                    </a:cubicBezTo>
                    <a:cubicBezTo>
                      <a:pt x="573" y="329"/>
                      <a:pt x="625" y="354"/>
                      <a:pt x="666" y="365"/>
                    </a:cubicBezTo>
                    <a:cubicBezTo>
                      <a:pt x="707" y="376"/>
                      <a:pt x="736" y="375"/>
                      <a:pt x="772" y="375"/>
                    </a:cubicBezTo>
                    <a:cubicBezTo>
                      <a:pt x="808" y="375"/>
                      <a:pt x="856" y="380"/>
                      <a:pt x="885" y="365"/>
                    </a:cubicBezTo>
                    <a:cubicBezTo>
                      <a:pt x="914" y="350"/>
                      <a:pt x="938" y="316"/>
                      <a:pt x="949" y="285"/>
                    </a:cubicBezTo>
                    <a:cubicBezTo>
                      <a:pt x="960" y="254"/>
                      <a:pt x="953" y="212"/>
                      <a:pt x="949" y="179"/>
                    </a:cubicBezTo>
                    <a:cubicBezTo>
                      <a:pt x="945" y="146"/>
                      <a:pt x="935" y="114"/>
                      <a:pt x="925" y="86"/>
                    </a:cubicBezTo>
                    <a:cubicBezTo>
                      <a:pt x="915" y="58"/>
                      <a:pt x="900" y="24"/>
                      <a:pt x="889" y="12"/>
                    </a:cubicBezTo>
                    <a:cubicBezTo>
                      <a:pt x="878" y="0"/>
                      <a:pt x="867" y="7"/>
                      <a:pt x="857" y="14"/>
                    </a:cubicBez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19792200">
                <a:off x="2236680" y="2201040"/>
                <a:ext cx="459000" cy="367920"/>
              </a:xfrm>
              <a:prstGeom prst="ellipse">
                <a:avLst/>
              </a:prstGeom>
              <a:solidFill>
                <a:srgbClr val="ffcc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147760" y="1935000"/>
                <a:ext cx="281160" cy="336240"/>
              </a:xfrm>
              <a:custGeom>
                <a:avLst/>
                <a:gdLst/>
                <a:ahLst/>
                <a:rect l="l" t="t" r="r" b="b"/>
                <a:pathLst>
                  <a:path w="139" h="166">
                    <a:moveTo>
                      <a:pt x="133" y="137"/>
                    </a:moveTo>
                    <a:cubicBezTo>
                      <a:pt x="139" y="113"/>
                      <a:pt x="82" y="44"/>
                      <a:pt x="64" y="22"/>
                    </a:cubicBezTo>
                    <a:cubicBezTo>
                      <a:pt x="46" y="0"/>
                      <a:pt x="31" y="3"/>
                      <a:pt x="22" y="6"/>
                    </a:cubicBezTo>
                    <a:cubicBezTo>
                      <a:pt x="13" y="9"/>
                      <a:pt x="0" y="11"/>
                      <a:pt x="11" y="38"/>
                    </a:cubicBezTo>
                    <a:cubicBezTo>
                      <a:pt x="22" y="65"/>
                      <a:pt x="62" y="164"/>
                      <a:pt x="88" y="166"/>
                    </a:cubicBezTo>
                    <a:cubicBezTo>
                      <a:pt x="115" y="166"/>
                      <a:pt x="128" y="154"/>
                      <a:pt x="133" y="137"/>
                    </a:cubicBez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20493600">
                <a:off x="2205000" y="1985040"/>
                <a:ext cx="88920" cy="99720"/>
              </a:xfrm>
              <a:prstGeom prst="ellipse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3400" y="6000120"/>
                <a:ext cx="201600" cy="234720"/>
              </a:xfrm>
              <a:prstGeom prst="rect">
                <a:avLst/>
              </a:prstGeom>
              <a:solidFill>
                <a:srgbClr val="ffcc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85960" y="6065280"/>
                <a:ext cx="88920" cy="1378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87520" y="5403240"/>
                <a:ext cx="306360" cy="545760"/>
              </a:xfrm>
              <a:custGeom>
                <a:avLst/>
                <a:gdLst/>
                <a:ahLst/>
                <a:rect l="l" t="t" r="r" b="b"/>
                <a:pathLst>
                  <a:path w="152" h="269">
                    <a:moveTo>
                      <a:pt x="152" y="0"/>
                    </a:moveTo>
                    <a:lnTo>
                      <a:pt x="142" y="10"/>
                    </a:lnTo>
                    <a:cubicBezTo>
                      <a:pt x="136" y="21"/>
                      <a:pt x="132" y="48"/>
                      <a:pt x="118" y="68"/>
                    </a:cubicBezTo>
                    <a:cubicBezTo>
                      <a:pt x="104" y="88"/>
                      <a:pt x="74" y="107"/>
                      <a:pt x="58" y="128"/>
                    </a:cubicBezTo>
                    <a:cubicBezTo>
                      <a:pt x="42" y="149"/>
                      <a:pt x="31" y="172"/>
                      <a:pt x="22" y="192"/>
                    </a:cubicBezTo>
                    <a:cubicBezTo>
                      <a:pt x="13" y="212"/>
                      <a:pt x="7" y="238"/>
                      <a:pt x="4" y="250"/>
                    </a:cubicBezTo>
                    <a:cubicBezTo>
                      <a:pt x="1" y="262"/>
                      <a:pt x="0" y="264"/>
                      <a:pt x="4" y="266"/>
                    </a:cubicBezTo>
                    <a:cubicBezTo>
                      <a:pt x="8" y="268"/>
                      <a:pt x="26" y="269"/>
                      <a:pt x="30" y="264"/>
                    </a:cubicBezTo>
                    <a:cubicBezTo>
                      <a:pt x="34" y="259"/>
                      <a:pt x="25" y="251"/>
                      <a:pt x="28" y="236"/>
                    </a:cubicBezTo>
                    <a:cubicBezTo>
                      <a:pt x="31" y="221"/>
                      <a:pt x="40" y="192"/>
                      <a:pt x="48" y="176"/>
                    </a:cubicBezTo>
                    <a:cubicBezTo>
                      <a:pt x="56" y="160"/>
                      <a:pt x="64" y="149"/>
                      <a:pt x="74" y="138"/>
                    </a:cubicBezTo>
                    <a:cubicBezTo>
                      <a:pt x="84" y="127"/>
                      <a:pt x="97" y="121"/>
                      <a:pt x="106" y="112"/>
                    </a:cubicBezTo>
                    <a:cubicBezTo>
                      <a:pt x="115" y="103"/>
                      <a:pt x="125" y="92"/>
                      <a:pt x="130" y="86"/>
                    </a:cubicBezTo>
                    <a:cubicBezTo>
                      <a:pt x="135" y="80"/>
                      <a:pt x="134" y="88"/>
                      <a:pt x="138" y="74"/>
                    </a:cubicBezTo>
                    <a:cubicBezTo>
                      <a:pt x="142" y="60"/>
                      <a:pt x="147" y="30"/>
                      <a:pt x="152" y="0"/>
                    </a:cubicBez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58720" y="5927040"/>
                <a:ext cx="117720" cy="156960"/>
              </a:xfrm>
              <a:prstGeom prst="rect">
                <a:avLst/>
              </a:prstGeom>
              <a:solidFill>
                <a:srgbClr val="ffcc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2095560" y="2555640"/>
              <a:ext cx="892080" cy="1811160"/>
            </a:xfrm>
            <a:custGeom>
              <a:avLst/>
              <a:gdLst/>
              <a:ahLst/>
              <a:rect l="l" t="t" r="r" b="b"/>
              <a:pathLst>
                <a:path w="442" h="893">
                  <a:moveTo>
                    <a:pt x="287" y="52"/>
                  </a:moveTo>
                  <a:cubicBezTo>
                    <a:pt x="295" y="43"/>
                    <a:pt x="323" y="20"/>
                    <a:pt x="344" y="13"/>
                  </a:cubicBezTo>
                  <a:cubicBezTo>
                    <a:pt x="365" y="6"/>
                    <a:pt x="397" y="0"/>
                    <a:pt x="413" y="7"/>
                  </a:cubicBezTo>
                  <a:cubicBezTo>
                    <a:pt x="429" y="14"/>
                    <a:pt x="438" y="21"/>
                    <a:pt x="440" y="55"/>
                  </a:cubicBezTo>
                  <a:cubicBezTo>
                    <a:pt x="442" y="89"/>
                    <a:pt x="442" y="162"/>
                    <a:pt x="425" y="214"/>
                  </a:cubicBezTo>
                  <a:cubicBezTo>
                    <a:pt x="408" y="266"/>
                    <a:pt x="377" y="330"/>
                    <a:pt x="338" y="370"/>
                  </a:cubicBezTo>
                  <a:cubicBezTo>
                    <a:pt x="299" y="410"/>
                    <a:pt x="236" y="441"/>
                    <a:pt x="191" y="454"/>
                  </a:cubicBezTo>
                  <a:cubicBezTo>
                    <a:pt x="146" y="467"/>
                    <a:pt x="96" y="446"/>
                    <a:pt x="68" y="448"/>
                  </a:cubicBezTo>
                  <a:cubicBezTo>
                    <a:pt x="40" y="450"/>
                    <a:pt x="30" y="457"/>
                    <a:pt x="23" y="466"/>
                  </a:cubicBezTo>
                  <a:cubicBezTo>
                    <a:pt x="16" y="475"/>
                    <a:pt x="13" y="482"/>
                    <a:pt x="23" y="505"/>
                  </a:cubicBezTo>
                  <a:cubicBezTo>
                    <a:pt x="33" y="528"/>
                    <a:pt x="65" y="576"/>
                    <a:pt x="80" y="604"/>
                  </a:cubicBezTo>
                  <a:cubicBezTo>
                    <a:pt x="95" y="632"/>
                    <a:pt x="108" y="645"/>
                    <a:pt x="116" y="673"/>
                  </a:cubicBezTo>
                  <a:cubicBezTo>
                    <a:pt x="124" y="701"/>
                    <a:pt x="128" y="742"/>
                    <a:pt x="128" y="775"/>
                  </a:cubicBezTo>
                  <a:cubicBezTo>
                    <a:pt x="128" y="808"/>
                    <a:pt x="123" y="855"/>
                    <a:pt x="113" y="874"/>
                  </a:cubicBezTo>
                  <a:cubicBezTo>
                    <a:pt x="103" y="893"/>
                    <a:pt x="80" y="888"/>
                    <a:pt x="68" y="889"/>
                  </a:cubicBezTo>
                  <a:cubicBezTo>
                    <a:pt x="56" y="890"/>
                    <a:pt x="39" y="882"/>
                    <a:pt x="38" y="880"/>
                  </a:cubicBezTo>
                  <a:cubicBezTo>
                    <a:pt x="37" y="878"/>
                    <a:pt x="53" y="876"/>
                    <a:pt x="62" y="874"/>
                  </a:cubicBezTo>
                  <a:cubicBezTo>
                    <a:pt x="71" y="872"/>
                    <a:pt x="87" y="879"/>
                    <a:pt x="95" y="865"/>
                  </a:cubicBezTo>
                  <a:cubicBezTo>
                    <a:pt x="103" y="851"/>
                    <a:pt x="113" y="822"/>
                    <a:pt x="113" y="790"/>
                  </a:cubicBezTo>
                  <a:cubicBezTo>
                    <a:pt x="113" y="758"/>
                    <a:pt x="108" y="703"/>
                    <a:pt x="98" y="670"/>
                  </a:cubicBezTo>
                  <a:cubicBezTo>
                    <a:pt x="88" y="637"/>
                    <a:pt x="63" y="611"/>
                    <a:pt x="50" y="589"/>
                  </a:cubicBezTo>
                  <a:cubicBezTo>
                    <a:pt x="37" y="567"/>
                    <a:pt x="28" y="553"/>
                    <a:pt x="20" y="535"/>
                  </a:cubicBezTo>
                  <a:cubicBezTo>
                    <a:pt x="12" y="517"/>
                    <a:pt x="0" y="498"/>
                    <a:pt x="2" y="481"/>
                  </a:cubicBezTo>
                  <a:cubicBezTo>
                    <a:pt x="4" y="464"/>
                    <a:pt x="9" y="440"/>
                    <a:pt x="29" y="433"/>
                  </a:cubicBezTo>
                  <a:cubicBezTo>
                    <a:pt x="49" y="426"/>
                    <a:pt x="93" y="440"/>
                    <a:pt x="125" y="439"/>
                  </a:cubicBezTo>
                  <a:cubicBezTo>
                    <a:pt x="157" y="438"/>
                    <a:pt x="194" y="439"/>
                    <a:pt x="224" y="427"/>
                  </a:cubicBezTo>
                  <a:cubicBezTo>
                    <a:pt x="254" y="415"/>
                    <a:pt x="284" y="390"/>
                    <a:pt x="308" y="367"/>
                  </a:cubicBezTo>
                  <a:cubicBezTo>
                    <a:pt x="332" y="344"/>
                    <a:pt x="352" y="323"/>
                    <a:pt x="371" y="289"/>
                  </a:cubicBezTo>
                  <a:cubicBezTo>
                    <a:pt x="390" y="255"/>
                    <a:pt x="411" y="198"/>
                    <a:pt x="419" y="166"/>
                  </a:cubicBezTo>
                  <a:cubicBezTo>
                    <a:pt x="427" y="134"/>
                    <a:pt x="422" y="119"/>
                    <a:pt x="422" y="97"/>
                  </a:cubicBezTo>
                  <a:cubicBezTo>
                    <a:pt x="422" y="75"/>
                    <a:pt x="424" y="44"/>
                    <a:pt x="416" y="31"/>
                  </a:cubicBezTo>
                  <a:cubicBezTo>
                    <a:pt x="408" y="18"/>
                    <a:pt x="389" y="17"/>
                    <a:pt x="374" y="19"/>
                  </a:cubicBezTo>
                  <a:cubicBezTo>
                    <a:pt x="359" y="21"/>
                    <a:pt x="336" y="38"/>
                    <a:pt x="323" y="46"/>
                  </a:cubicBezTo>
                  <a:cubicBezTo>
                    <a:pt x="310" y="54"/>
                    <a:pt x="299" y="66"/>
                    <a:pt x="293" y="67"/>
                  </a:cubicBezTo>
                  <a:cubicBezTo>
                    <a:pt x="287" y="68"/>
                    <a:pt x="279" y="61"/>
                    <a:pt x="287" y="52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62080" y="1317600"/>
            <a:ext cx="8779320" cy="3676680"/>
            <a:chOff x="262080" y="1317600"/>
            <a:chExt cx="8779320" cy="3676680"/>
          </a:xfrm>
        </p:grpSpPr>
        <p:grpSp>
          <p:nvGrpSpPr>
            <p:cNvPr id="167" name=""/>
            <p:cNvGrpSpPr/>
            <p:nvPr/>
          </p:nvGrpSpPr>
          <p:grpSpPr>
            <a:xfrm>
              <a:off x="1042920" y="1317600"/>
              <a:ext cx="7998480" cy="3119400"/>
              <a:chOff x="1042920" y="1317600"/>
              <a:chExt cx="7998480" cy="3119400"/>
            </a:xfrm>
          </p:grpSpPr>
          <p:sp>
            <p:nvSpPr>
              <p:cNvPr id="168" name=""/>
              <p:cNvSpPr/>
              <p:nvPr/>
            </p:nvSpPr>
            <p:spPr>
              <a:xfrm>
                <a:off x="4224240" y="1317600"/>
                <a:ext cx="4817160" cy="27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61800" indent="-361800"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"/>
                  <a:tabLst>
                    <a:tab algn="l" pos="36180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  <a:tab algn="l" pos="560088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Extralumina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61800" indent="-36180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36180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  <a:tab algn="l" pos="560088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- </a:t>
                </a: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Zwischen Katheter und Urethra</a:t>
                </a:r>
                <a:br>
                  <a:rPr sz="1800"/>
                </a:b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  bildet sich Schleim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61800" indent="-36180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36180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  <a:tab algn="l" pos="560088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- Keime der Darm- und Genitalflora</a:t>
                </a:r>
                <a:br>
                  <a:rPr sz="1800"/>
                </a:b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  gelangen entlang des Katheters</a:t>
                </a:r>
                <a:br>
                  <a:rPr sz="1800"/>
                </a:b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in die Blase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61800" indent="-36180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36180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  <a:tab algn="l" pos="560088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- Unausweichliches Geschehen, </a:t>
                </a:r>
                <a:br>
                  <a:rPr sz="1800"/>
                </a:b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   welches bei DK innerhalb von </a:t>
                </a:r>
                <a:br>
                  <a:rPr sz="1800"/>
                </a:b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   ca. 14 Tg. zur Bakteriurie führt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042920" y="2598480"/>
                <a:ext cx="1573200" cy="1814400"/>
              </a:xfrm>
              <a:custGeom>
                <a:avLst/>
                <a:gdLst/>
                <a:ahLst/>
                <a:rect l="l" t="t" r="r" b="b"/>
                <a:pathLst>
                  <a:path w="991" h="1143">
                    <a:moveTo>
                      <a:pt x="921" y="0"/>
                    </a:moveTo>
                    <a:cubicBezTo>
                      <a:pt x="931" y="21"/>
                      <a:pt x="966" y="81"/>
                      <a:pt x="977" y="127"/>
                    </a:cubicBezTo>
                    <a:cubicBezTo>
                      <a:pt x="988" y="173"/>
                      <a:pt x="991" y="239"/>
                      <a:pt x="987" y="276"/>
                    </a:cubicBezTo>
                    <a:cubicBezTo>
                      <a:pt x="983" y="313"/>
                      <a:pt x="975" y="333"/>
                      <a:pt x="951" y="348"/>
                    </a:cubicBezTo>
                    <a:cubicBezTo>
                      <a:pt x="927" y="363"/>
                      <a:pt x="889" y="366"/>
                      <a:pt x="845" y="363"/>
                    </a:cubicBezTo>
                    <a:cubicBezTo>
                      <a:pt x="801" y="360"/>
                      <a:pt x="736" y="346"/>
                      <a:pt x="684" y="330"/>
                    </a:cubicBezTo>
                    <a:cubicBezTo>
                      <a:pt x="632" y="314"/>
                      <a:pt x="576" y="284"/>
                      <a:pt x="533" y="267"/>
                    </a:cubicBezTo>
                    <a:cubicBezTo>
                      <a:pt x="490" y="250"/>
                      <a:pt x="465" y="237"/>
                      <a:pt x="426" y="228"/>
                    </a:cubicBezTo>
                    <a:cubicBezTo>
                      <a:pt x="387" y="219"/>
                      <a:pt x="332" y="215"/>
                      <a:pt x="301" y="215"/>
                    </a:cubicBezTo>
                    <a:cubicBezTo>
                      <a:pt x="270" y="215"/>
                      <a:pt x="262" y="222"/>
                      <a:pt x="240" y="231"/>
                    </a:cubicBezTo>
                    <a:cubicBezTo>
                      <a:pt x="218" y="240"/>
                      <a:pt x="193" y="249"/>
                      <a:pt x="171" y="270"/>
                    </a:cubicBezTo>
                    <a:cubicBezTo>
                      <a:pt x="149" y="291"/>
                      <a:pt x="122" y="328"/>
                      <a:pt x="109" y="355"/>
                    </a:cubicBezTo>
                    <a:cubicBezTo>
                      <a:pt x="96" y="382"/>
                      <a:pt x="95" y="393"/>
                      <a:pt x="93" y="431"/>
                    </a:cubicBezTo>
                    <a:cubicBezTo>
                      <a:pt x="91" y="469"/>
                      <a:pt x="98" y="528"/>
                      <a:pt x="97" y="583"/>
                    </a:cubicBezTo>
                    <a:cubicBezTo>
                      <a:pt x="96" y="638"/>
                      <a:pt x="105" y="666"/>
                      <a:pt x="89" y="759"/>
                    </a:cubicBezTo>
                    <a:cubicBezTo>
                      <a:pt x="73" y="852"/>
                      <a:pt x="19" y="1063"/>
                      <a:pt x="0" y="1143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166760" y="2549160"/>
                <a:ext cx="1586160" cy="1887840"/>
              </a:xfrm>
              <a:custGeom>
                <a:avLst/>
                <a:gdLst/>
                <a:ahLst/>
                <a:rect l="l" t="t" r="r" b="b"/>
                <a:pathLst>
                  <a:path w="999" h="1189">
                    <a:moveTo>
                      <a:pt x="926" y="0"/>
                    </a:moveTo>
                    <a:cubicBezTo>
                      <a:pt x="944" y="55"/>
                      <a:pt x="960" y="110"/>
                      <a:pt x="971" y="158"/>
                    </a:cubicBezTo>
                    <a:cubicBezTo>
                      <a:pt x="982" y="206"/>
                      <a:pt x="999" y="245"/>
                      <a:pt x="993" y="289"/>
                    </a:cubicBezTo>
                    <a:cubicBezTo>
                      <a:pt x="987" y="333"/>
                      <a:pt x="968" y="396"/>
                      <a:pt x="936" y="424"/>
                    </a:cubicBezTo>
                    <a:cubicBezTo>
                      <a:pt x="904" y="452"/>
                      <a:pt x="852" y="454"/>
                      <a:pt x="803" y="458"/>
                    </a:cubicBezTo>
                    <a:cubicBezTo>
                      <a:pt x="754" y="462"/>
                      <a:pt x="694" y="461"/>
                      <a:pt x="639" y="448"/>
                    </a:cubicBezTo>
                    <a:cubicBezTo>
                      <a:pt x="584" y="435"/>
                      <a:pt x="531" y="404"/>
                      <a:pt x="471" y="382"/>
                    </a:cubicBezTo>
                    <a:cubicBezTo>
                      <a:pt x="411" y="360"/>
                      <a:pt x="330" y="325"/>
                      <a:pt x="282" y="316"/>
                    </a:cubicBezTo>
                    <a:cubicBezTo>
                      <a:pt x="234" y="307"/>
                      <a:pt x="208" y="318"/>
                      <a:pt x="183" y="325"/>
                    </a:cubicBezTo>
                    <a:cubicBezTo>
                      <a:pt x="158" y="332"/>
                      <a:pt x="145" y="344"/>
                      <a:pt x="132" y="361"/>
                    </a:cubicBezTo>
                    <a:cubicBezTo>
                      <a:pt x="119" y="378"/>
                      <a:pt x="110" y="397"/>
                      <a:pt x="105" y="427"/>
                    </a:cubicBezTo>
                    <a:cubicBezTo>
                      <a:pt x="100" y="457"/>
                      <a:pt x="103" y="492"/>
                      <a:pt x="99" y="541"/>
                    </a:cubicBezTo>
                    <a:cubicBezTo>
                      <a:pt x="95" y="590"/>
                      <a:pt x="88" y="664"/>
                      <a:pt x="83" y="718"/>
                    </a:cubicBezTo>
                    <a:cubicBezTo>
                      <a:pt x="78" y="772"/>
                      <a:pt x="81" y="788"/>
                      <a:pt x="67" y="866"/>
                    </a:cubicBezTo>
                    <a:cubicBezTo>
                      <a:pt x="53" y="944"/>
                      <a:pt x="14" y="1122"/>
                      <a:pt x="0" y="1189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 rot="4684800">
              <a:off x="1228680" y="4392000"/>
              <a:ext cx="431640" cy="648000"/>
            </a:xfrm>
            <a:custGeom>
              <a:avLst/>
              <a:gdLst>
                <a:gd name="textAreaLeft" fmla="*/ 57600 w 431640"/>
                <a:gd name="textAreaRight" fmla="*/ 374040 w 431640"/>
                <a:gd name="textAreaTop" fmla="*/ 113400 h 648000"/>
                <a:gd name="textAreaBottom" fmla="*/ 469800 h 64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rot="18721200">
              <a:off x="430560" y="4195440"/>
              <a:ext cx="431640" cy="647640"/>
            </a:xfrm>
            <a:custGeom>
              <a:avLst/>
              <a:gdLst>
                <a:gd name="textAreaLeft" fmla="*/ 57600 w 431640"/>
                <a:gd name="textAreaRight" fmla="*/ 374040 w 431640"/>
                <a:gd name="textAreaTop" fmla="*/ 113400 h 647640"/>
                <a:gd name="textAreaBottom" fmla="*/ 46980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 rot="20059800">
            <a:off x="2223720" y="1988640"/>
            <a:ext cx="7308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774720" y="1992240"/>
            <a:ext cx="8244000" cy="5162400"/>
            <a:chOff x="774720" y="1992240"/>
            <a:chExt cx="8244000" cy="5162400"/>
          </a:xfrm>
        </p:grpSpPr>
        <p:sp>
          <p:nvSpPr>
            <p:cNvPr id="175" name=""/>
            <p:cNvSpPr/>
            <p:nvPr/>
          </p:nvSpPr>
          <p:spPr>
            <a:xfrm>
              <a:off x="4591080" y="4464000"/>
              <a:ext cx="4427640" cy="269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361800"/>
                  <a:tab algn="l" pos="723960"/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Intralumi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361800"/>
                  <a:tab algn="l" pos="723960"/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Innerhalb des Katheters dringen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Keime in die Blase vo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361800"/>
                  <a:tab algn="l" pos="723960"/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- Übertragung im Zuge von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Diskonnektionen, Spülungen etc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361800"/>
                  <a:tab algn="l" pos="723960"/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- Durch Hygiene vermeidb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79480" y="588168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80920" y="608328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85960" y="567828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82720" y="547524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79480" y="528156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85960" y="506880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915840" y="485604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955800" y="467208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19160" y="447840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69920" y="426240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33640" y="405936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168560" y="384156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03480" y="364320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00240" y="344016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06360" y="320832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289160" y="303372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460520" y="295740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695600" y="300204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882800" y="309384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98800" y="316692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333520" y="320184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521080" y="316080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12880" y="299556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610000" y="278280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11360" y="257004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270160" y="216684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181240" y="199224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74720" y="6335640"/>
              <a:ext cx="358920" cy="360360"/>
            </a:xfrm>
            <a:prstGeom prst="upArrow">
              <a:avLst>
                <a:gd name="adj1" fmla="val 50000"/>
                <a:gd name="adj2" fmla="val 2510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ositionen und Risiken bei Harndrain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8360" y="1268280"/>
            <a:ext cx="8507520" cy="48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sondere Gefährdung fü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rau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äuglinge und alte Mensc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munsuprimiert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fährdung nimmt z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t der Dauer eines Klinikaufenthal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t der Liegedauer des Kathe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fektionsfördernde Fakto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geeignetes Mate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zureichende Asepsis beim Legen und Wechsel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skonnektion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stillation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arnstau bei liegendem Kathe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nipulationen am Ableitungs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äventionsstrategien bei Langzeitkath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1284120"/>
            <a:ext cx="85075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zicht bzw. Limitierung der transurethralen Drain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asishygi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wahl geeigneten Materi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septisches Einlegen des Kath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wendung und Beibehaltung eines geschlossenen Ableitungs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meidung von Harnstau und Rückflu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dizierter Wechsel von Katheter und Ableitungs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meidung von Keimübertragungen bei Manipulationen am Katheter und am Ableitungs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zicht auf obsolete Maßnah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1T08:41:23Z</dcterms:created>
  <dc:creator>Fam. Bergen</dc:creator>
  <dc:description/>
  <dc:language>en-US</dc:language>
  <cp:lastModifiedBy>peter.bergen</cp:lastModifiedBy>
  <dcterms:modified xsi:type="dcterms:W3CDTF">2012-02-16T15:35:42Z</dcterms:modified>
  <cp:revision>46</cp:revision>
  <dc:subject/>
  <dc:title>Kein Folientitel</dc:title>
</cp:coreProperties>
</file>